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94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</p:sldIdLst>
  <p:sldSz cx="8129588" cy="6094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Click to move the slid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Bodoni SvtyTwo ITC TT-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037A8-E911-44A8-82FC-AB8E03D41CA2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DAA41-3EBA-4499-BBD0-BCDE06FA4353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11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lnSpc>
                <a:spcPts val="11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lnSpc>
                <a:spcPts val="11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lnSpc>
                <a:spcPts val="11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lnSpc>
                <a:spcPts val="11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5404C-FC04-4F4A-A32A-3B6411108614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DAC54-1EDE-49CA-B4DE-25C29CE9D1E3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799DE-A653-43EE-9FF9-46F2BDB3C5E6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E9C34-0113-4629-9DD9-BBA8DF941272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CB0C-565A-4246-B080-E7B19E8B22C7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2655C-F5E0-40D5-AB59-1C90E50B7BAA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3447C-63D9-4427-A36B-E515F2E100FE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89B9D-979C-4BF1-8AD4-E3A30BD5EE0D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EA2D6-3D7B-4D5C-BE30-7385811A3B49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B735C-203B-4EE2-9335-F852A6325348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8A096-5C6B-49B7-B868-AAD7F4B50819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8CC07-E6ED-4AAB-A20C-5037D539FB32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2000B-2A9A-426C-BE11-A7D16F12B4E9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24FA9-1CDD-47F3-912A-694CC0237CCE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DCAC0-2B5C-4098-B65C-698C6EE28666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E0FA4-C831-4685-B65F-10ADE582C945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3386B-88E5-4260-A379-F4991A2D4C72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63850-6799-484E-B453-F13DE2754465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892DC-E100-4848-9A22-043680F66AFF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332A6-EE00-4463-A849-057491A41D54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84CEE-E513-44AD-AFB2-456E91960459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F7436-34D6-4EAC-91A6-0A792D4F51CF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A9671-95F7-48C0-903B-BF43E6B56C48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5BA42-0739-4C2F-A9A5-3FAC5165EC35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13E3F-7D8C-41D7-9FB5-230E3B8BAE13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C6FD0-394A-427A-A15F-AF7A1FCBA860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CA635-C964-47B9-9D42-3C6EC8EEC27D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F35CD-AA94-4C8C-A4AC-345280539297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C24D9-3C65-4668-A976-A2B71860661C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DC91F-8380-4B10-B0E7-C4F4CAE9C2AB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CC5D1-42D2-4F52-90FA-58438DD10E8D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9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CD700-0FE1-4471-9D2F-E5C0245D59BB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FE270-96DD-474E-A704-83D70CF2823A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6E97B-098C-4276-A742-7E947DDAB00B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9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E42AF-4DD6-4672-A025-C5F915DB037D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6FAC1-14D9-4297-865B-49A0CF2259D6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018B7-C366-46BC-96FD-936D163AE7C9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0ADC4-0850-415E-91B4-02CCAADAC250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9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DB2E1-6E46-4DEA-9FBF-6527DD07ABA1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C858C-F114-4F32-BF3C-88C854A1F79D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9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4A00-BDBF-4E3E-9942-38F11C20C42F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9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F527-C251-43B6-8D67-D3A0BC648883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9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C661F-15A5-47B2-9628-FE88A65F5AF3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5845F-EC78-4F5A-AC5A-E35D37CFCEF9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C1616-890F-47D3-AB96-5DEF9F417BFE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9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FD5A7-8365-4917-AB28-BF501581F776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9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0FE8F-4FD9-4172-B748-72CFAA462253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9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7BA9E-5C4C-4AD7-A616-693426AEE8AD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9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AAD26-F7DF-4B7F-A488-185A3EBB8B8A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E2887-0616-4034-B681-5ACD24AE78F8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9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EF1D7-188F-42F1-B9C1-3347124FAB7E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EBA4-79B9-4086-9B28-264263AE4B77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77525-935B-492F-B06C-406CF03B2D83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9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0E770-5152-49EC-A804-0AB2871A0B98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FD948-AC0F-47CF-8611-2B531D71A537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D5F1E-FB7F-432B-AC4C-7EFDEA741932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9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6983-585E-4D26-B35C-AB1070018D13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9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7A3F7-6B98-4128-A62F-AA63ACA91E51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9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B982A-A550-442D-8DB0-AC8FF7D66F16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9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56DB0-3FA1-40A0-B7D3-562F6656BD41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9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EF9A1-E5FE-49F7-AE1F-D94C8945C5EE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9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FBA6D-AC6D-4E73-BBB1-68D35F54ACBD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17356-50CC-48F5-8326-51729DB77544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9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B4F5D-F270-4A75-937D-84E6D4F5161F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9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8A799-0DCD-481D-BAE6-477C9319B5EC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9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79672-6868-4043-996D-E9176FB787C6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E7D42-903C-414A-B7F1-6EDD841A1D3C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9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1EE5E-AABA-499C-83B9-D7595E941447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33F0E-5C2F-416C-9A82-6AC68E78D1DC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8D9CC-6B40-47FE-B481-B682F15325E8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07272-62BA-4A8E-9196-55EBB8637002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43317-684E-4CA9-8BB2-46F5D0A518C2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CC447-B906-43DC-9F87-DB795445C64C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BACB4-ABE7-472F-A78E-18A8316B8B4D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2328D-F225-4105-83C0-795A80D66AF0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A9EA7-B9ED-42CC-A49B-E3042E46046B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B217A-1B13-4ED6-9B38-618C307EB986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09274-8701-4C6A-AE5D-FF78A6B96886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5B2BE-4823-4E03-A332-EB082B6A90EF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F5AEA-C9B7-4F93-866D-3DAE1FF27D9A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3D3B2-20EA-40E3-886B-7C9D240E17E3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54E04-28AB-4B2D-BC11-7145AE3B6E73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C9661-B3DE-46DB-8522-18516E092940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D84E0-CD99-449D-9053-0291BC85381E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CEFA-E608-4EA5-8DEF-2794D1581A13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84F76-F931-4E35-9E5E-8872E116CC0C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C4E1-2557-4E7B-A1E2-F353FB285139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2F588-B146-40CD-A327-597409B74258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5F24F-6CE1-4B2C-A4EE-DB1EA111DC70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D5F23-0803-4209-9114-322866FFB2A4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A561D-A69E-4C39-BC93-7394F6EAC112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28ADA-F30A-4BEF-95F6-ED706862DCC3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DCC02-7FF2-4A27-BA65-04789F6C1FC7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A1EFF-96F9-4075-95AA-639D357FB20B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F16A5-6E70-4DFB-9E02-375A9CC5AEBC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A494C-00D3-4DE4-837A-A788AFC96D17}" type="slidenum"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Type notes here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56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06440" y="1425960"/>
            <a:ext cx="731556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6440" y="3272400"/>
            <a:ext cx="731556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56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06440" y="1425960"/>
            <a:ext cx="356976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155120" y="1425960"/>
            <a:ext cx="356976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06440" y="3272400"/>
            <a:ext cx="356976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155120" y="3272400"/>
            <a:ext cx="356976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56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06440" y="1425960"/>
            <a:ext cx="235548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80000" y="1425960"/>
            <a:ext cx="235548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53560" y="1425960"/>
            <a:ext cx="235548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6440" y="3272400"/>
            <a:ext cx="235548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2880000" y="3272400"/>
            <a:ext cx="235548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5353560" y="3272400"/>
            <a:ext cx="235548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56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06440" y="1425960"/>
            <a:ext cx="7315560" cy="35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56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06440" y="1425960"/>
            <a:ext cx="7315560" cy="35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56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06440" y="1425960"/>
            <a:ext cx="3569760" cy="35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155120" y="1425960"/>
            <a:ext cx="3569760" cy="35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56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06440" y="243000"/>
            <a:ext cx="7315560" cy="47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56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06440" y="1425960"/>
            <a:ext cx="356976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55120" y="1425960"/>
            <a:ext cx="3569760" cy="35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06440" y="3272400"/>
            <a:ext cx="356976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56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06440" y="1425960"/>
            <a:ext cx="3569760" cy="35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155120" y="1425960"/>
            <a:ext cx="356976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155120" y="3272400"/>
            <a:ext cx="356976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56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06440" y="1425960"/>
            <a:ext cx="356976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55120" y="1425960"/>
            <a:ext cx="356976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06440" y="3272400"/>
            <a:ext cx="731556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image" Target="../media/image30.wmf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4.wmf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44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45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46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47" name="Text Box 5"/>
          <p:cNvSpPr/>
          <p:nvPr/>
        </p:nvSpPr>
        <p:spPr>
          <a:xfrm>
            <a:off x="723960" y="139680"/>
            <a:ext cx="7200720" cy="34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Bodoni SvtyTwo ITC TT-Book"/>
              </a:rPr>
              <a:t>THE</a:t>
            </a:r>
            <a:endParaRPr b="0" lang="en-US" sz="7600" spc="-1" strike="noStrike">
              <a:solidFill>
                <a:srgbClr val="000000"/>
              </a:solidFill>
              <a:latin typeface="Bodoni SvtyTwo ITC TT-Book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Bodoni SvtyTwo ITC TT-Book"/>
              </a:rPr>
              <a:t>GEOMETRY</a:t>
            </a:r>
            <a:endParaRPr b="0" lang="en-US" sz="7600" spc="-1" strike="noStrike">
              <a:solidFill>
                <a:srgbClr val="000000"/>
              </a:solidFill>
              <a:latin typeface="Bodoni SvtyTwo ITC TT-Book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Bodoni SvtyTwo ITC TT-Book"/>
              </a:rPr>
              <a:t>SOLs</a:t>
            </a:r>
            <a:endParaRPr b="0" lang="en-US" sz="7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1576440" y="5816520"/>
            <a:ext cx="5143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e arrow keys  </a:t>
            </a:r>
            <a:r>
              <a:rPr b="0" lang="en-US" sz="12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 3"/>
                <a:ea typeface="Wingdings 3"/>
              </a:rPr>
              <a:t>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to move forward or backward.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311560" y="3568680"/>
            <a:ext cx="40384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i="1" lang="en-US" sz="4500" spc="-1" strike="noStrike">
                <a:solidFill>
                  <a:srgbClr val="000000"/>
                </a:solidFill>
                <a:latin typeface="Bodoni SvtyTwo ITC TT-Book"/>
              </a:rPr>
              <a:t>( in review )</a:t>
            </a:r>
            <a:endParaRPr b="0" lang="en-US" sz="45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54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55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56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57" name="Text Box 5"/>
          <p:cNvSpPr/>
          <p:nvPr/>
        </p:nvSpPr>
        <p:spPr>
          <a:xfrm>
            <a:off x="476280" y="101520"/>
            <a:ext cx="325116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Formulas: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603360" y="1523880"/>
            <a:ext cx="223524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Slope</a:t>
            </a: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  </a:t>
            </a:r>
            <a:r>
              <a:rPr b="1" lang="en-US" sz="4900" spc="-1" strike="noStrike">
                <a:solidFill>
                  <a:srgbClr val="000000"/>
                </a:solidFill>
                <a:latin typeface="Bodoni SvtyTwo ITC TT-Book"/>
              </a:rPr>
              <a:t>=</a:t>
            </a:r>
            <a:r>
              <a:rPr b="0" lang="en-US" sz="4900" spc="-1" strike="noStrike">
                <a:solidFill>
                  <a:srgbClr val="000000"/>
                </a:solidFill>
                <a:latin typeface="Bodoni SvtyTwo ITC TT-Book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592200" y="3187800"/>
            <a:ext cx="3440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Midpoint</a:t>
            </a: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 </a:t>
            </a:r>
            <a:r>
              <a:rPr b="1" lang="en-US" sz="4900" spc="-1" strike="noStrike">
                <a:solidFill>
                  <a:srgbClr val="000000"/>
                </a:solidFill>
                <a:latin typeface="Bodoni SvtyTwo ITC TT-Book"/>
              </a:rPr>
              <a:t>=</a:t>
            </a: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558720" y="4840200"/>
            <a:ext cx="296568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Distance</a:t>
            </a: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 </a:t>
            </a:r>
            <a:r>
              <a:rPr b="1" lang="en-US" sz="4900" spc="-1" strike="noStrike">
                <a:solidFill>
                  <a:srgbClr val="000000"/>
                </a:solidFill>
                <a:latin typeface="Bodoni SvtyTwo ITC TT-Book"/>
              </a:rPr>
              <a:t>=</a:t>
            </a: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61" name="Line 9"/>
          <p:cNvSpPr/>
          <p:nvPr/>
        </p:nvSpPr>
        <p:spPr>
          <a:xfrm>
            <a:off x="577800" y="107964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3524400" y="63360"/>
            <a:ext cx="462276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Bodoni SvtyTwo ITC TT-Book"/>
              </a:rPr>
              <a:t>for two points</a:t>
            </a:r>
            <a:endParaRPr b="0" lang="en-US" sz="3000" spc="-1" strike="noStrike">
              <a:solidFill>
                <a:srgbClr val="000000"/>
              </a:solidFill>
              <a:latin typeface="Bodoni SvtyTwo ITC TT-Book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doni SvtyTwo ITC TT-Book"/>
              </a:rPr>
              <a:t>(X</a:t>
            </a:r>
            <a:r>
              <a:rPr b="0" lang="en-US" sz="4500" spc="-1" strike="noStrike" baseline="-33000">
                <a:solidFill>
                  <a:srgbClr val="000000"/>
                </a:solidFill>
                <a:latin typeface="Bodoni SvtyTwo ITC TT-Book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Bodoni SvtyTwo ITC TT-Book"/>
              </a:rPr>
              <a:t>  ,  Y</a:t>
            </a:r>
            <a:r>
              <a:rPr b="0" lang="en-US" sz="4500" spc="-1" strike="noStrike" baseline="-33000">
                <a:solidFill>
                  <a:srgbClr val="000000"/>
                </a:solidFill>
                <a:latin typeface="Bodoni SvtyTwo ITC TT-Book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Bodoni SvtyTwo ITC TT-Book"/>
              </a:rPr>
              <a:t>  )   </a:t>
            </a:r>
            <a:r>
              <a:rPr b="0" i="1" lang="en-US" sz="3000" spc="-1" strike="noStrike">
                <a:solidFill>
                  <a:srgbClr val="000000"/>
                </a:solidFill>
                <a:latin typeface="Bodoni SvtyTwo ITC TT-Book"/>
              </a:rPr>
              <a:t>and</a:t>
            </a:r>
            <a:r>
              <a:rPr b="0" lang="en-US" sz="3000" spc="-1" strike="noStrike">
                <a:solidFill>
                  <a:srgbClr val="000000"/>
                </a:solidFill>
                <a:latin typeface="Bodoni SvtyTwo ITC TT-Book"/>
              </a:rPr>
              <a:t>  ( X</a:t>
            </a:r>
            <a:r>
              <a:rPr b="0" lang="en-US" sz="4500" spc="-1" strike="noStrike" baseline="-33000">
                <a:solidFill>
                  <a:srgbClr val="000000"/>
                </a:solidFill>
                <a:latin typeface="Bodoni SvtyTwo ITC TT-Book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Bodoni SvtyTwo ITC TT-Book"/>
              </a:rPr>
              <a:t>  ,  Y</a:t>
            </a:r>
            <a:r>
              <a:rPr b="0" lang="en-US" sz="4500" spc="-1" strike="noStrike" baseline="-33000">
                <a:solidFill>
                  <a:srgbClr val="000000"/>
                </a:solidFill>
                <a:latin typeface="Bodoni SvtyTwo ITC TT-Book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Bodoni SvtyTwo ITC TT-Book"/>
              </a:rPr>
              <a:t>  )</a:t>
            </a:r>
            <a:endParaRPr b="0" lang="en-US" sz="3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163" name="Picture 11" descr=""/>
          <p:cNvPicPr/>
          <p:nvPr/>
        </p:nvPicPr>
        <p:blipFill>
          <a:blip r:embed="rId1"/>
          <a:stretch/>
        </p:blipFill>
        <p:spPr>
          <a:xfrm>
            <a:off x="3143160" y="1314360"/>
            <a:ext cx="1778040" cy="14097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2" descr=""/>
          <p:cNvPicPr/>
          <p:nvPr/>
        </p:nvPicPr>
        <p:blipFill>
          <a:blip r:embed="rId2"/>
          <a:stretch/>
        </p:blipFill>
        <p:spPr>
          <a:xfrm>
            <a:off x="3422520" y="2768760"/>
            <a:ext cx="4343400" cy="16761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3" descr=""/>
          <p:cNvPicPr/>
          <p:nvPr/>
        </p:nvPicPr>
        <p:blipFill>
          <a:blip r:embed="rId3"/>
          <a:stretch/>
        </p:blipFill>
        <p:spPr>
          <a:xfrm>
            <a:off x="3073320" y="4743360"/>
            <a:ext cx="4711680" cy="8445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67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68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69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70" name="Text Box 5"/>
          <p:cNvSpPr/>
          <p:nvPr/>
        </p:nvSpPr>
        <p:spPr>
          <a:xfrm>
            <a:off x="511200" y="-15840"/>
            <a:ext cx="765504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Parallel Lines and Angle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71" name="Line 6"/>
          <p:cNvSpPr/>
          <p:nvPr/>
        </p:nvSpPr>
        <p:spPr>
          <a:xfrm>
            <a:off x="574560" y="96192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172" name="Picture 7" descr=""/>
          <p:cNvPicPr/>
          <p:nvPr/>
        </p:nvPicPr>
        <p:blipFill>
          <a:blip r:embed="rId1"/>
          <a:stretch/>
        </p:blipFill>
        <p:spPr>
          <a:xfrm>
            <a:off x="1517760" y="1390680"/>
            <a:ext cx="5143320" cy="3949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74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75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76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77" name="Text Box 5"/>
          <p:cNvSpPr/>
          <p:nvPr/>
        </p:nvSpPr>
        <p:spPr>
          <a:xfrm>
            <a:off x="511200" y="-15840"/>
            <a:ext cx="765504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Parallel Lines and Angle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78" name="Line 6"/>
          <p:cNvSpPr/>
          <p:nvPr/>
        </p:nvSpPr>
        <p:spPr>
          <a:xfrm>
            <a:off x="574560" y="96192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179" name="Picture 7" descr=""/>
          <p:cNvPicPr/>
          <p:nvPr/>
        </p:nvPicPr>
        <p:blipFill>
          <a:blip r:embed="rId1"/>
          <a:stretch/>
        </p:blipFill>
        <p:spPr>
          <a:xfrm>
            <a:off x="3892680" y="2673360"/>
            <a:ext cx="4082760" cy="299088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8"/>
          <p:cNvSpPr/>
          <p:nvPr/>
        </p:nvSpPr>
        <p:spPr>
          <a:xfrm>
            <a:off x="116280" y="1447920"/>
            <a:ext cx="5749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Corresponding Angles are . . . 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82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83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84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85" name="Text Box 5"/>
          <p:cNvSpPr/>
          <p:nvPr/>
        </p:nvSpPr>
        <p:spPr>
          <a:xfrm>
            <a:off x="511200" y="-15840"/>
            <a:ext cx="765504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Parallel Lines and Angle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86" name="Line 6"/>
          <p:cNvSpPr/>
          <p:nvPr/>
        </p:nvSpPr>
        <p:spPr>
          <a:xfrm>
            <a:off x="574560" y="96192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187" name="Picture 7" descr=""/>
          <p:cNvPicPr/>
          <p:nvPr/>
        </p:nvPicPr>
        <p:blipFill>
          <a:blip r:embed="rId1"/>
          <a:stretch/>
        </p:blipFill>
        <p:spPr>
          <a:xfrm>
            <a:off x="3892680" y="2673360"/>
            <a:ext cx="4082760" cy="29908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8"/>
          <p:cNvSpPr/>
          <p:nvPr/>
        </p:nvSpPr>
        <p:spPr>
          <a:xfrm>
            <a:off x="116280" y="1447920"/>
            <a:ext cx="5749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Corresponding Angles are . . . 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189" name="Picture 9" descr=""/>
          <p:cNvPicPr/>
          <p:nvPr/>
        </p:nvPicPr>
        <p:blipFill>
          <a:blip r:embed="rId2"/>
          <a:stretch/>
        </p:blipFill>
        <p:spPr>
          <a:xfrm>
            <a:off x="5905440" y="977760"/>
            <a:ext cx="812880" cy="12448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91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92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93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94" name="Text Box 5"/>
          <p:cNvSpPr/>
          <p:nvPr/>
        </p:nvSpPr>
        <p:spPr>
          <a:xfrm>
            <a:off x="511200" y="-25560"/>
            <a:ext cx="765504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Parallel Lines and Angle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95" name="Line 6"/>
          <p:cNvSpPr/>
          <p:nvPr/>
        </p:nvSpPr>
        <p:spPr>
          <a:xfrm>
            <a:off x="574560" y="95256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196" name="Picture 7" descr=""/>
          <p:cNvPicPr/>
          <p:nvPr/>
        </p:nvPicPr>
        <p:blipFill>
          <a:blip r:embed="rId1"/>
          <a:stretch/>
        </p:blipFill>
        <p:spPr>
          <a:xfrm>
            <a:off x="3892680" y="2676600"/>
            <a:ext cx="4082760" cy="299088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8"/>
          <p:cNvSpPr/>
          <p:nvPr/>
        </p:nvSpPr>
        <p:spPr>
          <a:xfrm>
            <a:off x="116280" y="1450800"/>
            <a:ext cx="5749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Corresponding Angles are . . . 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198" name="Picture 9" descr=""/>
          <p:cNvPicPr/>
          <p:nvPr/>
        </p:nvPicPr>
        <p:blipFill>
          <a:blip r:embed="rId2"/>
          <a:stretch/>
        </p:blipFill>
        <p:spPr>
          <a:xfrm>
            <a:off x="5905440" y="981000"/>
            <a:ext cx="812880" cy="12445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0"/>
          <p:cNvSpPr/>
          <p:nvPr/>
        </p:nvSpPr>
        <p:spPr>
          <a:xfrm>
            <a:off x="765360" y="2365200"/>
            <a:ext cx="2584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doni SvtyTwo ITC TT-Book"/>
              </a:rPr>
              <a:t>Name them  !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0" name="Line 11"/>
          <p:cNvSpPr/>
          <p:nvPr/>
        </p:nvSpPr>
        <p:spPr>
          <a:xfrm>
            <a:off x="774720" y="34066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1" name="Line 12"/>
          <p:cNvSpPr/>
          <p:nvPr/>
        </p:nvSpPr>
        <p:spPr>
          <a:xfrm>
            <a:off x="736560" y="423216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2" name="Line 13"/>
          <p:cNvSpPr/>
          <p:nvPr/>
        </p:nvSpPr>
        <p:spPr>
          <a:xfrm>
            <a:off x="736560" y="491796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3" name="Line 14"/>
          <p:cNvSpPr/>
          <p:nvPr/>
        </p:nvSpPr>
        <p:spPr>
          <a:xfrm>
            <a:off x="723960" y="56545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205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206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207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208" name="Text Box 5"/>
          <p:cNvSpPr/>
          <p:nvPr/>
        </p:nvSpPr>
        <p:spPr>
          <a:xfrm>
            <a:off x="511200" y="-15840"/>
            <a:ext cx="765504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Parallel Lines and Angle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9" name="Line 6"/>
          <p:cNvSpPr/>
          <p:nvPr/>
        </p:nvSpPr>
        <p:spPr>
          <a:xfrm>
            <a:off x="574560" y="96192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210" name="Picture 7" descr=""/>
          <p:cNvPicPr/>
          <p:nvPr/>
        </p:nvPicPr>
        <p:blipFill>
          <a:blip r:embed="rId1"/>
          <a:stretch/>
        </p:blipFill>
        <p:spPr>
          <a:xfrm>
            <a:off x="3892680" y="2673360"/>
            <a:ext cx="4082760" cy="299088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8"/>
          <p:cNvSpPr/>
          <p:nvPr/>
        </p:nvSpPr>
        <p:spPr>
          <a:xfrm>
            <a:off x="116280" y="1447920"/>
            <a:ext cx="5749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Corresponding Angles are . . . 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212" name="Picture 9" descr=""/>
          <p:cNvPicPr/>
          <p:nvPr/>
        </p:nvPicPr>
        <p:blipFill>
          <a:blip r:embed="rId2"/>
          <a:stretch/>
        </p:blipFill>
        <p:spPr>
          <a:xfrm>
            <a:off x="5905440" y="977760"/>
            <a:ext cx="812880" cy="124488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10"/>
          <p:cNvSpPr/>
          <p:nvPr/>
        </p:nvSpPr>
        <p:spPr>
          <a:xfrm>
            <a:off x="765360" y="2362320"/>
            <a:ext cx="2584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doni SvtyTwo ITC TT-Book"/>
              </a:rPr>
              <a:t>Name them  !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14" name="Line 11"/>
          <p:cNvSpPr/>
          <p:nvPr/>
        </p:nvSpPr>
        <p:spPr>
          <a:xfrm>
            <a:off x="774720" y="340344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15" name="Line 12"/>
          <p:cNvSpPr/>
          <p:nvPr/>
        </p:nvSpPr>
        <p:spPr>
          <a:xfrm>
            <a:off x="736560" y="42292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16" name="Line 13"/>
          <p:cNvSpPr/>
          <p:nvPr/>
        </p:nvSpPr>
        <p:spPr>
          <a:xfrm>
            <a:off x="736560" y="49150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17" name="Line 14"/>
          <p:cNvSpPr/>
          <p:nvPr/>
        </p:nvSpPr>
        <p:spPr>
          <a:xfrm>
            <a:off x="723960" y="565164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218" name="Picture 15" descr=""/>
          <p:cNvPicPr/>
          <p:nvPr/>
        </p:nvPicPr>
        <p:blipFill>
          <a:blip r:embed="rId3"/>
          <a:stretch/>
        </p:blipFill>
        <p:spPr>
          <a:xfrm>
            <a:off x="1193760" y="2946240"/>
            <a:ext cx="2438280" cy="787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6" descr=""/>
          <p:cNvPicPr/>
          <p:nvPr/>
        </p:nvPicPr>
        <p:blipFill>
          <a:blip r:embed="rId4"/>
          <a:stretch/>
        </p:blipFill>
        <p:spPr>
          <a:xfrm>
            <a:off x="1143000" y="3746520"/>
            <a:ext cx="2438280" cy="7873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7" descr=""/>
          <p:cNvPicPr/>
          <p:nvPr/>
        </p:nvPicPr>
        <p:blipFill>
          <a:blip r:embed="rId5"/>
          <a:stretch/>
        </p:blipFill>
        <p:spPr>
          <a:xfrm>
            <a:off x="1104840" y="4495680"/>
            <a:ext cx="2438640" cy="7876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8" descr=""/>
          <p:cNvPicPr/>
          <p:nvPr/>
        </p:nvPicPr>
        <p:blipFill>
          <a:blip r:embed="rId6"/>
          <a:stretch/>
        </p:blipFill>
        <p:spPr>
          <a:xfrm>
            <a:off x="1092240" y="5219640"/>
            <a:ext cx="2438280" cy="787320"/>
          </a:xfrm>
          <a:prstGeom prst="rect">
            <a:avLst/>
          </a:prstGeom>
          <a:ln w="0">
            <a:noFill/>
          </a:ln>
        </p:spPr>
      </p:pic>
      <p:sp>
        <p:nvSpPr>
          <p:cNvPr id="222" name="Freeform 19"/>
          <p:cNvSpPr/>
          <p:nvPr/>
        </p:nvSpPr>
        <p:spPr>
          <a:xfrm>
            <a:off x="5600880" y="2870280"/>
            <a:ext cx="888840" cy="5587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10000" y="10000"/>
                </a:moveTo>
                <a:lnTo>
                  <a:pt x="0" y="10000"/>
                </a:lnTo>
                <a:lnTo>
                  <a:pt x="0" y="10000"/>
                </a:lnTo>
                <a:cubicBezTo>
                  <a:pt x="0" y="4477"/>
                  <a:pt x="4477" y="0"/>
                  <a:pt x="10000" y="0"/>
                </a:cubicBezTo>
                <a:lnTo>
                  <a:pt x="10000" y="10000"/>
                </a:lnTo>
                <a:close/>
                <a:moveTo>
                  <a:pt x="10000" y="10000"/>
                </a:moveTo>
              </a:path>
            </a:pathLst>
          </a:custGeom>
          <a:noFill/>
          <a:ln w="38160">
            <a:solidFill>
              <a:srgbClr val="e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23" name="Freeform 20"/>
          <p:cNvSpPr/>
          <p:nvPr/>
        </p:nvSpPr>
        <p:spPr>
          <a:xfrm>
            <a:off x="4876920" y="4280040"/>
            <a:ext cx="888840" cy="5587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10000" y="10000"/>
                </a:moveTo>
                <a:lnTo>
                  <a:pt x="0" y="10000"/>
                </a:lnTo>
                <a:lnTo>
                  <a:pt x="0" y="10000"/>
                </a:lnTo>
                <a:cubicBezTo>
                  <a:pt x="0" y="4477"/>
                  <a:pt x="4477" y="0"/>
                  <a:pt x="10000" y="0"/>
                </a:cubicBezTo>
                <a:lnTo>
                  <a:pt x="10000" y="10000"/>
                </a:lnTo>
                <a:close/>
                <a:moveTo>
                  <a:pt x="10000" y="10000"/>
                </a:moveTo>
              </a:path>
            </a:pathLst>
          </a:custGeom>
          <a:noFill/>
          <a:ln w="38160">
            <a:solidFill>
              <a:srgbClr val="e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225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226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227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228" name="Text Box 5"/>
          <p:cNvSpPr/>
          <p:nvPr/>
        </p:nvSpPr>
        <p:spPr>
          <a:xfrm>
            <a:off x="511200" y="-15840"/>
            <a:ext cx="765504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Parallel Lines and Angle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29" name="Line 6"/>
          <p:cNvSpPr/>
          <p:nvPr/>
        </p:nvSpPr>
        <p:spPr>
          <a:xfrm>
            <a:off x="574560" y="96192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1"/>
          <a:stretch/>
        </p:blipFill>
        <p:spPr>
          <a:xfrm>
            <a:off x="3892680" y="2673360"/>
            <a:ext cx="4082760" cy="299088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8"/>
          <p:cNvSpPr/>
          <p:nvPr/>
        </p:nvSpPr>
        <p:spPr>
          <a:xfrm>
            <a:off x="59760" y="1447920"/>
            <a:ext cx="6204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Alternate Interior Angles are . . . 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233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234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235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236" name="Text Box 5"/>
          <p:cNvSpPr/>
          <p:nvPr/>
        </p:nvSpPr>
        <p:spPr>
          <a:xfrm>
            <a:off x="511200" y="-15840"/>
            <a:ext cx="765504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Parallel Lines and Angle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37" name="Line 6"/>
          <p:cNvSpPr/>
          <p:nvPr/>
        </p:nvSpPr>
        <p:spPr>
          <a:xfrm>
            <a:off x="574560" y="96192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238" name="Picture 7" descr=""/>
          <p:cNvPicPr/>
          <p:nvPr/>
        </p:nvPicPr>
        <p:blipFill>
          <a:blip r:embed="rId1"/>
          <a:stretch/>
        </p:blipFill>
        <p:spPr>
          <a:xfrm>
            <a:off x="3892680" y="2673360"/>
            <a:ext cx="4082760" cy="299088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8"/>
          <p:cNvSpPr/>
          <p:nvPr/>
        </p:nvSpPr>
        <p:spPr>
          <a:xfrm>
            <a:off x="59760" y="1447920"/>
            <a:ext cx="6204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Alternate Interior Angles are . . . 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240" name="Picture 9" descr=""/>
          <p:cNvPicPr/>
          <p:nvPr/>
        </p:nvPicPr>
        <p:blipFill>
          <a:blip r:embed="rId2"/>
          <a:stretch/>
        </p:blipFill>
        <p:spPr>
          <a:xfrm>
            <a:off x="5905440" y="977760"/>
            <a:ext cx="812880" cy="12448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242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243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244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245" name="Text Box 5"/>
          <p:cNvSpPr/>
          <p:nvPr/>
        </p:nvSpPr>
        <p:spPr>
          <a:xfrm>
            <a:off x="511200" y="-15840"/>
            <a:ext cx="765504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Parallel Lines and Angle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46" name="Line 6"/>
          <p:cNvSpPr/>
          <p:nvPr/>
        </p:nvSpPr>
        <p:spPr>
          <a:xfrm>
            <a:off x="574560" y="96192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247" name="Picture 7" descr=""/>
          <p:cNvPicPr/>
          <p:nvPr/>
        </p:nvPicPr>
        <p:blipFill>
          <a:blip r:embed="rId1"/>
          <a:stretch/>
        </p:blipFill>
        <p:spPr>
          <a:xfrm>
            <a:off x="3892680" y="2673360"/>
            <a:ext cx="4082760" cy="299088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8"/>
          <p:cNvSpPr/>
          <p:nvPr/>
        </p:nvSpPr>
        <p:spPr>
          <a:xfrm>
            <a:off x="59760" y="1447920"/>
            <a:ext cx="6204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Alternate Interior Angles are . . . 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249" name="Picture 9" descr=""/>
          <p:cNvPicPr/>
          <p:nvPr/>
        </p:nvPicPr>
        <p:blipFill>
          <a:blip r:embed="rId2"/>
          <a:stretch/>
        </p:blipFill>
        <p:spPr>
          <a:xfrm>
            <a:off x="5905440" y="977760"/>
            <a:ext cx="812880" cy="124488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10"/>
          <p:cNvSpPr/>
          <p:nvPr/>
        </p:nvSpPr>
        <p:spPr>
          <a:xfrm>
            <a:off x="765360" y="2362320"/>
            <a:ext cx="2584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doni SvtyTwo ITC TT-Book"/>
              </a:rPr>
              <a:t>Name them  !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51" name="Line 11"/>
          <p:cNvSpPr/>
          <p:nvPr/>
        </p:nvSpPr>
        <p:spPr>
          <a:xfrm>
            <a:off x="774720" y="340344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52" name="Line 12"/>
          <p:cNvSpPr/>
          <p:nvPr/>
        </p:nvSpPr>
        <p:spPr>
          <a:xfrm>
            <a:off x="736560" y="42292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254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255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256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257" name="Text Box 5"/>
          <p:cNvSpPr/>
          <p:nvPr/>
        </p:nvSpPr>
        <p:spPr>
          <a:xfrm>
            <a:off x="511200" y="-15840"/>
            <a:ext cx="765504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Parallel Lines and Angle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58" name="Line 6"/>
          <p:cNvSpPr/>
          <p:nvPr/>
        </p:nvSpPr>
        <p:spPr>
          <a:xfrm>
            <a:off x="574560" y="96192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259" name="Picture 7" descr=""/>
          <p:cNvPicPr/>
          <p:nvPr/>
        </p:nvPicPr>
        <p:blipFill>
          <a:blip r:embed="rId1"/>
          <a:stretch/>
        </p:blipFill>
        <p:spPr>
          <a:xfrm>
            <a:off x="3892680" y="2673360"/>
            <a:ext cx="4082760" cy="299088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8"/>
          <p:cNvSpPr/>
          <p:nvPr/>
        </p:nvSpPr>
        <p:spPr>
          <a:xfrm>
            <a:off x="59760" y="1447920"/>
            <a:ext cx="6204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Alternate Interior Angles are . . . 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261" name="Picture 9" descr=""/>
          <p:cNvPicPr/>
          <p:nvPr/>
        </p:nvPicPr>
        <p:blipFill>
          <a:blip r:embed="rId2"/>
          <a:stretch/>
        </p:blipFill>
        <p:spPr>
          <a:xfrm>
            <a:off x="5905440" y="977760"/>
            <a:ext cx="812880" cy="124488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10"/>
          <p:cNvSpPr/>
          <p:nvPr/>
        </p:nvSpPr>
        <p:spPr>
          <a:xfrm>
            <a:off x="765360" y="2362320"/>
            <a:ext cx="2584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doni SvtyTwo ITC TT-Book"/>
              </a:rPr>
              <a:t>Name them  !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63" name="Line 11"/>
          <p:cNvSpPr/>
          <p:nvPr/>
        </p:nvSpPr>
        <p:spPr>
          <a:xfrm>
            <a:off x="774720" y="340344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64" name="Line 12"/>
          <p:cNvSpPr/>
          <p:nvPr/>
        </p:nvSpPr>
        <p:spPr>
          <a:xfrm>
            <a:off x="736560" y="42292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265" name="Picture 13" descr=""/>
          <p:cNvPicPr/>
          <p:nvPr/>
        </p:nvPicPr>
        <p:blipFill>
          <a:blip r:embed="rId3"/>
          <a:stretch/>
        </p:blipFill>
        <p:spPr>
          <a:xfrm>
            <a:off x="1079640" y="2908440"/>
            <a:ext cx="2438280" cy="7873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4" descr=""/>
          <p:cNvPicPr/>
          <p:nvPr/>
        </p:nvPicPr>
        <p:blipFill>
          <a:blip r:embed="rId4"/>
          <a:stretch/>
        </p:blipFill>
        <p:spPr>
          <a:xfrm>
            <a:off x="1066680" y="3772080"/>
            <a:ext cx="2438640" cy="787320"/>
          </a:xfrm>
          <a:prstGeom prst="rect">
            <a:avLst/>
          </a:prstGeom>
          <a:ln w="0">
            <a:noFill/>
          </a:ln>
        </p:spPr>
      </p:pic>
      <p:sp>
        <p:nvSpPr>
          <p:cNvPr id="267" name="Freeform 15"/>
          <p:cNvSpPr/>
          <p:nvPr/>
        </p:nvSpPr>
        <p:spPr>
          <a:xfrm>
            <a:off x="5689440" y="4406760"/>
            <a:ext cx="381240" cy="4446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lnTo>
                  <a:pt x="0" y="0"/>
                </a:lnTo>
                <a:lnTo>
                  <a:pt x="0" y="0"/>
                </a:lnTo>
                <a:cubicBezTo>
                  <a:pt x="5522" y="0"/>
                  <a:pt x="10000" y="4477"/>
                  <a:pt x="10000" y="10000"/>
                </a:cubicBezTo>
                <a:lnTo>
                  <a:pt x="0" y="10000"/>
                </a:lnTo>
                <a:close/>
                <a:moveTo>
                  <a:pt x="0" y="10000"/>
                </a:moveTo>
              </a:path>
            </a:pathLst>
          </a:custGeom>
          <a:noFill/>
          <a:ln w="38160">
            <a:solidFill>
              <a:srgbClr val="e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68" name="Freeform 16"/>
          <p:cNvSpPr/>
          <p:nvPr/>
        </p:nvSpPr>
        <p:spPr>
          <a:xfrm rot="10800000">
            <a:off x="5447880" y="3454200"/>
            <a:ext cx="444600" cy="50796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lnTo>
                  <a:pt x="0" y="0"/>
                </a:lnTo>
                <a:lnTo>
                  <a:pt x="0" y="0"/>
                </a:lnTo>
                <a:cubicBezTo>
                  <a:pt x="5522" y="0"/>
                  <a:pt x="10000" y="4477"/>
                  <a:pt x="10000" y="10000"/>
                </a:cubicBezTo>
                <a:lnTo>
                  <a:pt x="0" y="10000"/>
                </a:lnTo>
                <a:close/>
                <a:moveTo>
                  <a:pt x="0" y="10000"/>
                </a:moveTo>
              </a:path>
            </a:pathLst>
          </a:custGeom>
          <a:noFill/>
          <a:ln w="38160">
            <a:solidFill>
              <a:srgbClr val="e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51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52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53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54" name="Text Box 5"/>
          <p:cNvSpPr/>
          <p:nvPr/>
        </p:nvSpPr>
        <p:spPr>
          <a:xfrm>
            <a:off x="1295280" y="165240"/>
            <a:ext cx="6413760" cy="22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Bodoni SvtyTwo ITC TT-Book"/>
              </a:rPr>
              <a:t>Conditional Statements</a:t>
            </a:r>
            <a:endParaRPr b="0" lang="en-US" sz="5000" spc="-1" strike="noStrike">
              <a:solidFill>
                <a:srgbClr val="000000"/>
              </a:solidFill>
              <a:latin typeface="Bodoni SvtyTwo ITC TT-Book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Bodoni SvtyTwo ITC TT-Book"/>
              </a:rPr>
              <a:t>  “ </a:t>
            </a:r>
            <a:r>
              <a:rPr b="0" lang="en-US" sz="5000" spc="-1" strike="noStrike">
                <a:solidFill>
                  <a:srgbClr val="000000"/>
                </a:solidFill>
                <a:latin typeface="Bodoni SvtyTwo ITC TT-Book"/>
              </a:rPr>
              <a:t>If    </a:t>
            </a:r>
            <a:r>
              <a:rPr b="0" lang="en-US" sz="5000" spc="-1" strike="noStrike">
                <a:solidFill>
                  <a:srgbClr val="000000"/>
                </a:solidFill>
                <a:latin typeface="Bradley Hand ITC TT-Bold"/>
              </a:rPr>
              <a:t>p</a:t>
            </a:r>
            <a:r>
              <a:rPr b="0" lang="en-US" sz="5000" spc="-1" strike="noStrike">
                <a:solidFill>
                  <a:srgbClr val="000000"/>
                </a:solidFill>
                <a:latin typeface="Bodoni SvtyTwo ITC TT-Book"/>
              </a:rPr>
              <a:t>    then   </a:t>
            </a:r>
            <a:r>
              <a:rPr b="0" lang="en-US" sz="5000" spc="-1" strike="noStrike">
                <a:solidFill>
                  <a:srgbClr val="000000"/>
                </a:solidFill>
                <a:latin typeface="Bradley Hand ITC TT-Bold"/>
              </a:rPr>
              <a:t>q</a:t>
            </a:r>
            <a:r>
              <a:rPr b="0" lang="en-US" sz="5000" spc="-1" strike="noStrike">
                <a:solidFill>
                  <a:srgbClr val="000000"/>
                </a:solidFill>
                <a:latin typeface="Bodoni SvtyTwo ITC TT-Book"/>
              </a:rPr>
              <a:t>. ”</a:t>
            </a:r>
            <a:endParaRPr b="0" lang="en-US" sz="5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635040" y="2019240"/>
            <a:ext cx="223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C</a:t>
            </a: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onverse: 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674640" y="2798640"/>
            <a:ext cx="22208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I</a:t>
            </a: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nverse: 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1714680" y="4457880"/>
            <a:ext cx="1942920" cy="15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Bodoni SvtyTwo ITC TT-Book"/>
              </a:rPr>
              <a:t>The </a:t>
            </a:r>
            <a:endParaRPr b="0" lang="en-US" sz="3300" spc="-1" strike="noStrike">
              <a:solidFill>
                <a:srgbClr val="000000"/>
              </a:solidFill>
              <a:latin typeface="Bodoni SvtyTwo ITC TT-Book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Bodoni SvtyTwo ITC TT-Book"/>
              </a:rPr>
              <a:t>Law of Syllogism </a:t>
            </a:r>
            <a:endParaRPr b="0" lang="en-US" sz="3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615960" y="3583080"/>
            <a:ext cx="296532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C</a:t>
            </a: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ontrapositive: 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4127400" y="4648320"/>
            <a:ext cx="7239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odoni SvtyTwo ITC TT-Book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60" name="Line 11"/>
          <p:cNvSpPr/>
          <p:nvPr/>
        </p:nvSpPr>
        <p:spPr>
          <a:xfrm>
            <a:off x="546120" y="439416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61" name="Line 12"/>
          <p:cNvSpPr/>
          <p:nvPr/>
        </p:nvSpPr>
        <p:spPr>
          <a:xfrm>
            <a:off x="571680" y="1841400"/>
            <a:ext cx="758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transition spd="med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270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271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272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273" name="Text Box 5"/>
          <p:cNvSpPr/>
          <p:nvPr/>
        </p:nvSpPr>
        <p:spPr>
          <a:xfrm>
            <a:off x="511200" y="-15840"/>
            <a:ext cx="765504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Parallel Lines and Angle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74" name="Line 6"/>
          <p:cNvSpPr/>
          <p:nvPr/>
        </p:nvSpPr>
        <p:spPr>
          <a:xfrm>
            <a:off x="574560" y="96192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275" name="Picture 7" descr=""/>
          <p:cNvPicPr/>
          <p:nvPr/>
        </p:nvPicPr>
        <p:blipFill>
          <a:blip r:embed="rId1"/>
          <a:stretch/>
        </p:blipFill>
        <p:spPr>
          <a:xfrm>
            <a:off x="3892680" y="2673360"/>
            <a:ext cx="4082760" cy="299088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8"/>
          <p:cNvSpPr/>
          <p:nvPr/>
        </p:nvSpPr>
        <p:spPr>
          <a:xfrm>
            <a:off x="26280" y="1447920"/>
            <a:ext cx="67550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Consecutive Interior Angles are . . . 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278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279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280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281" name="Text Box 5"/>
          <p:cNvSpPr/>
          <p:nvPr/>
        </p:nvSpPr>
        <p:spPr>
          <a:xfrm>
            <a:off x="511200" y="-15840"/>
            <a:ext cx="765504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Parallel Lines and Angle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82" name="Line 6"/>
          <p:cNvSpPr/>
          <p:nvPr/>
        </p:nvSpPr>
        <p:spPr>
          <a:xfrm>
            <a:off x="574560" y="96192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283" name="Picture 7" descr=""/>
          <p:cNvPicPr/>
          <p:nvPr/>
        </p:nvPicPr>
        <p:blipFill>
          <a:blip r:embed="rId1"/>
          <a:stretch/>
        </p:blipFill>
        <p:spPr>
          <a:xfrm>
            <a:off x="3892680" y="2673360"/>
            <a:ext cx="4082760" cy="299088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8"/>
          <p:cNvSpPr/>
          <p:nvPr/>
        </p:nvSpPr>
        <p:spPr>
          <a:xfrm>
            <a:off x="26280" y="1447920"/>
            <a:ext cx="67550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Consecutive Interior Angles are . . . 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85" name="Text Box 9"/>
          <p:cNvSpPr/>
          <p:nvPr/>
        </p:nvSpPr>
        <p:spPr>
          <a:xfrm rot="20400000">
            <a:off x="5661720" y="1560960"/>
            <a:ext cx="2303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Bodoni SvtyTwo ITC TT-Book"/>
              </a:rPr>
              <a:t>Supplementary</a:t>
            </a:r>
            <a:endParaRPr b="0" lang="en-US" sz="27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287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288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289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290" name="Text Box 5"/>
          <p:cNvSpPr/>
          <p:nvPr/>
        </p:nvSpPr>
        <p:spPr>
          <a:xfrm>
            <a:off x="511200" y="-15840"/>
            <a:ext cx="765504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Parallel Lines and Angle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91" name="Line 6"/>
          <p:cNvSpPr/>
          <p:nvPr/>
        </p:nvSpPr>
        <p:spPr>
          <a:xfrm>
            <a:off x="574560" y="96192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292" name="Picture 7" descr=""/>
          <p:cNvPicPr/>
          <p:nvPr/>
        </p:nvPicPr>
        <p:blipFill>
          <a:blip r:embed="rId1"/>
          <a:stretch/>
        </p:blipFill>
        <p:spPr>
          <a:xfrm>
            <a:off x="3892680" y="2673360"/>
            <a:ext cx="4082760" cy="299088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8"/>
          <p:cNvSpPr/>
          <p:nvPr/>
        </p:nvSpPr>
        <p:spPr>
          <a:xfrm>
            <a:off x="26280" y="1447920"/>
            <a:ext cx="67550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Consecutive Interior Angles are . . . 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94" name="Text Box 9"/>
          <p:cNvSpPr/>
          <p:nvPr/>
        </p:nvSpPr>
        <p:spPr>
          <a:xfrm>
            <a:off x="765360" y="2362320"/>
            <a:ext cx="2584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doni SvtyTwo ITC TT-Book"/>
              </a:rPr>
              <a:t>Name them  !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95" name="Line 10"/>
          <p:cNvSpPr/>
          <p:nvPr/>
        </p:nvSpPr>
        <p:spPr>
          <a:xfrm>
            <a:off x="774720" y="340344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96" name="Line 11"/>
          <p:cNvSpPr/>
          <p:nvPr/>
        </p:nvSpPr>
        <p:spPr>
          <a:xfrm>
            <a:off x="736560" y="42292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97" name="Text Box 12"/>
          <p:cNvSpPr/>
          <p:nvPr/>
        </p:nvSpPr>
        <p:spPr>
          <a:xfrm rot="20400000">
            <a:off x="5661720" y="1560960"/>
            <a:ext cx="2303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Bodoni SvtyTwo ITC TT-Book"/>
              </a:rPr>
              <a:t>Supplementary</a:t>
            </a:r>
            <a:endParaRPr b="0" lang="en-US" sz="27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299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300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301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302" name="Text Box 5"/>
          <p:cNvSpPr/>
          <p:nvPr/>
        </p:nvSpPr>
        <p:spPr>
          <a:xfrm>
            <a:off x="511200" y="-15840"/>
            <a:ext cx="765504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Parallel Lines and Angle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03" name="Line 6"/>
          <p:cNvSpPr/>
          <p:nvPr/>
        </p:nvSpPr>
        <p:spPr>
          <a:xfrm>
            <a:off x="574560" y="96192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304" name="Picture 7" descr=""/>
          <p:cNvPicPr/>
          <p:nvPr/>
        </p:nvPicPr>
        <p:blipFill>
          <a:blip r:embed="rId1"/>
          <a:stretch/>
        </p:blipFill>
        <p:spPr>
          <a:xfrm>
            <a:off x="3892680" y="2673360"/>
            <a:ext cx="4082760" cy="299088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8"/>
          <p:cNvSpPr/>
          <p:nvPr/>
        </p:nvSpPr>
        <p:spPr>
          <a:xfrm>
            <a:off x="26280" y="1447920"/>
            <a:ext cx="67550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Consecutive Interior Angles are . . . 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765360" y="2362320"/>
            <a:ext cx="2584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doni SvtyTwo ITC TT-Book"/>
              </a:rPr>
              <a:t>Name them  !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07" name="Line 10"/>
          <p:cNvSpPr/>
          <p:nvPr/>
        </p:nvSpPr>
        <p:spPr>
          <a:xfrm>
            <a:off x="774720" y="340344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08" name="Line 11"/>
          <p:cNvSpPr/>
          <p:nvPr/>
        </p:nvSpPr>
        <p:spPr>
          <a:xfrm>
            <a:off x="736560" y="42292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309" name="Picture 12" descr=""/>
          <p:cNvPicPr/>
          <p:nvPr/>
        </p:nvPicPr>
        <p:blipFill>
          <a:blip r:embed="rId2"/>
          <a:stretch/>
        </p:blipFill>
        <p:spPr>
          <a:xfrm>
            <a:off x="1079640" y="2921040"/>
            <a:ext cx="2438280" cy="787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3" descr=""/>
          <p:cNvPicPr/>
          <p:nvPr/>
        </p:nvPicPr>
        <p:blipFill>
          <a:blip r:embed="rId3"/>
          <a:stretch/>
        </p:blipFill>
        <p:spPr>
          <a:xfrm>
            <a:off x="1079640" y="3797280"/>
            <a:ext cx="2438280" cy="78732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14"/>
          <p:cNvSpPr/>
          <p:nvPr/>
        </p:nvSpPr>
        <p:spPr>
          <a:xfrm rot="20400000">
            <a:off x="5661720" y="1560960"/>
            <a:ext cx="2303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Bodoni SvtyTwo ITC TT-Book"/>
              </a:rPr>
              <a:t>Supplementary</a:t>
            </a:r>
            <a:endParaRPr b="0" lang="en-US" sz="27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12" name="Freeform 15"/>
          <p:cNvSpPr/>
          <p:nvPr/>
        </p:nvSpPr>
        <p:spPr>
          <a:xfrm>
            <a:off x="4889520" y="4317840"/>
            <a:ext cx="825480" cy="5400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10000" y="10000"/>
                </a:moveTo>
                <a:lnTo>
                  <a:pt x="0" y="10000"/>
                </a:lnTo>
                <a:lnTo>
                  <a:pt x="0" y="10000"/>
                </a:lnTo>
                <a:cubicBezTo>
                  <a:pt x="0" y="4477"/>
                  <a:pt x="4477" y="0"/>
                  <a:pt x="10000" y="0"/>
                </a:cubicBezTo>
                <a:lnTo>
                  <a:pt x="10000" y="10000"/>
                </a:lnTo>
                <a:close/>
                <a:moveTo>
                  <a:pt x="10000" y="10000"/>
                </a:moveTo>
              </a:path>
            </a:pathLst>
          </a:custGeom>
          <a:noFill/>
          <a:ln w="38160">
            <a:solidFill>
              <a:srgbClr val="e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13" name="Freeform 16"/>
          <p:cNvSpPr/>
          <p:nvPr/>
        </p:nvSpPr>
        <p:spPr>
          <a:xfrm rot="10800000">
            <a:off x="5422680" y="3454560"/>
            <a:ext cx="469800" cy="5587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lnTo>
                  <a:pt x="0" y="0"/>
                </a:lnTo>
                <a:lnTo>
                  <a:pt x="0" y="0"/>
                </a:lnTo>
                <a:cubicBezTo>
                  <a:pt x="5522" y="0"/>
                  <a:pt x="10000" y="4477"/>
                  <a:pt x="10000" y="10000"/>
                </a:cubicBezTo>
                <a:lnTo>
                  <a:pt x="0" y="10000"/>
                </a:lnTo>
                <a:close/>
                <a:moveTo>
                  <a:pt x="0" y="10000"/>
                </a:moveTo>
              </a:path>
            </a:pathLst>
          </a:custGeom>
          <a:noFill/>
          <a:ln w="38160">
            <a:solidFill>
              <a:srgbClr val="e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14" name="Freeform 17"/>
          <p:cNvSpPr/>
          <p:nvPr/>
        </p:nvSpPr>
        <p:spPr>
          <a:xfrm>
            <a:off x="4775040" y="4203720"/>
            <a:ext cx="1016280" cy="63504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10000" y="10000"/>
                </a:moveTo>
                <a:lnTo>
                  <a:pt x="0" y="10000"/>
                </a:lnTo>
                <a:lnTo>
                  <a:pt x="0" y="10000"/>
                </a:lnTo>
                <a:cubicBezTo>
                  <a:pt x="0" y="4477"/>
                  <a:pt x="4477" y="0"/>
                  <a:pt x="10000" y="0"/>
                </a:cubicBezTo>
                <a:lnTo>
                  <a:pt x="10000" y="10000"/>
                </a:lnTo>
                <a:close/>
                <a:moveTo>
                  <a:pt x="10000" y="10000"/>
                </a:moveTo>
              </a:path>
            </a:pathLst>
          </a:custGeom>
          <a:noFill/>
          <a:ln w="38160">
            <a:solidFill>
              <a:srgbClr val="e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316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317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318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319" name="Text Box 5"/>
          <p:cNvSpPr/>
          <p:nvPr/>
        </p:nvSpPr>
        <p:spPr>
          <a:xfrm>
            <a:off x="523800" y="1203480"/>
            <a:ext cx="765504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odoni SvtyTwo ITC TT-Book"/>
              </a:rPr>
              <a:t>Proving  </a:t>
            </a:r>
            <a:endParaRPr b="0" lang="en-US" sz="7200" spc="-1" strike="noStrike">
              <a:solidFill>
                <a:srgbClr val="000000"/>
              </a:solidFill>
              <a:latin typeface="Bodoni SvtyTwo ITC TT-Book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odoni SvtyTwo ITC TT-Book"/>
              </a:rPr>
              <a:t>∆</a:t>
            </a:r>
            <a:r>
              <a:rPr b="1" lang="en-US" sz="7200" spc="-1" strike="noStrike">
                <a:solidFill>
                  <a:srgbClr val="000000"/>
                </a:solidFill>
                <a:latin typeface="Bodoni SvtyTwo ITC TT-Book"/>
              </a:rPr>
              <a:t>s  </a:t>
            </a:r>
            <a:endParaRPr b="0" lang="en-US" sz="7200" spc="-1" strike="noStrike">
              <a:solidFill>
                <a:srgbClr val="000000"/>
              </a:solidFill>
              <a:latin typeface="Bodoni SvtyTwo ITC TT-Book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odoni SvtyTwo ITC TT-Book"/>
              </a:rPr>
              <a:t>Congruent</a:t>
            </a:r>
            <a:endParaRPr b="0" lang="en-US" sz="7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transition spd="med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321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322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323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324" name="Text Box 5"/>
          <p:cNvSpPr/>
          <p:nvPr/>
        </p:nvSpPr>
        <p:spPr>
          <a:xfrm>
            <a:off x="511200" y="-15840"/>
            <a:ext cx="765504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Proving  ∆s  Congruent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25" name="Line 6"/>
          <p:cNvSpPr/>
          <p:nvPr/>
        </p:nvSpPr>
        <p:spPr>
          <a:xfrm>
            <a:off x="574560" y="96192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26" name="Text Box 7"/>
          <p:cNvSpPr/>
          <p:nvPr/>
        </p:nvSpPr>
        <p:spPr>
          <a:xfrm>
            <a:off x="853560" y="1663560"/>
            <a:ext cx="11116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SSS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27" name="Text Box 8"/>
          <p:cNvSpPr/>
          <p:nvPr/>
        </p:nvSpPr>
        <p:spPr>
          <a:xfrm>
            <a:off x="855720" y="2476440"/>
            <a:ext cx="11710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SAS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28" name="Text Box 9"/>
          <p:cNvSpPr/>
          <p:nvPr/>
        </p:nvSpPr>
        <p:spPr>
          <a:xfrm>
            <a:off x="622440" y="990720"/>
            <a:ext cx="74548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Bodoni SvtyTwo ITC TT-Book"/>
              </a:rPr>
              <a:t>Choose a Method to Prove:</a:t>
            </a:r>
            <a:endParaRPr b="0" lang="en-US" sz="4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29" name="Text Box 10"/>
          <p:cNvSpPr/>
          <p:nvPr/>
        </p:nvSpPr>
        <p:spPr>
          <a:xfrm>
            <a:off x="864000" y="3289320"/>
            <a:ext cx="12304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ASA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30" name="Text Box 11"/>
          <p:cNvSpPr/>
          <p:nvPr/>
        </p:nvSpPr>
        <p:spPr>
          <a:xfrm>
            <a:off x="864000" y="4178160"/>
            <a:ext cx="12304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AAS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31" name="Text Box 12"/>
          <p:cNvSpPr/>
          <p:nvPr/>
        </p:nvSpPr>
        <p:spPr>
          <a:xfrm>
            <a:off x="906120" y="5029200"/>
            <a:ext cx="8542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HL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32" name="Text Box 13"/>
          <p:cNvSpPr/>
          <p:nvPr/>
        </p:nvSpPr>
        <p:spPr>
          <a:xfrm>
            <a:off x="3314880" y="1650960"/>
            <a:ext cx="38988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doni SvtyTwo ITC TT-Book"/>
              </a:rPr>
              <a:t>∆</a:t>
            </a:r>
            <a:r>
              <a:rPr b="0" lang="en-US" sz="4400" spc="-1" strike="noStrike">
                <a:solidFill>
                  <a:srgbClr val="000000"/>
                </a:solidFill>
                <a:latin typeface="Bodoni SvtyTwo ITC TT-Book"/>
              </a:rPr>
              <a:t>ABD        ∆CDB</a:t>
            </a:r>
            <a:endParaRPr b="0" lang="en-US" sz="4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333" name="Picture 14" descr=""/>
          <p:cNvPicPr/>
          <p:nvPr/>
        </p:nvPicPr>
        <p:blipFill>
          <a:blip r:embed="rId1"/>
          <a:stretch/>
        </p:blipFill>
        <p:spPr>
          <a:xfrm>
            <a:off x="4800600" y="1231920"/>
            <a:ext cx="812880" cy="1244520"/>
          </a:xfrm>
          <a:prstGeom prst="rect">
            <a:avLst/>
          </a:prstGeom>
          <a:ln w="0">
            <a:noFill/>
          </a:ln>
        </p:spPr>
      </p:pic>
      <p:grpSp>
        <p:nvGrpSpPr>
          <p:cNvPr id="334" name="Group 15"/>
          <p:cNvGrpSpPr/>
          <p:nvPr/>
        </p:nvGrpSpPr>
        <p:grpSpPr>
          <a:xfrm>
            <a:off x="2635200" y="2495520"/>
            <a:ext cx="4940280" cy="3060720"/>
            <a:chOff x="2635200" y="2495520"/>
            <a:chExt cx="4940280" cy="3060720"/>
          </a:xfrm>
        </p:grpSpPr>
        <p:pic>
          <p:nvPicPr>
            <p:cNvPr id="335" name="Picture 16" descr=""/>
            <p:cNvPicPr/>
            <p:nvPr/>
          </p:nvPicPr>
          <p:blipFill>
            <a:blip r:embed="rId2"/>
            <a:stretch/>
          </p:blipFill>
          <p:spPr>
            <a:xfrm>
              <a:off x="2635200" y="2495520"/>
              <a:ext cx="4940280" cy="30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Line 17"/>
            <p:cNvSpPr/>
            <p:nvPr/>
          </p:nvSpPr>
          <p:spPr>
            <a:xfrm>
              <a:off x="3352680" y="3899160"/>
              <a:ext cx="355680" cy="215640"/>
            </a:xfrm>
            <a:prstGeom prst="line">
              <a:avLst/>
            </a:prstGeom>
            <a:ln w="38160">
              <a:solidFill>
                <a:srgbClr val="e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337" name="Line 18"/>
            <p:cNvSpPr/>
            <p:nvPr/>
          </p:nvSpPr>
          <p:spPr>
            <a:xfrm>
              <a:off x="6591240" y="3886200"/>
              <a:ext cx="355680" cy="216000"/>
            </a:xfrm>
            <a:prstGeom prst="line">
              <a:avLst/>
            </a:prstGeom>
            <a:ln w="38160">
              <a:solidFill>
                <a:srgbClr val="e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338" name="Line 19"/>
            <p:cNvSpPr/>
            <p:nvPr/>
          </p:nvSpPr>
          <p:spPr>
            <a:xfrm>
              <a:off x="5384880" y="3035520"/>
              <a:ext cx="0" cy="330120"/>
            </a:xfrm>
            <a:prstGeom prst="line">
              <a:avLst/>
            </a:prstGeom>
            <a:ln w="38160">
              <a:solidFill>
                <a:srgbClr val="e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339" name="Line 20"/>
            <p:cNvSpPr/>
            <p:nvPr/>
          </p:nvSpPr>
          <p:spPr>
            <a:xfrm>
              <a:off x="5511600" y="3035520"/>
              <a:ext cx="0" cy="330120"/>
            </a:xfrm>
            <a:prstGeom prst="line">
              <a:avLst/>
            </a:prstGeom>
            <a:ln w="38160">
              <a:solidFill>
                <a:srgbClr val="e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340" name="Line 21"/>
            <p:cNvSpPr/>
            <p:nvPr/>
          </p:nvSpPr>
          <p:spPr>
            <a:xfrm>
              <a:off x="4279680" y="4622760"/>
              <a:ext cx="0" cy="330480"/>
            </a:xfrm>
            <a:prstGeom prst="line">
              <a:avLst/>
            </a:prstGeom>
            <a:ln w="38160">
              <a:solidFill>
                <a:srgbClr val="e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341" name="Line 22"/>
            <p:cNvSpPr/>
            <p:nvPr/>
          </p:nvSpPr>
          <p:spPr>
            <a:xfrm>
              <a:off x="4406760" y="4622760"/>
              <a:ext cx="0" cy="330480"/>
            </a:xfrm>
            <a:prstGeom prst="line">
              <a:avLst/>
            </a:prstGeom>
            <a:ln w="38160">
              <a:solidFill>
                <a:srgbClr val="e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</p:grpSp>
    </p:spTree>
  </p:cSld>
  <p:transition spd="med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343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344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345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346" name="Text Box 5"/>
          <p:cNvSpPr/>
          <p:nvPr/>
        </p:nvSpPr>
        <p:spPr>
          <a:xfrm>
            <a:off x="511200" y="-15840"/>
            <a:ext cx="765504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Proving  ∆s  Congruent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47" name="Line 6"/>
          <p:cNvSpPr/>
          <p:nvPr/>
        </p:nvSpPr>
        <p:spPr>
          <a:xfrm>
            <a:off x="574560" y="96192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48" name="Text Box 7"/>
          <p:cNvSpPr/>
          <p:nvPr/>
        </p:nvSpPr>
        <p:spPr>
          <a:xfrm>
            <a:off x="853560" y="1663560"/>
            <a:ext cx="11116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SSS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49" name="Text Box 8"/>
          <p:cNvSpPr/>
          <p:nvPr/>
        </p:nvSpPr>
        <p:spPr>
          <a:xfrm>
            <a:off x="855720" y="2476440"/>
            <a:ext cx="11710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SAS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50" name="Text Box 9"/>
          <p:cNvSpPr/>
          <p:nvPr/>
        </p:nvSpPr>
        <p:spPr>
          <a:xfrm>
            <a:off x="622440" y="990720"/>
            <a:ext cx="74548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Bodoni SvtyTwo ITC TT-Book"/>
              </a:rPr>
              <a:t>Choose a Method to Prove:</a:t>
            </a:r>
            <a:endParaRPr b="0" lang="en-US" sz="4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51" name="Text Box 10"/>
          <p:cNvSpPr/>
          <p:nvPr/>
        </p:nvSpPr>
        <p:spPr>
          <a:xfrm>
            <a:off x="864000" y="3289320"/>
            <a:ext cx="12304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ASA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52" name="Text Box 11"/>
          <p:cNvSpPr/>
          <p:nvPr/>
        </p:nvSpPr>
        <p:spPr>
          <a:xfrm>
            <a:off x="864000" y="4178160"/>
            <a:ext cx="12304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AAS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53" name="Text Box 12"/>
          <p:cNvSpPr/>
          <p:nvPr/>
        </p:nvSpPr>
        <p:spPr>
          <a:xfrm>
            <a:off x="906120" y="5029200"/>
            <a:ext cx="8542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HL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54" name="Text Box 13"/>
          <p:cNvSpPr/>
          <p:nvPr/>
        </p:nvSpPr>
        <p:spPr>
          <a:xfrm>
            <a:off x="3314880" y="1650960"/>
            <a:ext cx="38988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doni SvtyTwo ITC TT-Book"/>
              </a:rPr>
              <a:t>∆</a:t>
            </a:r>
            <a:r>
              <a:rPr b="0" lang="en-US" sz="4400" spc="-1" strike="noStrike">
                <a:solidFill>
                  <a:srgbClr val="000000"/>
                </a:solidFill>
                <a:latin typeface="Bodoni SvtyTwo ITC TT-Book"/>
              </a:rPr>
              <a:t>ABD        ∆CDB</a:t>
            </a:r>
            <a:endParaRPr b="0" lang="en-US" sz="4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355" name="Picture 14" descr=""/>
          <p:cNvPicPr/>
          <p:nvPr/>
        </p:nvPicPr>
        <p:blipFill>
          <a:blip r:embed="rId1"/>
          <a:stretch/>
        </p:blipFill>
        <p:spPr>
          <a:xfrm>
            <a:off x="4800600" y="1231920"/>
            <a:ext cx="812880" cy="1244520"/>
          </a:xfrm>
          <a:prstGeom prst="rect">
            <a:avLst/>
          </a:prstGeom>
          <a:ln w="0">
            <a:noFill/>
          </a:ln>
        </p:spPr>
      </p:pic>
      <p:grpSp>
        <p:nvGrpSpPr>
          <p:cNvPr id="356" name="Group 15"/>
          <p:cNvGrpSpPr/>
          <p:nvPr/>
        </p:nvGrpSpPr>
        <p:grpSpPr>
          <a:xfrm>
            <a:off x="2635200" y="2495520"/>
            <a:ext cx="4940280" cy="3060720"/>
            <a:chOff x="2635200" y="2495520"/>
            <a:chExt cx="4940280" cy="3060720"/>
          </a:xfrm>
        </p:grpSpPr>
        <p:pic>
          <p:nvPicPr>
            <p:cNvPr id="357" name="Picture 16" descr=""/>
            <p:cNvPicPr/>
            <p:nvPr/>
          </p:nvPicPr>
          <p:blipFill>
            <a:blip r:embed="rId2"/>
            <a:stretch/>
          </p:blipFill>
          <p:spPr>
            <a:xfrm>
              <a:off x="2635200" y="2495520"/>
              <a:ext cx="4940280" cy="30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Line 17"/>
            <p:cNvSpPr/>
            <p:nvPr/>
          </p:nvSpPr>
          <p:spPr>
            <a:xfrm>
              <a:off x="3352680" y="3899160"/>
              <a:ext cx="355680" cy="215640"/>
            </a:xfrm>
            <a:prstGeom prst="line">
              <a:avLst/>
            </a:prstGeom>
            <a:ln w="38160">
              <a:solidFill>
                <a:srgbClr val="e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359" name="Line 18"/>
            <p:cNvSpPr/>
            <p:nvPr/>
          </p:nvSpPr>
          <p:spPr>
            <a:xfrm>
              <a:off x="6591240" y="3886200"/>
              <a:ext cx="355680" cy="216000"/>
            </a:xfrm>
            <a:prstGeom prst="line">
              <a:avLst/>
            </a:prstGeom>
            <a:ln w="38160">
              <a:solidFill>
                <a:srgbClr val="e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360" name="Line 19"/>
            <p:cNvSpPr/>
            <p:nvPr/>
          </p:nvSpPr>
          <p:spPr>
            <a:xfrm>
              <a:off x="5384880" y="3035520"/>
              <a:ext cx="0" cy="330120"/>
            </a:xfrm>
            <a:prstGeom prst="line">
              <a:avLst/>
            </a:prstGeom>
            <a:ln w="38160">
              <a:solidFill>
                <a:srgbClr val="e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361" name="Line 20"/>
            <p:cNvSpPr/>
            <p:nvPr/>
          </p:nvSpPr>
          <p:spPr>
            <a:xfrm>
              <a:off x="5511600" y="3035520"/>
              <a:ext cx="0" cy="330120"/>
            </a:xfrm>
            <a:prstGeom prst="line">
              <a:avLst/>
            </a:prstGeom>
            <a:ln w="38160">
              <a:solidFill>
                <a:srgbClr val="e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362" name="Line 21"/>
            <p:cNvSpPr/>
            <p:nvPr/>
          </p:nvSpPr>
          <p:spPr>
            <a:xfrm>
              <a:off x="4279680" y="4622760"/>
              <a:ext cx="0" cy="330480"/>
            </a:xfrm>
            <a:prstGeom prst="line">
              <a:avLst/>
            </a:prstGeom>
            <a:ln w="38160">
              <a:solidFill>
                <a:srgbClr val="e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363" name="Line 22"/>
            <p:cNvSpPr/>
            <p:nvPr/>
          </p:nvSpPr>
          <p:spPr>
            <a:xfrm>
              <a:off x="4406760" y="4622760"/>
              <a:ext cx="0" cy="330480"/>
            </a:xfrm>
            <a:prstGeom prst="line">
              <a:avLst/>
            </a:prstGeom>
            <a:ln w="38160">
              <a:solidFill>
                <a:srgbClr val="e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</p:grpSp>
      <p:sp>
        <p:nvSpPr>
          <p:cNvPr id="364" name="Freeform 23"/>
          <p:cNvSpPr/>
          <p:nvPr/>
        </p:nvSpPr>
        <p:spPr>
          <a:xfrm>
            <a:off x="622440" y="1600200"/>
            <a:ext cx="1600200" cy="914400"/>
          </a:xfrm>
          <a:custGeom>
            <a:avLst/>
            <a:gdLst/>
            <a:ahLst/>
            <a:rect l="l" t="t" r="r" b="b"/>
            <a:pathLst>
              <a:path w="9111" h="9111">
                <a:moveTo>
                  <a:pt x="7777" y="1334"/>
                </a:moveTo>
                <a:cubicBezTo>
                  <a:pt x="9556" y="3113"/>
                  <a:pt x="9556" y="5998"/>
                  <a:pt x="7777" y="7777"/>
                </a:cubicBezTo>
                <a:cubicBezTo>
                  <a:pt x="5998" y="9556"/>
                  <a:pt x="3113" y="9556"/>
                  <a:pt x="1334" y="7777"/>
                </a:cubicBezTo>
                <a:cubicBezTo>
                  <a:pt x="-444" y="5998"/>
                  <a:pt x="-444" y="3113"/>
                  <a:pt x="1334" y="1334"/>
                </a:cubicBezTo>
                <a:cubicBezTo>
                  <a:pt x="3113" y="-444"/>
                  <a:pt x="5998" y="-444"/>
                  <a:pt x="7777" y="1334"/>
                </a:cubicBezTo>
              </a:path>
            </a:pathLst>
          </a:custGeom>
          <a:noFill/>
          <a:ln w="76320">
            <a:solidFill>
              <a:srgbClr val="0000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transition spd="med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366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367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368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369" name="Text Box 5"/>
          <p:cNvSpPr/>
          <p:nvPr/>
        </p:nvSpPr>
        <p:spPr>
          <a:xfrm>
            <a:off x="511200" y="-15840"/>
            <a:ext cx="765504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Proving  ∆s  Congruent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70" name="Line 6"/>
          <p:cNvSpPr/>
          <p:nvPr/>
        </p:nvSpPr>
        <p:spPr>
          <a:xfrm>
            <a:off x="574560" y="96192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71" name="Text Box 7"/>
          <p:cNvSpPr/>
          <p:nvPr/>
        </p:nvSpPr>
        <p:spPr>
          <a:xfrm>
            <a:off x="853560" y="1663560"/>
            <a:ext cx="11116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SSS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72" name="Text Box 8"/>
          <p:cNvSpPr/>
          <p:nvPr/>
        </p:nvSpPr>
        <p:spPr>
          <a:xfrm>
            <a:off x="855720" y="2476440"/>
            <a:ext cx="11710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SAS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73" name="Text Box 9"/>
          <p:cNvSpPr/>
          <p:nvPr/>
        </p:nvSpPr>
        <p:spPr>
          <a:xfrm>
            <a:off x="622440" y="990720"/>
            <a:ext cx="74548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Bodoni SvtyTwo ITC TT-Book"/>
              </a:rPr>
              <a:t>Choose a Method to Prove:</a:t>
            </a:r>
            <a:endParaRPr b="0" lang="en-US" sz="4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74" name="Text Box 10"/>
          <p:cNvSpPr/>
          <p:nvPr/>
        </p:nvSpPr>
        <p:spPr>
          <a:xfrm>
            <a:off x="864000" y="3289320"/>
            <a:ext cx="12304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ASA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75" name="Text Box 11"/>
          <p:cNvSpPr/>
          <p:nvPr/>
        </p:nvSpPr>
        <p:spPr>
          <a:xfrm>
            <a:off x="864000" y="4178160"/>
            <a:ext cx="12304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AAS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76" name="Text Box 12"/>
          <p:cNvSpPr/>
          <p:nvPr/>
        </p:nvSpPr>
        <p:spPr>
          <a:xfrm>
            <a:off x="906120" y="5029200"/>
            <a:ext cx="8542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HL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77" name="Text Box 13"/>
          <p:cNvSpPr/>
          <p:nvPr/>
        </p:nvSpPr>
        <p:spPr>
          <a:xfrm>
            <a:off x="3314880" y="1650960"/>
            <a:ext cx="38988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doni SvtyTwo ITC TT-Book"/>
              </a:rPr>
              <a:t>∆</a:t>
            </a:r>
            <a:r>
              <a:rPr b="0" lang="en-US" sz="4400" spc="-1" strike="noStrike">
                <a:solidFill>
                  <a:srgbClr val="000000"/>
                </a:solidFill>
                <a:latin typeface="Bodoni SvtyTwo ITC TT-Book"/>
              </a:rPr>
              <a:t>ABD        ∆CDB</a:t>
            </a:r>
            <a:endParaRPr b="0" lang="en-US" sz="4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378" name="Picture 14" descr=""/>
          <p:cNvPicPr/>
          <p:nvPr/>
        </p:nvPicPr>
        <p:blipFill>
          <a:blip r:embed="rId1"/>
          <a:stretch/>
        </p:blipFill>
        <p:spPr>
          <a:xfrm>
            <a:off x="4800600" y="1231920"/>
            <a:ext cx="812880" cy="1244520"/>
          </a:xfrm>
          <a:prstGeom prst="rect">
            <a:avLst/>
          </a:prstGeom>
          <a:ln w="0">
            <a:noFill/>
          </a:ln>
        </p:spPr>
      </p:pic>
      <p:grpSp>
        <p:nvGrpSpPr>
          <p:cNvPr id="379" name="Group 15"/>
          <p:cNvGrpSpPr/>
          <p:nvPr/>
        </p:nvGrpSpPr>
        <p:grpSpPr>
          <a:xfrm>
            <a:off x="2635200" y="2495520"/>
            <a:ext cx="4940280" cy="3060720"/>
            <a:chOff x="2635200" y="2495520"/>
            <a:chExt cx="4940280" cy="3060720"/>
          </a:xfrm>
        </p:grpSpPr>
        <p:pic>
          <p:nvPicPr>
            <p:cNvPr id="380" name="Picture 16" descr=""/>
            <p:cNvPicPr/>
            <p:nvPr/>
          </p:nvPicPr>
          <p:blipFill>
            <a:blip r:embed="rId2"/>
            <a:stretch/>
          </p:blipFill>
          <p:spPr>
            <a:xfrm>
              <a:off x="2635200" y="2495520"/>
              <a:ext cx="4940280" cy="30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Line 17"/>
            <p:cNvSpPr/>
            <p:nvPr/>
          </p:nvSpPr>
          <p:spPr>
            <a:xfrm>
              <a:off x="3352680" y="3899160"/>
              <a:ext cx="355680" cy="215640"/>
            </a:xfrm>
            <a:prstGeom prst="line">
              <a:avLst/>
            </a:prstGeom>
            <a:ln w="38160">
              <a:solidFill>
                <a:srgbClr val="e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382" name="Line 18"/>
            <p:cNvSpPr/>
            <p:nvPr/>
          </p:nvSpPr>
          <p:spPr>
            <a:xfrm>
              <a:off x="6591240" y="3886200"/>
              <a:ext cx="355680" cy="216000"/>
            </a:xfrm>
            <a:prstGeom prst="line">
              <a:avLst/>
            </a:prstGeom>
            <a:ln w="38160">
              <a:solidFill>
                <a:srgbClr val="e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383" name="Line 19"/>
            <p:cNvSpPr/>
            <p:nvPr/>
          </p:nvSpPr>
          <p:spPr>
            <a:xfrm>
              <a:off x="5384880" y="3035520"/>
              <a:ext cx="0" cy="330120"/>
            </a:xfrm>
            <a:prstGeom prst="line">
              <a:avLst/>
            </a:prstGeom>
            <a:ln w="38160">
              <a:solidFill>
                <a:srgbClr val="e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384" name="Line 20"/>
            <p:cNvSpPr/>
            <p:nvPr/>
          </p:nvSpPr>
          <p:spPr>
            <a:xfrm>
              <a:off x="5511600" y="3035520"/>
              <a:ext cx="0" cy="330120"/>
            </a:xfrm>
            <a:prstGeom prst="line">
              <a:avLst/>
            </a:prstGeom>
            <a:ln w="38160">
              <a:solidFill>
                <a:srgbClr val="e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385" name="Line 21"/>
            <p:cNvSpPr/>
            <p:nvPr/>
          </p:nvSpPr>
          <p:spPr>
            <a:xfrm>
              <a:off x="4279680" y="4622760"/>
              <a:ext cx="0" cy="330480"/>
            </a:xfrm>
            <a:prstGeom prst="line">
              <a:avLst/>
            </a:prstGeom>
            <a:ln w="38160">
              <a:solidFill>
                <a:srgbClr val="e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386" name="Line 22"/>
            <p:cNvSpPr/>
            <p:nvPr/>
          </p:nvSpPr>
          <p:spPr>
            <a:xfrm>
              <a:off x="4406760" y="4622760"/>
              <a:ext cx="0" cy="330480"/>
            </a:xfrm>
            <a:prstGeom prst="line">
              <a:avLst/>
            </a:prstGeom>
            <a:ln w="38160">
              <a:solidFill>
                <a:srgbClr val="e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</p:grpSp>
      <p:sp>
        <p:nvSpPr>
          <p:cNvPr id="387" name="Freeform 23"/>
          <p:cNvSpPr/>
          <p:nvPr/>
        </p:nvSpPr>
        <p:spPr>
          <a:xfrm>
            <a:off x="622440" y="1600200"/>
            <a:ext cx="1600200" cy="914400"/>
          </a:xfrm>
          <a:custGeom>
            <a:avLst/>
            <a:gdLst/>
            <a:ahLst/>
            <a:rect l="l" t="t" r="r" b="b"/>
            <a:pathLst>
              <a:path w="9111" h="9111">
                <a:moveTo>
                  <a:pt x="7777" y="1334"/>
                </a:moveTo>
                <a:cubicBezTo>
                  <a:pt x="9556" y="3113"/>
                  <a:pt x="9556" y="5998"/>
                  <a:pt x="7777" y="7777"/>
                </a:cubicBezTo>
                <a:cubicBezTo>
                  <a:pt x="5998" y="9556"/>
                  <a:pt x="3113" y="9556"/>
                  <a:pt x="1334" y="7777"/>
                </a:cubicBezTo>
                <a:cubicBezTo>
                  <a:pt x="-444" y="5998"/>
                  <a:pt x="-444" y="3113"/>
                  <a:pt x="1334" y="1334"/>
                </a:cubicBezTo>
                <a:cubicBezTo>
                  <a:pt x="3113" y="-444"/>
                  <a:pt x="5998" y="-444"/>
                  <a:pt x="7777" y="1334"/>
                </a:cubicBezTo>
              </a:path>
            </a:pathLst>
          </a:custGeom>
          <a:noFill/>
          <a:ln w="76320">
            <a:solidFill>
              <a:srgbClr val="0000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88" name="Line 24"/>
          <p:cNvSpPr/>
          <p:nvPr/>
        </p:nvSpPr>
        <p:spPr>
          <a:xfrm flipH="1">
            <a:off x="4724280" y="3645000"/>
            <a:ext cx="216000" cy="27936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89" name="Line 25"/>
          <p:cNvSpPr/>
          <p:nvPr/>
        </p:nvSpPr>
        <p:spPr>
          <a:xfrm flipH="1">
            <a:off x="4838760" y="3759120"/>
            <a:ext cx="216000" cy="27936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90" name="Line 26"/>
          <p:cNvSpPr/>
          <p:nvPr/>
        </p:nvSpPr>
        <p:spPr>
          <a:xfrm flipH="1">
            <a:off x="4978440" y="3873600"/>
            <a:ext cx="216000" cy="27936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91" name="Text Box 27"/>
          <p:cNvSpPr/>
          <p:nvPr/>
        </p:nvSpPr>
        <p:spPr>
          <a:xfrm>
            <a:off x="2535480" y="5270400"/>
            <a:ext cx="5241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Bodoni SvtyTwo ITC TT-Book"/>
              </a:rPr>
              <a:t>the reflexive side</a:t>
            </a:r>
            <a:endParaRPr b="0" lang="en-US" sz="48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393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394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395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396" name="Text Box 5"/>
          <p:cNvSpPr/>
          <p:nvPr/>
        </p:nvSpPr>
        <p:spPr>
          <a:xfrm>
            <a:off x="511200" y="-15840"/>
            <a:ext cx="765504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Proving  ∆s  Congruent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97" name="Line 6"/>
          <p:cNvSpPr/>
          <p:nvPr/>
        </p:nvSpPr>
        <p:spPr>
          <a:xfrm>
            <a:off x="574560" y="96192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98" name="Text Box 7"/>
          <p:cNvSpPr/>
          <p:nvPr/>
        </p:nvSpPr>
        <p:spPr>
          <a:xfrm>
            <a:off x="853560" y="1663560"/>
            <a:ext cx="11116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SSS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99" name="Text Box 8"/>
          <p:cNvSpPr/>
          <p:nvPr/>
        </p:nvSpPr>
        <p:spPr>
          <a:xfrm>
            <a:off x="855720" y="2476440"/>
            <a:ext cx="11710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SAS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00" name="Text Box 9"/>
          <p:cNvSpPr/>
          <p:nvPr/>
        </p:nvSpPr>
        <p:spPr>
          <a:xfrm>
            <a:off x="622440" y="990720"/>
            <a:ext cx="74548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Bodoni SvtyTwo ITC TT-Book"/>
              </a:rPr>
              <a:t>Choose a Method to Prove:</a:t>
            </a:r>
            <a:endParaRPr b="0" lang="en-US" sz="4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01" name="Text Box 10"/>
          <p:cNvSpPr/>
          <p:nvPr/>
        </p:nvSpPr>
        <p:spPr>
          <a:xfrm>
            <a:off x="864000" y="3289320"/>
            <a:ext cx="12304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ASA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02" name="Text Box 11"/>
          <p:cNvSpPr/>
          <p:nvPr/>
        </p:nvSpPr>
        <p:spPr>
          <a:xfrm>
            <a:off x="864000" y="4178160"/>
            <a:ext cx="12304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AAS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03" name="Text Box 12"/>
          <p:cNvSpPr/>
          <p:nvPr/>
        </p:nvSpPr>
        <p:spPr>
          <a:xfrm>
            <a:off x="906120" y="5029200"/>
            <a:ext cx="8542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HL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04" name="Text Box 13"/>
          <p:cNvSpPr/>
          <p:nvPr/>
        </p:nvSpPr>
        <p:spPr>
          <a:xfrm>
            <a:off x="3314880" y="1650960"/>
            <a:ext cx="38988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doni SvtyTwo ITC TT-Book"/>
              </a:rPr>
              <a:t>∆</a:t>
            </a:r>
            <a:r>
              <a:rPr b="0" lang="en-US" sz="4400" spc="-1" strike="noStrike">
                <a:solidFill>
                  <a:srgbClr val="000000"/>
                </a:solidFill>
                <a:latin typeface="Bodoni SvtyTwo ITC TT-Book"/>
              </a:rPr>
              <a:t>ABD        ∆CDB</a:t>
            </a:r>
            <a:endParaRPr b="0" lang="en-US" sz="4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405" name="Picture 14" descr=""/>
          <p:cNvPicPr/>
          <p:nvPr/>
        </p:nvPicPr>
        <p:blipFill>
          <a:blip r:embed="rId1"/>
          <a:stretch/>
        </p:blipFill>
        <p:spPr>
          <a:xfrm>
            <a:off x="4800600" y="1231920"/>
            <a:ext cx="812880" cy="1244520"/>
          </a:xfrm>
          <a:prstGeom prst="rect">
            <a:avLst/>
          </a:prstGeom>
          <a:ln w="0">
            <a:noFill/>
          </a:ln>
        </p:spPr>
      </p:pic>
      <p:grpSp>
        <p:nvGrpSpPr>
          <p:cNvPr id="406" name="Group 15"/>
          <p:cNvGrpSpPr/>
          <p:nvPr/>
        </p:nvGrpSpPr>
        <p:grpSpPr>
          <a:xfrm>
            <a:off x="2635200" y="2495520"/>
            <a:ext cx="4940280" cy="3060720"/>
            <a:chOff x="2635200" y="2495520"/>
            <a:chExt cx="4940280" cy="3060720"/>
          </a:xfrm>
        </p:grpSpPr>
        <p:pic>
          <p:nvPicPr>
            <p:cNvPr id="407" name="Picture 16" descr=""/>
            <p:cNvPicPr/>
            <p:nvPr/>
          </p:nvPicPr>
          <p:blipFill>
            <a:blip r:embed="rId2"/>
            <a:stretch/>
          </p:blipFill>
          <p:spPr>
            <a:xfrm>
              <a:off x="2635200" y="2495520"/>
              <a:ext cx="4940280" cy="30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Line 17"/>
            <p:cNvSpPr/>
            <p:nvPr/>
          </p:nvSpPr>
          <p:spPr>
            <a:xfrm>
              <a:off x="5384880" y="3035520"/>
              <a:ext cx="0" cy="330120"/>
            </a:xfrm>
            <a:prstGeom prst="line">
              <a:avLst/>
            </a:prstGeom>
            <a:ln w="38160">
              <a:solidFill>
                <a:srgbClr val="e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409" name="Line 18"/>
            <p:cNvSpPr/>
            <p:nvPr/>
          </p:nvSpPr>
          <p:spPr>
            <a:xfrm>
              <a:off x="4127400" y="4622760"/>
              <a:ext cx="0" cy="330480"/>
            </a:xfrm>
            <a:prstGeom prst="line">
              <a:avLst/>
            </a:prstGeom>
            <a:ln w="38160">
              <a:solidFill>
                <a:srgbClr val="e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</p:grpSp>
    </p:spTree>
  </p:cSld>
  <p:transition spd="med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411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412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413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414" name="Text Box 5"/>
          <p:cNvSpPr/>
          <p:nvPr/>
        </p:nvSpPr>
        <p:spPr>
          <a:xfrm>
            <a:off x="511200" y="-15840"/>
            <a:ext cx="765504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Proving  ∆s  Congruent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15" name="Line 6"/>
          <p:cNvSpPr/>
          <p:nvPr/>
        </p:nvSpPr>
        <p:spPr>
          <a:xfrm>
            <a:off x="574560" y="96192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16" name="Text Box 7"/>
          <p:cNvSpPr/>
          <p:nvPr/>
        </p:nvSpPr>
        <p:spPr>
          <a:xfrm>
            <a:off x="853560" y="1663560"/>
            <a:ext cx="11116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SSS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17" name="Text Box 8"/>
          <p:cNvSpPr/>
          <p:nvPr/>
        </p:nvSpPr>
        <p:spPr>
          <a:xfrm>
            <a:off x="855720" y="2476440"/>
            <a:ext cx="11710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SAS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18" name="Text Box 9"/>
          <p:cNvSpPr/>
          <p:nvPr/>
        </p:nvSpPr>
        <p:spPr>
          <a:xfrm>
            <a:off x="622440" y="990720"/>
            <a:ext cx="74548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Bodoni SvtyTwo ITC TT-Book"/>
              </a:rPr>
              <a:t>Choose a Method to Prove:</a:t>
            </a:r>
            <a:endParaRPr b="0" lang="en-US" sz="4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19" name="Text Box 10"/>
          <p:cNvSpPr/>
          <p:nvPr/>
        </p:nvSpPr>
        <p:spPr>
          <a:xfrm>
            <a:off x="864000" y="3289320"/>
            <a:ext cx="12304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ASA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20" name="Text Box 11"/>
          <p:cNvSpPr/>
          <p:nvPr/>
        </p:nvSpPr>
        <p:spPr>
          <a:xfrm>
            <a:off x="864000" y="4178160"/>
            <a:ext cx="12304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AAS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21" name="Text Box 12"/>
          <p:cNvSpPr/>
          <p:nvPr/>
        </p:nvSpPr>
        <p:spPr>
          <a:xfrm>
            <a:off x="906120" y="5029200"/>
            <a:ext cx="8542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HL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22" name="Text Box 13"/>
          <p:cNvSpPr/>
          <p:nvPr/>
        </p:nvSpPr>
        <p:spPr>
          <a:xfrm>
            <a:off x="3314880" y="1650960"/>
            <a:ext cx="38988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doni SvtyTwo ITC TT-Book"/>
              </a:rPr>
              <a:t>∆</a:t>
            </a:r>
            <a:r>
              <a:rPr b="0" lang="en-US" sz="4400" spc="-1" strike="noStrike">
                <a:solidFill>
                  <a:srgbClr val="000000"/>
                </a:solidFill>
                <a:latin typeface="Bodoni SvtyTwo ITC TT-Book"/>
              </a:rPr>
              <a:t>ABD        ∆CDB</a:t>
            </a:r>
            <a:endParaRPr b="0" lang="en-US" sz="4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423" name="Picture 14" descr=""/>
          <p:cNvPicPr/>
          <p:nvPr/>
        </p:nvPicPr>
        <p:blipFill>
          <a:blip r:embed="rId1"/>
          <a:stretch/>
        </p:blipFill>
        <p:spPr>
          <a:xfrm>
            <a:off x="4800600" y="1231920"/>
            <a:ext cx="812880" cy="1244520"/>
          </a:xfrm>
          <a:prstGeom prst="rect">
            <a:avLst/>
          </a:prstGeom>
          <a:ln w="0">
            <a:noFill/>
          </a:ln>
        </p:spPr>
      </p:pic>
      <p:sp>
        <p:nvSpPr>
          <p:cNvPr id="424" name="Freeform 15"/>
          <p:cNvSpPr/>
          <p:nvPr/>
        </p:nvSpPr>
        <p:spPr>
          <a:xfrm>
            <a:off x="673200" y="2425680"/>
            <a:ext cx="1600200" cy="914400"/>
          </a:xfrm>
          <a:custGeom>
            <a:avLst/>
            <a:gdLst/>
            <a:ahLst/>
            <a:rect l="l" t="t" r="r" b="b"/>
            <a:pathLst>
              <a:path w="9111" h="9111">
                <a:moveTo>
                  <a:pt x="7777" y="1334"/>
                </a:moveTo>
                <a:cubicBezTo>
                  <a:pt x="9556" y="3113"/>
                  <a:pt x="9556" y="5998"/>
                  <a:pt x="7777" y="7777"/>
                </a:cubicBezTo>
                <a:cubicBezTo>
                  <a:pt x="5998" y="9556"/>
                  <a:pt x="3113" y="9556"/>
                  <a:pt x="1334" y="7777"/>
                </a:cubicBezTo>
                <a:cubicBezTo>
                  <a:pt x="-444" y="5998"/>
                  <a:pt x="-444" y="3113"/>
                  <a:pt x="1334" y="1334"/>
                </a:cubicBezTo>
                <a:cubicBezTo>
                  <a:pt x="3113" y="-444"/>
                  <a:pt x="5998" y="-444"/>
                  <a:pt x="7777" y="1334"/>
                </a:cubicBezTo>
              </a:path>
            </a:pathLst>
          </a:custGeom>
          <a:noFill/>
          <a:ln w="76320">
            <a:solidFill>
              <a:srgbClr val="0000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grpSp>
        <p:nvGrpSpPr>
          <p:cNvPr id="425" name="Group 16"/>
          <p:cNvGrpSpPr/>
          <p:nvPr/>
        </p:nvGrpSpPr>
        <p:grpSpPr>
          <a:xfrm>
            <a:off x="2635200" y="2495520"/>
            <a:ext cx="4940280" cy="3060720"/>
            <a:chOff x="2635200" y="2495520"/>
            <a:chExt cx="4940280" cy="3060720"/>
          </a:xfrm>
        </p:grpSpPr>
        <p:pic>
          <p:nvPicPr>
            <p:cNvPr id="426" name="Picture 17" descr=""/>
            <p:cNvPicPr/>
            <p:nvPr/>
          </p:nvPicPr>
          <p:blipFill>
            <a:blip r:embed="rId2"/>
            <a:stretch/>
          </p:blipFill>
          <p:spPr>
            <a:xfrm>
              <a:off x="2635200" y="2495520"/>
              <a:ext cx="4940280" cy="30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Line 18"/>
            <p:cNvSpPr/>
            <p:nvPr/>
          </p:nvSpPr>
          <p:spPr>
            <a:xfrm>
              <a:off x="5384880" y="3035520"/>
              <a:ext cx="0" cy="330120"/>
            </a:xfrm>
            <a:prstGeom prst="line">
              <a:avLst/>
            </a:prstGeom>
            <a:ln w="38160">
              <a:solidFill>
                <a:srgbClr val="e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428" name="Line 19"/>
            <p:cNvSpPr/>
            <p:nvPr/>
          </p:nvSpPr>
          <p:spPr>
            <a:xfrm>
              <a:off x="4127400" y="4622760"/>
              <a:ext cx="0" cy="330480"/>
            </a:xfrm>
            <a:prstGeom prst="line">
              <a:avLst/>
            </a:prstGeom>
            <a:ln w="38160">
              <a:solidFill>
                <a:srgbClr val="e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</p:grp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63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64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65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66" name="Text Box 5"/>
          <p:cNvSpPr/>
          <p:nvPr/>
        </p:nvSpPr>
        <p:spPr>
          <a:xfrm>
            <a:off x="1295280" y="165240"/>
            <a:ext cx="6413760" cy="22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Bodoni SvtyTwo ITC TT-Book"/>
              </a:rPr>
              <a:t>Conditional Statements</a:t>
            </a:r>
            <a:endParaRPr b="0" lang="en-US" sz="5000" spc="-1" strike="noStrike">
              <a:solidFill>
                <a:srgbClr val="000000"/>
              </a:solidFill>
              <a:latin typeface="Bodoni SvtyTwo ITC TT-Book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Bodoni SvtyTwo ITC TT-Book"/>
              </a:rPr>
              <a:t>  “ </a:t>
            </a:r>
            <a:r>
              <a:rPr b="0" lang="en-US" sz="5000" spc="-1" strike="noStrike">
                <a:solidFill>
                  <a:srgbClr val="000000"/>
                </a:solidFill>
                <a:latin typeface="Bodoni SvtyTwo ITC TT-Book"/>
              </a:rPr>
              <a:t>If    </a:t>
            </a:r>
            <a:r>
              <a:rPr b="0" lang="en-US" sz="5000" spc="-1" strike="noStrike">
                <a:solidFill>
                  <a:srgbClr val="000000"/>
                </a:solidFill>
                <a:latin typeface="Bradley Hand ITC TT-Bold"/>
              </a:rPr>
              <a:t>p</a:t>
            </a:r>
            <a:r>
              <a:rPr b="0" lang="en-US" sz="5000" spc="-1" strike="noStrike">
                <a:solidFill>
                  <a:srgbClr val="000000"/>
                </a:solidFill>
                <a:latin typeface="Bodoni SvtyTwo ITC TT-Book"/>
              </a:rPr>
              <a:t>    then   </a:t>
            </a:r>
            <a:r>
              <a:rPr b="0" lang="en-US" sz="5000" spc="-1" strike="noStrike">
                <a:solidFill>
                  <a:srgbClr val="000000"/>
                </a:solidFill>
                <a:latin typeface="Bradley Hand ITC TT-Bold"/>
              </a:rPr>
              <a:t>q</a:t>
            </a:r>
            <a:r>
              <a:rPr b="0" lang="en-US" sz="5000" spc="-1" strike="noStrike">
                <a:solidFill>
                  <a:srgbClr val="000000"/>
                </a:solidFill>
                <a:latin typeface="Bodoni SvtyTwo ITC TT-Book"/>
              </a:rPr>
              <a:t>. ”</a:t>
            </a:r>
            <a:endParaRPr b="0" lang="en-US" sz="5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635040" y="2019240"/>
            <a:ext cx="223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C</a:t>
            </a: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onverse: 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1714680" y="4457880"/>
            <a:ext cx="1942920" cy="15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Bodoni SvtyTwo ITC TT-Book"/>
              </a:rPr>
              <a:t>The </a:t>
            </a:r>
            <a:endParaRPr b="0" lang="en-US" sz="3300" spc="-1" strike="noStrike">
              <a:solidFill>
                <a:srgbClr val="000000"/>
              </a:solidFill>
              <a:latin typeface="Bodoni SvtyTwo ITC TT-Book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Bodoni SvtyTwo ITC TT-Book"/>
              </a:rPr>
              <a:t>Law of Syllogism </a:t>
            </a:r>
            <a:endParaRPr b="0" lang="en-US" sz="3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615960" y="3583080"/>
            <a:ext cx="296532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C</a:t>
            </a: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ontrapositive: 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2819520" y="2082960"/>
            <a:ext cx="506736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Bodoni SvtyTwo ITC TT-Book"/>
              </a:rPr>
              <a:t>“ </a:t>
            </a:r>
            <a:r>
              <a:rPr b="0" lang="en-US" sz="4500" spc="-1" strike="noStrike">
                <a:solidFill>
                  <a:srgbClr val="000000"/>
                </a:solidFill>
                <a:latin typeface="Bodoni SvtyTwo ITC TT-Book"/>
              </a:rPr>
              <a:t>If    </a:t>
            </a:r>
            <a:r>
              <a:rPr b="0" lang="en-US" sz="4500" spc="-1" strike="noStrike">
                <a:solidFill>
                  <a:srgbClr val="000000"/>
                </a:solidFill>
                <a:latin typeface="Bradley Hand ITC TT-Bold"/>
              </a:rPr>
              <a:t>q</a:t>
            </a:r>
            <a:r>
              <a:rPr b="0" lang="en-US" sz="4500" spc="-1" strike="noStrike">
                <a:solidFill>
                  <a:srgbClr val="000000"/>
                </a:solidFill>
                <a:latin typeface="Bodoni SvtyTwo ITC TT-Book"/>
              </a:rPr>
              <a:t>    then   </a:t>
            </a:r>
            <a:r>
              <a:rPr b="0" lang="en-US" sz="4500" spc="-1" strike="noStrike">
                <a:solidFill>
                  <a:srgbClr val="000000"/>
                </a:solidFill>
                <a:latin typeface="Bradley Hand ITC TT-Bold"/>
              </a:rPr>
              <a:t>p</a:t>
            </a:r>
            <a:r>
              <a:rPr b="0" lang="en-US" sz="4500" spc="-1" strike="noStrike">
                <a:solidFill>
                  <a:srgbClr val="000000"/>
                </a:solidFill>
                <a:latin typeface="Bodoni SvtyTwo ITC TT-Book"/>
              </a:rPr>
              <a:t>. ”</a:t>
            </a:r>
            <a:endParaRPr b="0" lang="en-US" sz="45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4127400" y="4648320"/>
            <a:ext cx="7239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odoni SvtyTwo ITC TT-Book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72" name="Line 11"/>
          <p:cNvSpPr/>
          <p:nvPr/>
        </p:nvSpPr>
        <p:spPr>
          <a:xfrm>
            <a:off x="546120" y="439416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73" name="Line 12"/>
          <p:cNvSpPr/>
          <p:nvPr/>
        </p:nvSpPr>
        <p:spPr>
          <a:xfrm>
            <a:off x="571680" y="1841400"/>
            <a:ext cx="758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679320" y="2793960"/>
            <a:ext cx="22212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I</a:t>
            </a: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nverse: 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430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431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432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433" name="Text Box 5"/>
          <p:cNvSpPr/>
          <p:nvPr/>
        </p:nvSpPr>
        <p:spPr>
          <a:xfrm>
            <a:off x="511200" y="-15840"/>
            <a:ext cx="765504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Proving  ∆s  Congruent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34" name="Line 6"/>
          <p:cNvSpPr/>
          <p:nvPr/>
        </p:nvSpPr>
        <p:spPr>
          <a:xfrm>
            <a:off x="574560" y="96192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35" name="Text Box 7"/>
          <p:cNvSpPr/>
          <p:nvPr/>
        </p:nvSpPr>
        <p:spPr>
          <a:xfrm>
            <a:off x="853560" y="1663560"/>
            <a:ext cx="11116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SSS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36" name="Text Box 8"/>
          <p:cNvSpPr/>
          <p:nvPr/>
        </p:nvSpPr>
        <p:spPr>
          <a:xfrm>
            <a:off x="855720" y="2476440"/>
            <a:ext cx="11710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SAS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37" name="Text Box 9"/>
          <p:cNvSpPr/>
          <p:nvPr/>
        </p:nvSpPr>
        <p:spPr>
          <a:xfrm>
            <a:off x="622440" y="990720"/>
            <a:ext cx="74548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Bodoni SvtyTwo ITC TT-Book"/>
              </a:rPr>
              <a:t>Choose a Method to Prove:</a:t>
            </a:r>
            <a:endParaRPr b="0" lang="en-US" sz="4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38" name="Text Box 10"/>
          <p:cNvSpPr/>
          <p:nvPr/>
        </p:nvSpPr>
        <p:spPr>
          <a:xfrm>
            <a:off x="864000" y="3289320"/>
            <a:ext cx="12304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ASA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39" name="Text Box 11"/>
          <p:cNvSpPr/>
          <p:nvPr/>
        </p:nvSpPr>
        <p:spPr>
          <a:xfrm>
            <a:off x="864000" y="4178160"/>
            <a:ext cx="12304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AAS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40" name="Text Box 12"/>
          <p:cNvSpPr/>
          <p:nvPr/>
        </p:nvSpPr>
        <p:spPr>
          <a:xfrm>
            <a:off x="906120" y="5029200"/>
            <a:ext cx="8542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HL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41" name="Text Box 13"/>
          <p:cNvSpPr/>
          <p:nvPr/>
        </p:nvSpPr>
        <p:spPr>
          <a:xfrm>
            <a:off x="3314880" y="1650960"/>
            <a:ext cx="38988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doni SvtyTwo ITC TT-Book"/>
              </a:rPr>
              <a:t>∆</a:t>
            </a:r>
            <a:r>
              <a:rPr b="0" lang="en-US" sz="4400" spc="-1" strike="noStrike">
                <a:solidFill>
                  <a:srgbClr val="000000"/>
                </a:solidFill>
                <a:latin typeface="Bodoni SvtyTwo ITC TT-Book"/>
              </a:rPr>
              <a:t>ABD        ∆CDB</a:t>
            </a:r>
            <a:endParaRPr b="0" lang="en-US" sz="4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442" name="Picture 14" descr=""/>
          <p:cNvPicPr/>
          <p:nvPr/>
        </p:nvPicPr>
        <p:blipFill>
          <a:blip r:embed="rId1"/>
          <a:stretch/>
        </p:blipFill>
        <p:spPr>
          <a:xfrm>
            <a:off x="4800600" y="1231920"/>
            <a:ext cx="812880" cy="1244520"/>
          </a:xfrm>
          <a:prstGeom prst="rect">
            <a:avLst/>
          </a:prstGeom>
          <a:ln w="0">
            <a:noFill/>
          </a:ln>
        </p:spPr>
      </p:pic>
      <p:sp>
        <p:nvSpPr>
          <p:cNvPr id="443" name="Freeform 15"/>
          <p:cNvSpPr/>
          <p:nvPr/>
        </p:nvSpPr>
        <p:spPr>
          <a:xfrm>
            <a:off x="673200" y="2425680"/>
            <a:ext cx="1600200" cy="914400"/>
          </a:xfrm>
          <a:custGeom>
            <a:avLst/>
            <a:gdLst/>
            <a:ahLst/>
            <a:rect l="l" t="t" r="r" b="b"/>
            <a:pathLst>
              <a:path w="9111" h="9111">
                <a:moveTo>
                  <a:pt x="7777" y="1334"/>
                </a:moveTo>
                <a:cubicBezTo>
                  <a:pt x="9556" y="3113"/>
                  <a:pt x="9556" y="5998"/>
                  <a:pt x="7777" y="7777"/>
                </a:cubicBezTo>
                <a:cubicBezTo>
                  <a:pt x="5998" y="9556"/>
                  <a:pt x="3113" y="9556"/>
                  <a:pt x="1334" y="7777"/>
                </a:cubicBezTo>
                <a:cubicBezTo>
                  <a:pt x="-444" y="5998"/>
                  <a:pt x="-444" y="3113"/>
                  <a:pt x="1334" y="1334"/>
                </a:cubicBezTo>
                <a:cubicBezTo>
                  <a:pt x="3113" y="-444"/>
                  <a:pt x="5998" y="-444"/>
                  <a:pt x="7777" y="1334"/>
                </a:cubicBezTo>
              </a:path>
            </a:pathLst>
          </a:custGeom>
          <a:noFill/>
          <a:ln w="76320">
            <a:solidFill>
              <a:srgbClr val="0000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grpSp>
        <p:nvGrpSpPr>
          <p:cNvPr id="444" name="Group 16"/>
          <p:cNvGrpSpPr/>
          <p:nvPr/>
        </p:nvGrpSpPr>
        <p:grpSpPr>
          <a:xfrm>
            <a:off x="2635200" y="2495520"/>
            <a:ext cx="4940280" cy="3060720"/>
            <a:chOff x="2635200" y="2495520"/>
            <a:chExt cx="4940280" cy="3060720"/>
          </a:xfrm>
        </p:grpSpPr>
        <p:pic>
          <p:nvPicPr>
            <p:cNvPr id="445" name="Picture 17" descr=""/>
            <p:cNvPicPr/>
            <p:nvPr/>
          </p:nvPicPr>
          <p:blipFill>
            <a:blip r:embed="rId2"/>
            <a:stretch/>
          </p:blipFill>
          <p:spPr>
            <a:xfrm>
              <a:off x="2635200" y="2495520"/>
              <a:ext cx="4940280" cy="30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Line 18"/>
            <p:cNvSpPr/>
            <p:nvPr/>
          </p:nvSpPr>
          <p:spPr>
            <a:xfrm>
              <a:off x="5384880" y="3035520"/>
              <a:ext cx="0" cy="330120"/>
            </a:xfrm>
            <a:prstGeom prst="line">
              <a:avLst/>
            </a:prstGeom>
            <a:ln w="38160">
              <a:solidFill>
                <a:srgbClr val="e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447" name="Line 19"/>
            <p:cNvSpPr/>
            <p:nvPr/>
          </p:nvSpPr>
          <p:spPr>
            <a:xfrm>
              <a:off x="4127400" y="4622760"/>
              <a:ext cx="0" cy="330480"/>
            </a:xfrm>
            <a:prstGeom prst="line">
              <a:avLst/>
            </a:prstGeom>
            <a:ln w="38160">
              <a:solidFill>
                <a:srgbClr val="e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</p:grpSp>
      <p:sp>
        <p:nvSpPr>
          <p:cNvPr id="448" name="Line 20"/>
          <p:cNvSpPr/>
          <p:nvPr/>
        </p:nvSpPr>
        <p:spPr>
          <a:xfrm flipH="1">
            <a:off x="4724280" y="3635280"/>
            <a:ext cx="216000" cy="27936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49" name="Line 21"/>
          <p:cNvSpPr/>
          <p:nvPr/>
        </p:nvSpPr>
        <p:spPr>
          <a:xfrm flipH="1">
            <a:off x="4838760" y="3749760"/>
            <a:ext cx="216000" cy="27936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50" name="Line 22"/>
          <p:cNvSpPr/>
          <p:nvPr/>
        </p:nvSpPr>
        <p:spPr>
          <a:xfrm flipH="1">
            <a:off x="4978440" y="3863880"/>
            <a:ext cx="216000" cy="27936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51" name="Text Box 23"/>
          <p:cNvSpPr/>
          <p:nvPr/>
        </p:nvSpPr>
        <p:spPr>
          <a:xfrm>
            <a:off x="1512000" y="5337000"/>
            <a:ext cx="716184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9900"/>
                </a:solidFill>
                <a:latin typeface="Bodoni SvtyTwo ITC TT-Book"/>
              </a:rPr>
              <a:t>alt. int. angles /reflexive side</a:t>
            </a:r>
            <a:endParaRPr b="0" lang="en-US" sz="39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52" name="Freeform 24"/>
          <p:cNvSpPr/>
          <p:nvPr/>
        </p:nvSpPr>
        <p:spPr>
          <a:xfrm rot="21000000">
            <a:off x="4506840" y="3224160"/>
            <a:ext cx="203400" cy="3175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0"/>
                </a:lnTo>
                <a:cubicBezTo>
                  <a:pt x="10000" y="5522"/>
                  <a:pt x="5522" y="10000"/>
                  <a:pt x="0" y="10000"/>
                </a:cubicBez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53" name="Freeform 25"/>
          <p:cNvSpPr/>
          <p:nvPr/>
        </p:nvSpPr>
        <p:spPr>
          <a:xfrm rot="10139400">
            <a:off x="5524200" y="4470120"/>
            <a:ext cx="241200" cy="29196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0"/>
                </a:lnTo>
                <a:cubicBezTo>
                  <a:pt x="10000" y="5522"/>
                  <a:pt x="5522" y="10000"/>
                  <a:pt x="0" y="10000"/>
                </a:cubicBez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455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456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457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458" name="Text Box 5"/>
          <p:cNvSpPr/>
          <p:nvPr/>
        </p:nvSpPr>
        <p:spPr>
          <a:xfrm>
            <a:off x="511200" y="-15840"/>
            <a:ext cx="765504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Proving  ∆s  Congruent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59" name="Line 6"/>
          <p:cNvSpPr/>
          <p:nvPr/>
        </p:nvSpPr>
        <p:spPr>
          <a:xfrm>
            <a:off x="574560" y="96192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60" name="Text Box 7"/>
          <p:cNvSpPr/>
          <p:nvPr/>
        </p:nvSpPr>
        <p:spPr>
          <a:xfrm>
            <a:off x="853560" y="1663560"/>
            <a:ext cx="11116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SSS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61" name="Text Box 8"/>
          <p:cNvSpPr/>
          <p:nvPr/>
        </p:nvSpPr>
        <p:spPr>
          <a:xfrm>
            <a:off x="855720" y="2476440"/>
            <a:ext cx="11710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SAS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62" name="Text Box 9"/>
          <p:cNvSpPr/>
          <p:nvPr/>
        </p:nvSpPr>
        <p:spPr>
          <a:xfrm>
            <a:off x="622440" y="990720"/>
            <a:ext cx="74548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Bodoni SvtyTwo ITC TT-Book"/>
              </a:rPr>
              <a:t>Choose a Method to Prove:</a:t>
            </a:r>
            <a:endParaRPr b="0" lang="en-US" sz="4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63" name="Text Box 10"/>
          <p:cNvSpPr/>
          <p:nvPr/>
        </p:nvSpPr>
        <p:spPr>
          <a:xfrm>
            <a:off x="864000" y="3289320"/>
            <a:ext cx="12304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ASA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64" name="Text Box 11"/>
          <p:cNvSpPr/>
          <p:nvPr/>
        </p:nvSpPr>
        <p:spPr>
          <a:xfrm>
            <a:off x="864000" y="4178160"/>
            <a:ext cx="12304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AAS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65" name="Text Box 12"/>
          <p:cNvSpPr/>
          <p:nvPr/>
        </p:nvSpPr>
        <p:spPr>
          <a:xfrm>
            <a:off x="906120" y="5029200"/>
            <a:ext cx="8542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HL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66" name="Text Box 13"/>
          <p:cNvSpPr/>
          <p:nvPr/>
        </p:nvSpPr>
        <p:spPr>
          <a:xfrm>
            <a:off x="3314880" y="1650960"/>
            <a:ext cx="38988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doni SvtyTwo ITC TT-Book"/>
              </a:rPr>
              <a:t>∆</a:t>
            </a:r>
            <a:r>
              <a:rPr b="0" lang="en-US" sz="4400" spc="-1" strike="noStrike">
                <a:solidFill>
                  <a:srgbClr val="000000"/>
                </a:solidFill>
                <a:latin typeface="Bodoni SvtyTwo ITC TT-Book"/>
              </a:rPr>
              <a:t>ABD        ∆CDB</a:t>
            </a:r>
            <a:endParaRPr b="0" lang="en-US" sz="4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467" name="Picture 14" descr=""/>
          <p:cNvPicPr/>
          <p:nvPr/>
        </p:nvPicPr>
        <p:blipFill>
          <a:blip r:embed="rId1"/>
          <a:stretch/>
        </p:blipFill>
        <p:spPr>
          <a:xfrm>
            <a:off x="4800600" y="1231920"/>
            <a:ext cx="812880" cy="1244520"/>
          </a:xfrm>
          <a:prstGeom prst="rect">
            <a:avLst/>
          </a:prstGeom>
          <a:ln w="0">
            <a:noFill/>
          </a:ln>
        </p:spPr>
      </p:pic>
      <p:grpSp>
        <p:nvGrpSpPr>
          <p:cNvPr id="468" name="Group 15"/>
          <p:cNvGrpSpPr/>
          <p:nvPr/>
        </p:nvGrpSpPr>
        <p:grpSpPr>
          <a:xfrm>
            <a:off x="3530520" y="2133720"/>
            <a:ext cx="3403440" cy="3377880"/>
            <a:chOff x="3530520" y="2133720"/>
            <a:chExt cx="3403440" cy="3377880"/>
          </a:xfrm>
        </p:grpSpPr>
        <p:pic>
          <p:nvPicPr>
            <p:cNvPr id="469" name="Picture 16" descr=""/>
            <p:cNvPicPr/>
            <p:nvPr/>
          </p:nvPicPr>
          <p:blipFill>
            <a:blip r:embed="rId2"/>
            <a:stretch/>
          </p:blipFill>
          <p:spPr>
            <a:xfrm>
              <a:off x="5097240" y="3193560"/>
              <a:ext cx="1836720" cy="2318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0" name="Group 17"/>
            <p:cNvGrpSpPr/>
            <p:nvPr/>
          </p:nvGrpSpPr>
          <p:grpSpPr>
            <a:xfrm>
              <a:off x="3530520" y="2133720"/>
              <a:ext cx="0" cy="0"/>
              <a:chOff x="3530520" y="2133720"/>
              <a:chExt cx="0" cy="0"/>
            </a:xfrm>
          </p:grpSpPr>
          <p:sp>
            <p:nvSpPr>
              <p:cNvPr id="471" name="Line 18"/>
              <p:cNvSpPr/>
              <p:nvPr/>
            </p:nvSpPr>
            <p:spPr>
              <a:xfrm>
                <a:off x="3530520" y="2133720"/>
                <a:ext cx="0" cy="0"/>
              </a:xfrm>
              <a:prstGeom prst="line">
                <a:avLst/>
              </a:prstGeom>
              <a:ln w="38160">
                <a:solidFill>
                  <a:srgbClr val="ee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472" name="Line 19"/>
              <p:cNvSpPr/>
              <p:nvPr/>
            </p:nvSpPr>
            <p:spPr>
              <a:xfrm>
                <a:off x="3530520" y="2133720"/>
                <a:ext cx="0" cy="0"/>
              </a:xfrm>
              <a:prstGeom prst="line">
                <a:avLst/>
              </a:prstGeom>
              <a:ln w="38160">
                <a:solidFill>
                  <a:srgbClr val="ee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  <p:sp>
          <p:nvSpPr>
            <p:cNvPr id="473" name="Line 20"/>
            <p:cNvSpPr/>
            <p:nvPr/>
          </p:nvSpPr>
          <p:spPr>
            <a:xfrm>
              <a:off x="5542200" y="4273200"/>
              <a:ext cx="167040" cy="128160"/>
            </a:xfrm>
            <a:prstGeom prst="line">
              <a:avLst/>
            </a:prstGeom>
            <a:ln w="38160">
              <a:solidFill>
                <a:srgbClr val="e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474" name="Line 21"/>
            <p:cNvSpPr/>
            <p:nvPr/>
          </p:nvSpPr>
          <p:spPr>
            <a:xfrm flipV="1">
              <a:off x="6327720" y="4244760"/>
              <a:ext cx="155520" cy="142560"/>
            </a:xfrm>
            <a:prstGeom prst="line">
              <a:avLst/>
            </a:prstGeom>
            <a:ln w="38160">
              <a:solidFill>
                <a:srgbClr val="e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</p:grpSp>
    </p:spTree>
  </p:cSld>
  <p:transition spd="med"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476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477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478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479" name="Text Box 5"/>
          <p:cNvSpPr/>
          <p:nvPr/>
        </p:nvSpPr>
        <p:spPr>
          <a:xfrm>
            <a:off x="511200" y="-15840"/>
            <a:ext cx="765504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Proving  ∆s  Congruent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80" name="Line 6"/>
          <p:cNvSpPr/>
          <p:nvPr/>
        </p:nvSpPr>
        <p:spPr>
          <a:xfrm>
            <a:off x="574560" y="96192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81" name="Text Box 7"/>
          <p:cNvSpPr/>
          <p:nvPr/>
        </p:nvSpPr>
        <p:spPr>
          <a:xfrm>
            <a:off x="853560" y="1663560"/>
            <a:ext cx="11116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SSS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82" name="Text Box 8"/>
          <p:cNvSpPr/>
          <p:nvPr/>
        </p:nvSpPr>
        <p:spPr>
          <a:xfrm>
            <a:off x="855720" y="2476440"/>
            <a:ext cx="11710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SAS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83" name="Text Box 9"/>
          <p:cNvSpPr/>
          <p:nvPr/>
        </p:nvSpPr>
        <p:spPr>
          <a:xfrm>
            <a:off x="622440" y="990720"/>
            <a:ext cx="74548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Bodoni SvtyTwo ITC TT-Book"/>
              </a:rPr>
              <a:t>Choose a Method to Prove:</a:t>
            </a:r>
            <a:endParaRPr b="0" lang="en-US" sz="4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84" name="Text Box 10"/>
          <p:cNvSpPr/>
          <p:nvPr/>
        </p:nvSpPr>
        <p:spPr>
          <a:xfrm>
            <a:off x="864000" y="3289320"/>
            <a:ext cx="12304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ASA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85" name="Text Box 11"/>
          <p:cNvSpPr/>
          <p:nvPr/>
        </p:nvSpPr>
        <p:spPr>
          <a:xfrm>
            <a:off x="864000" y="4178160"/>
            <a:ext cx="12304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AAS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86" name="Text Box 12"/>
          <p:cNvSpPr/>
          <p:nvPr/>
        </p:nvSpPr>
        <p:spPr>
          <a:xfrm>
            <a:off x="906120" y="5029200"/>
            <a:ext cx="8542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HL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87" name="Text Box 13"/>
          <p:cNvSpPr/>
          <p:nvPr/>
        </p:nvSpPr>
        <p:spPr>
          <a:xfrm>
            <a:off x="3314880" y="1650960"/>
            <a:ext cx="38988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doni SvtyTwo ITC TT-Book"/>
              </a:rPr>
              <a:t>∆</a:t>
            </a:r>
            <a:r>
              <a:rPr b="0" lang="en-US" sz="4400" spc="-1" strike="noStrike">
                <a:solidFill>
                  <a:srgbClr val="000000"/>
                </a:solidFill>
                <a:latin typeface="Bodoni SvtyTwo ITC TT-Book"/>
              </a:rPr>
              <a:t>ABD        ∆CDB</a:t>
            </a:r>
            <a:endParaRPr b="0" lang="en-US" sz="4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488" name="Picture 14" descr=""/>
          <p:cNvPicPr/>
          <p:nvPr/>
        </p:nvPicPr>
        <p:blipFill>
          <a:blip r:embed="rId1"/>
          <a:stretch/>
        </p:blipFill>
        <p:spPr>
          <a:xfrm>
            <a:off x="4800600" y="1231920"/>
            <a:ext cx="812880" cy="1244520"/>
          </a:xfrm>
          <a:prstGeom prst="rect">
            <a:avLst/>
          </a:prstGeom>
          <a:ln w="0">
            <a:noFill/>
          </a:ln>
        </p:spPr>
      </p:pic>
      <p:sp>
        <p:nvSpPr>
          <p:cNvPr id="489" name="Freeform 15"/>
          <p:cNvSpPr/>
          <p:nvPr/>
        </p:nvSpPr>
        <p:spPr>
          <a:xfrm>
            <a:off x="584280" y="4978440"/>
            <a:ext cx="1600200" cy="914400"/>
          </a:xfrm>
          <a:custGeom>
            <a:avLst/>
            <a:gdLst/>
            <a:ahLst/>
            <a:rect l="l" t="t" r="r" b="b"/>
            <a:pathLst>
              <a:path w="9111" h="9111">
                <a:moveTo>
                  <a:pt x="7777" y="1334"/>
                </a:moveTo>
                <a:cubicBezTo>
                  <a:pt x="9556" y="3113"/>
                  <a:pt x="9556" y="5998"/>
                  <a:pt x="7777" y="7777"/>
                </a:cubicBezTo>
                <a:cubicBezTo>
                  <a:pt x="5998" y="9556"/>
                  <a:pt x="3113" y="9556"/>
                  <a:pt x="1334" y="7777"/>
                </a:cubicBezTo>
                <a:cubicBezTo>
                  <a:pt x="-444" y="5998"/>
                  <a:pt x="-444" y="3113"/>
                  <a:pt x="1334" y="1334"/>
                </a:cubicBezTo>
                <a:cubicBezTo>
                  <a:pt x="3113" y="-444"/>
                  <a:pt x="5998" y="-444"/>
                  <a:pt x="7777" y="1334"/>
                </a:cubicBezTo>
              </a:path>
            </a:pathLst>
          </a:custGeom>
          <a:noFill/>
          <a:ln w="76320">
            <a:solidFill>
              <a:srgbClr val="0000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grpSp>
        <p:nvGrpSpPr>
          <p:cNvPr id="490" name="Group 16"/>
          <p:cNvGrpSpPr/>
          <p:nvPr/>
        </p:nvGrpSpPr>
        <p:grpSpPr>
          <a:xfrm>
            <a:off x="3530520" y="2133720"/>
            <a:ext cx="3403440" cy="3377880"/>
            <a:chOff x="3530520" y="2133720"/>
            <a:chExt cx="3403440" cy="3377880"/>
          </a:xfrm>
        </p:grpSpPr>
        <p:pic>
          <p:nvPicPr>
            <p:cNvPr id="491" name="Picture 17" descr=""/>
            <p:cNvPicPr/>
            <p:nvPr/>
          </p:nvPicPr>
          <p:blipFill>
            <a:blip r:embed="rId2"/>
            <a:stretch/>
          </p:blipFill>
          <p:spPr>
            <a:xfrm>
              <a:off x="5097240" y="3193560"/>
              <a:ext cx="1836720" cy="2318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92" name="Group 18"/>
            <p:cNvGrpSpPr/>
            <p:nvPr/>
          </p:nvGrpSpPr>
          <p:grpSpPr>
            <a:xfrm>
              <a:off x="3530520" y="2133720"/>
              <a:ext cx="0" cy="0"/>
              <a:chOff x="3530520" y="2133720"/>
              <a:chExt cx="0" cy="0"/>
            </a:xfrm>
          </p:grpSpPr>
          <p:sp>
            <p:nvSpPr>
              <p:cNvPr id="493" name="Line 19"/>
              <p:cNvSpPr/>
              <p:nvPr/>
            </p:nvSpPr>
            <p:spPr>
              <a:xfrm>
                <a:off x="3530520" y="2133720"/>
                <a:ext cx="0" cy="0"/>
              </a:xfrm>
              <a:prstGeom prst="line">
                <a:avLst/>
              </a:prstGeom>
              <a:ln w="38160">
                <a:solidFill>
                  <a:srgbClr val="ee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494" name="Line 20"/>
              <p:cNvSpPr/>
              <p:nvPr/>
            </p:nvSpPr>
            <p:spPr>
              <a:xfrm>
                <a:off x="3530520" y="2133720"/>
                <a:ext cx="0" cy="0"/>
              </a:xfrm>
              <a:prstGeom prst="line">
                <a:avLst/>
              </a:prstGeom>
              <a:ln w="38160">
                <a:solidFill>
                  <a:srgbClr val="ee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  <p:sp>
          <p:nvSpPr>
            <p:cNvPr id="495" name="Line 21"/>
            <p:cNvSpPr/>
            <p:nvPr/>
          </p:nvSpPr>
          <p:spPr>
            <a:xfrm>
              <a:off x="5542200" y="4273200"/>
              <a:ext cx="167040" cy="128160"/>
            </a:xfrm>
            <a:prstGeom prst="line">
              <a:avLst/>
            </a:prstGeom>
            <a:ln w="38160">
              <a:solidFill>
                <a:srgbClr val="e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496" name="Line 22"/>
            <p:cNvSpPr/>
            <p:nvPr/>
          </p:nvSpPr>
          <p:spPr>
            <a:xfrm flipV="1">
              <a:off x="6327720" y="4244760"/>
              <a:ext cx="155520" cy="142560"/>
            </a:xfrm>
            <a:prstGeom prst="line">
              <a:avLst/>
            </a:prstGeom>
            <a:ln w="38160">
              <a:solidFill>
                <a:srgbClr val="e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</p:grpSp>
    </p:spTree>
  </p:cSld>
  <p:transition spd="med"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7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498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499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500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501" name="Text Box 5"/>
          <p:cNvSpPr/>
          <p:nvPr/>
        </p:nvSpPr>
        <p:spPr>
          <a:xfrm>
            <a:off x="511200" y="-15840"/>
            <a:ext cx="765504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Proving  ∆s  Congruent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02" name="Line 6"/>
          <p:cNvSpPr/>
          <p:nvPr/>
        </p:nvSpPr>
        <p:spPr>
          <a:xfrm>
            <a:off x="574560" y="96192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03" name="Text Box 7"/>
          <p:cNvSpPr/>
          <p:nvPr/>
        </p:nvSpPr>
        <p:spPr>
          <a:xfrm>
            <a:off x="853560" y="1663560"/>
            <a:ext cx="11116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SSS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04" name="Text Box 8"/>
          <p:cNvSpPr/>
          <p:nvPr/>
        </p:nvSpPr>
        <p:spPr>
          <a:xfrm>
            <a:off x="855720" y="2476440"/>
            <a:ext cx="11710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SAS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05" name="Text Box 9"/>
          <p:cNvSpPr/>
          <p:nvPr/>
        </p:nvSpPr>
        <p:spPr>
          <a:xfrm>
            <a:off x="622440" y="990720"/>
            <a:ext cx="74548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Bodoni SvtyTwo ITC TT-Book"/>
              </a:rPr>
              <a:t>Choose a Method to Prove:</a:t>
            </a:r>
            <a:endParaRPr b="0" lang="en-US" sz="4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06" name="Text Box 10"/>
          <p:cNvSpPr/>
          <p:nvPr/>
        </p:nvSpPr>
        <p:spPr>
          <a:xfrm>
            <a:off x="864000" y="3289320"/>
            <a:ext cx="12304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ASA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07" name="Text Box 11"/>
          <p:cNvSpPr/>
          <p:nvPr/>
        </p:nvSpPr>
        <p:spPr>
          <a:xfrm>
            <a:off x="864000" y="4178160"/>
            <a:ext cx="12304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AAS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08" name="Text Box 12"/>
          <p:cNvSpPr/>
          <p:nvPr/>
        </p:nvSpPr>
        <p:spPr>
          <a:xfrm>
            <a:off x="906120" y="5029200"/>
            <a:ext cx="8542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HL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09" name="Text Box 13"/>
          <p:cNvSpPr/>
          <p:nvPr/>
        </p:nvSpPr>
        <p:spPr>
          <a:xfrm>
            <a:off x="3314880" y="1650960"/>
            <a:ext cx="38988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doni SvtyTwo ITC TT-Book"/>
              </a:rPr>
              <a:t>∆</a:t>
            </a:r>
            <a:r>
              <a:rPr b="0" lang="en-US" sz="4400" spc="-1" strike="noStrike">
                <a:solidFill>
                  <a:srgbClr val="000000"/>
                </a:solidFill>
                <a:latin typeface="Bodoni SvtyTwo ITC TT-Book"/>
              </a:rPr>
              <a:t>ABD        ∆CDB</a:t>
            </a:r>
            <a:endParaRPr b="0" lang="en-US" sz="4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510" name="Picture 14" descr=""/>
          <p:cNvPicPr/>
          <p:nvPr/>
        </p:nvPicPr>
        <p:blipFill>
          <a:blip r:embed="rId1"/>
          <a:stretch/>
        </p:blipFill>
        <p:spPr>
          <a:xfrm>
            <a:off x="4800600" y="1231920"/>
            <a:ext cx="812880" cy="1244520"/>
          </a:xfrm>
          <a:prstGeom prst="rect">
            <a:avLst/>
          </a:prstGeom>
          <a:ln w="0">
            <a:noFill/>
          </a:ln>
        </p:spPr>
      </p:pic>
      <p:grpSp>
        <p:nvGrpSpPr>
          <p:cNvPr id="511" name="Group 15"/>
          <p:cNvGrpSpPr/>
          <p:nvPr/>
        </p:nvGrpSpPr>
        <p:grpSpPr>
          <a:xfrm>
            <a:off x="3530520" y="2133720"/>
            <a:ext cx="3403440" cy="3377880"/>
            <a:chOff x="3530520" y="2133720"/>
            <a:chExt cx="3403440" cy="3377880"/>
          </a:xfrm>
        </p:grpSpPr>
        <p:pic>
          <p:nvPicPr>
            <p:cNvPr id="512" name="Picture 16" descr=""/>
            <p:cNvPicPr/>
            <p:nvPr/>
          </p:nvPicPr>
          <p:blipFill>
            <a:blip r:embed="rId2"/>
            <a:stretch/>
          </p:blipFill>
          <p:spPr>
            <a:xfrm>
              <a:off x="5097240" y="3193560"/>
              <a:ext cx="1836720" cy="2318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3" name="Group 17"/>
            <p:cNvGrpSpPr/>
            <p:nvPr/>
          </p:nvGrpSpPr>
          <p:grpSpPr>
            <a:xfrm>
              <a:off x="3530520" y="2133720"/>
              <a:ext cx="0" cy="0"/>
              <a:chOff x="3530520" y="2133720"/>
              <a:chExt cx="0" cy="0"/>
            </a:xfrm>
          </p:grpSpPr>
          <p:sp>
            <p:nvSpPr>
              <p:cNvPr id="514" name="Line 18"/>
              <p:cNvSpPr/>
              <p:nvPr/>
            </p:nvSpPr>
            <p:spPr>
              <a:xfrm>
                <a:off x="3530520" y="2133720"/>
                <a:ext cx="0" cy="0"/>
              </a:xfrm>
              <a:prstGeom prst="line">
                <a:avLst/>
              </a:prstGeom>
              <a:ln w="38160">
                <a:solidFill>
                  <a:srgbClr val="ee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515" name="Line 19"/>
              <p:cNvSpPr/>
              <p:nvPr/>
            </p:nvSpPr>
            <p:spPr>
              <a:xfrm>
                <a:off x="3530520" y="2133720"/>
                <a:ext cx="0" cy="0"/>
              </a:xfrm>
              <a:prstGeom prst="line">
                <a:avLst/>
              </a:prstGeom>
              <a:ln w="38160">
                <a:solidFill>
                  <a:srgbClr val="ee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  <p:sp>
          <p:nvSpPr>
            <p:cNvPr id="516" name="Line 20"/>
            <p:cNvSpPr/>
            <p:nvPr/>
          </p:nvSpPr>
          <p:spPr>
            <a:xfrm>
              <a:off x="5542200" y="4273200"/>
              <a:ext cx="167040" cy="128160"/>
            </a:xfrm>
            <a:prstGeom prst="line">
              <a:avLst/>
            </a:prstGeom>
            <a:ln w="38160">
              <a:solidFill>
                <a:srgbClr val="e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517" name="Line 21"/>
            <p:cNvSpPr/>
            <p:nvPr/>
          </p:nvSpPr>
          <p:spPr>
            <a:xfrm flipV="1">
              <a:off x="6327720" y="4244760"/>
              <a:ext cx="155520" cy="142560"/>
            </a:xfrm>
            <a:prstGeom prst="line">
              <a:avLst/>
            </a:prstGeom>
            <a:ln w="38160">
              <a:solidFill>
                <a:srgbClr val="e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</p:grpSp>
      <p:sp>
        <p:nvSpPr>
          <p:cNvPr id="518" name="Freeform 22"/>
          <p:cNvSpPr/>
          <p:nvPr/>
        </p:nvSpPr>
        <p:spPr>
          <a:xfrm>
            <a:off x="584280" y="4978440"/>
            <a:ext cx="1600200" cy="914400"/>
          </a:xfrm>
          <a:custGeom>
            <a:avLst/>
            <a:gdLst/>
            <a:ahLst/>
            <a:rect l="l" t="t" r="r" b="b"/>
            <a:pathLst>
              <a:path w="9111" h="9111">
                <a:moveTo>
                  <a:pt x="7777" y="1334"/>
                </a:moveTo>
                <a:cubicBezTo>
                  <a:pt x="9556" y="3113"/>
                  <a:pt x="9556" y="5998"/>
                  <a:pt x="7777" y="7777"/>
                </a:cubicBezTo>
                <a:cubicBezTo>
                  <a:pt x="5998" y="9556"/>
                  <a:pt x="3113" y="9556"/>
                  <a:pt x="1334" y="7777"/>
                </a:cubicBezTo>
                <a:cubicBezTo>
                  <a:pt x="-444" y="5998"/>
                  <a:pt x="-444" y="3113"/>
                  <a:pt x="1334" y="1334"/>
                </a:cubicBezTo>
                <a:cubicBezTo>
                  <a:pt x="3113" y="-444"/>
                  <a:pt x="5998" y="-444"/>
                  <a:pt x="7777" y="1334"/>
                </a:cubicBezTo>
              </a:path>
            </a:pathLst>
          </a:custGeom>
          <a:noFill/>
          <a:ln w="76320">
            <a:solidFill>
              <a:srgbClr val="0000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19" name="Line 23"/>
          <p:cNvSpPr/>
          <p:nvPr/>
        </p:nvSpPr>
        <p:spPr>
          <a:xfrm>
            <a:off x="5054760" y="3772080"/>
            <a:ext cx="35532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20" name="Line 24"/>
          <p:cNvSpPr/>
          <p:nvPr/>
        </p:nvSpPr>
        <p:spPr>
          <a:xfrm>
            <a:off x="5054760" y="3898800"/>
            <a:ext cx="35532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21" name="Text Box 25"/>
          <p:cNvSpPr/>
          <p:nvPr/>
        </p:nvSpPr>
        <p:spPr>
          <a:xfrm>
            <a:off x="2535480" y="5270400"/>
            <a:ext cx="5241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Bodoni SvtyTwo ITC TT-Book"/>
              </a:rPr>
              <a:t>the reflexive side</a:t>
            </a:r>
            <a:endParaRPr b="0" lang="en-US" sz="48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transition spd="med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523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524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525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526" name="Text Box 5"/>
          <p:cNvSpPr/>
          <p:nvPr/>
        </p:nvSpPr>
        <p:spPr>
          <a:xfrm>
            <a:off x="511200" y="-15840"/>
            <a:ext cx="765504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Proving  ∆s  Congruent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27" name="Line 6"/>
          <p:cNvSpPr/>
          <p:nvPr/>
        </p:nvSpPr>
        <p:spPr>
          <a:xfrm>
            <a:off x="574560" y="96192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28" name="Text Box 7"/>
          <p:cNvSpPr/>
          <p:nvPr/>
        </p:nvSpPr>
        <p:spPr>
          <a:xfrm>
            <a:off x="853560" y="1663560"/>
            <a:ext cx="11116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SSS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29" name="Text Box 8"/>
          <p:cNvSpPr/>
          <p:nvPr/>
        </p:nvSpPr>
        <p:spPr>
          <a:xfrm>
            <a:off x="855720" y="2476440"/>
            <a:ext cx="11710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SAS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30" name="Text Box 9"/>
          <p:cNvSpPr/>
          <p:nvPr/>
        </p:nvSpPr>
        <p:spPr>
          <a:xfrm>
            <a:off x="622440" y="990720"/>
            <a:ext cx="74548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Bodoni SvtyTwo ITC TT-Book"/>
              </a:rPr>
              <a:t>Choose a Method to Prove:</a:t>
            </a:r>
            <a:endParaRPr b="0" lang="en-US" sz="4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31" name="Text Box 10"/>
          <p:cNvSpPr/>
          <p:nvPr/>
        </p:nvSpPr>
        <p:spPr>
          <a:xfrm>
            <a:off x="864000" y="3289320"/>
            <a:ext cx="12304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ASA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32" name="Text Box 11"/>
          <p:cNvSpPr/>
          <p:nvPr/>
        </p:nvSpPr>
        <p:spPr>
          <a:xfrm>
            <a:off x="864000" y="4178160"/>
            <a:ext cx="12304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AAS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33" name="Text Box 12"/>
          <p:cNvSpPr/>
          <p:nvPr/>
        </p:nvSpPr>
        <p:spPr>
          <a:xfrm>
            <a:off x="906120" y="5029200"/>
            <a:ext cx="8542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HL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34" name="Text Box 13"/>
          <p:cNvSpPr/>
          <p:nvPr/>
        </p:nvSpPr>
        <p:spPr>
          <a:xfrm>
            <a:off x="3314880" y="1650960"/>
            <a:ext cx="38988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doni SvtyTwo ITC TT-Book"/>
              </a:rPr>
              <a:t>∆</a:t>
            </a:r>
            <a:r>
              <a:rPr b="0" lang="en-US" sz="4400" spc="-1" strike="noStrike">
                <a:solidFill>
                  <a:srgbClr val="000000"/>
                </a:solidFill>
                <a:latin typeface="Bodoni SvtyTwo ITC TT-Book"/>
              </a:rPr>
              <a:t>ABC        ∆DEC</a:t>
            </a:r>
            <a:endParaRPr b="0" lang="en-US" sz="4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535" name="Picture 14" descr=""/>
          <p:cNvPicPr/>
          <p:nvPr/>
        </p:nvPicPr>
        <p:blipFill>
          <a:blip r:embed="rId1"/>
          <a:stretch/>
        </p:blipFill>
        <p:spPr>
          <a:xfrm>
            <a:off x="4800600" y="1231920"/>
            <a:ext cx="812880" cy="124452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15" descr=""/>
          <p:cNvPicPr/>
          <p:nvPr/>
        </p:nvPicPr>
        <p:blipFill>
          <a:blip r:embed="rId2"/>
          <a:stretch/>
        </p:blipFill>
        <p:spPr>
          <a:xfrm>
            <a:off x="3181320" y="2273400"/>
            <a:ext cx="4000680" cy="3124080"/>
          </a:xfrm>
          <a:prstGeom prst="rect">
            <a:avLst/>
          </a:prstGeom>
          <a:ln w="0">
            <a:noFill/>
          </a:ln>
        </p:spPr>
      </p:pic>
      <p:sp>
        <p:nvSpPr>
          <p:cNvPr id="537" name="Freeform 16"/>
          <p:cNvSpPr/>
          <p:nvPr/>
        </p:nvSpPr>
        <p:spPr>
          <a:xfrm rot="840000">
            <a:off x="3758760" y="3581280"/>
            <a:ext cx="203400" cy="3175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0"/>
                </a:lnTo>
                <a:cubicBezTo>
                  <a:pt x="10000" y="5522"/>
                  <a:pt x="5522" y="10000"/>
                  <a:pt x="0" y="10000"/>
                </a:cubicBez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noFill/>
          <a:ln w="38160">
            <a:solidFill>
              <a:srgbClr val="e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38" name="Freeform 17"/>
          <p:cNvSpPr/>
          <p:nvPr/>
        </p:nvSpPr>
        <p:spPr>
          <a:xfrm rot="12299400">
            <a:off x="6374520" y="3695400"/>
            <a:ext cx="203400" cy="3175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0"/>
                </a:lnTo>
                <a:cubicBezTo>
                  <a:pt x="10000" y="5522"/>
                  <a:pt x="5522" y="10000"/>
                  <a:pt x="0" y="10000"/>
                </a:cubicBez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noFill/>
          <a:ln w="38160">
            <a:solidFill>
              <a:srgbClr val="e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39" name="Line 18"/>
          <p:cNvSpPr/>
          <p:nvPr/>
        </p:nvSpPr>
        <p:spPr>
          <a:xfrm flipH="1">
            <a:off x="4393800" y="3505320"/>
            <a:ext cx="50760" cy="304560"/>
          </a:xfrm>
          <a:prstGeom prst="line">
            <a:avLst/>
          </a:prstGeom>
          <a:ln w="38160">
            <a:solidFill>
              <a:srgbClr val="e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40" name="Line 19"/>
          <p:cNvSpPr/>
          <p:nvPr/>
        </p:nvSpPr>
        <p:spPr>
          <a:xfrm flipH="1">
            <a:off x="5816160" y="3759120"/>
            <a:ext cx="50760" cy="304920"/>
          </a:xfrm>
          <a:prstGeom prst="line">
            <a:avLst/>
          </a:prstGeom>
          <a:ln w="38160">
            <a:solidFill>
              <a:srgbClr val="e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transition spd="med"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542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543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544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545" name="Text Box 5"/>
          <p:cNvSpPr/>
          <p:nvPr/>
        </p:nvSpPr>
        <p:spPr>
          <a:xfrm>
            <a:off x="511200" y="-15840"/>
            <a:ext cx="765504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Proving  ∆s  Congruent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46" name="Line 6"/>
          <p:cNvSpPr/>
          <p:nvPr/>
        </p:nvSpPr>
        <p:spPr>
          <a:xfrm>
            <a:off x="574560" y="96192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47" name="Text Box 7"/>
          <p:cNvSpPr/>
          <p:nvPr/>
        </p:nvSpPr>
        <p:spPr>
          <a:xfrm>
            <a:off x="853560" y="1663560"/>
            <a:ext cx="11116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SSS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48" name="Text Box 8"/>
          <p:cNvSpPr/>
          <p:nvPr/>
        </p:nvSpPr>
        <p:spPr>
          <a:xfrm>
            <a:off x="855720" y="2476440"/>
            <a:ext cx="11710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SAS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49" name="Text Box 9"/>
          <p:cNvSpPr/>
          <p:nvPr/>
        </p:nvSpPr>
        <p:spPr>
          <a:xfrm>
            <a:off x="622440" y="990720"/>
            <a:ext cx="74548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Bodoni SvtyTwo ITC TT-Book"/>
              </a:rPr>
              <a:t>Choose a Method to Prove:</a:t>
            </a:r>
            <a:endParaRPr b="0" lang="en-US" sz="4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50" name="Text Box 10"/>
          <p:cNvSpPr/>
          <p:nvPr/>
        </p:nvSpPr>
        <p:spPr>
          <a:xfrm>
            <a:off x="864000" y="3289320"/>
            <a:ext cx="12304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ASA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51" name="Text Box 11"/>
          <p:cNvSpPr/>
          <p:nvPr/>
        </p:nvSpPr>
        <p:spPr>
          <a:xfrm>
            <a:off x="864000" y="4178160"/>
            <a:ext cx="12304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AAS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52" name="Text Box 12"/>
          <p:cNvSpPr/>
          <p:nvPr/>
        </p:nvSpPr>
        <p:spPr>
          <a:xfrm>
            <a:off x="906120" y="5029200"/>
            <a:ext cx="8542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HL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53" name="Text Box 13"/>
          <p:cNvSpPr/>
          <p:nvPr/>
        </p:nvSpPr>
        <p:spPr>
          <a:xfrm>
            <a:off x="3314880" y="1650960"/>
            <a:ext cx="38988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doni SvtyTwo ITC TT-Book"/>
              </a:rPr>
              <a:t>∆</a:t>
            </a:r>
            <a:r>
              <a:rPr b="0" lang="en-US" sz="4400" spc="-1" strike="noStrike">
                <a:solidFill>
                  <a:srgbClr val="000000"/>
                </a:solidFill>
                <a:latin typeface="Bodoni SvtyTwo ITC TT-Book"/>
              </a:rPr>
              <a:t>ABC        ∆DEC</a:t>
            </a:r>
            <a:endParaRPr b="0" lang="en-US" sz="4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554" name="Picture 14" descr=""/>
          <p:cNvPicPr/>
          <p:nvPr/>
        </p:nvPicPr>
        <p:blipFill>
          <a:blip r:embed="rId1"/>
          <a:stretch/>
        </p:blipFill>
        <p:spPr>
          <a:xfrm>
            <a:off x="4800600" y="1231920"/>
            <a:ext cx="812880" cy="1244520"/>
          </a:xfrm>
          <a:prstGeom prst="rect">
            <a:avLst/>
          </a:prstGeom>
          <a:ln w="0">
            <a:noFill/>
          </a:ln>
        </p:spPr>
      </p:pic>
      <p:sp>
        <p:nvSpPr>
          <p:cNvPr id="555" name="Freeform 15"/>
          <p:cNvSpPr/>
          <p:nvPr/>
        </p:nvSpPr>
        <p:spPr>
          <a:xfrm>
            <a:off x="698400" y="3263760"/>
            <a:ext cx="1600200" cy="914400"/>
          </a:xfrm>
          <a:custGeom>
            <a:avLst/>
            <a:gdLst/>
            <a:ahLst/>
            <a:rect l="l" t="t" r="r" b="b"/>
            <a:pathLst>
              <a:path w="9111" h="9111">
                <a:moveTo>
                  <a:pt x="7777" y="1334"/>
                </a:moveTo>
                <a:cubicBezTo>
                  <a:pt x="9556" y="3113"/>
                  <a:pt x="9556" y="5998"/>
                  <a:pt x="7777" y="7777"/>
                </a:cubicBezTo>
                <a:cubicBezTo>
                  <a:pt x="5998" y="9556"/>
                  <a:pt x="3113" y="9556"/>
                  <a:pt x="1334" y="7777"/>
                </a:cubicBezTo>
                <a:cubicBezTo>
                  <a:pt x="-444" y="5998"/>
                  <a:pt x="-444" y="3113"/>
                  <a:pt x="1334" y="1334"/>
                </a:cubicBezTo>
                <a:cubicBezTo>
                  <a:pt x="3113" y="-444"/>
                  <a:pt x="5998" y="-444"/>
                  <a:pt x="7777" y="1334"/>
                </a:cubicBezTo>
              </a:path>
            </a:pathLst>
          </a:custGeom>
          <a:noFill/>
          <a:ln w="76320">
            <a:solidFill>
              <a:srgbClr val="0000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556" name="Picture 16" descr=""/>
          <p:cNvPicPr/>
          <p:nvPr/>
        </p:nvPicPr>
        <p:blipFill>
          <a:blip r:embed="rId2"/>
          <a:stretch/>
        </p:blipFill>
        <p:spPr>
          <a:xfrm>
            <a:off x="3181320" y="2273400"/>
            <a:ext cx="4000680" cy="3124080"/>
          </a:xfrm>
          <a:prstGeom prst="rect">
            <a:avLst/>
          </a:prstGeom>
          <a:ln w="0">
            <a:noFill/>
          </a:ln>
        </p:spPr>
      </p:pic>
      <p:sp>
        <p:nvSpPr>
          <p:cNvPr id="557" name="Freeform 17"/>
          <p:cNvSpPr/>
          <p:nvPr/>
        </p:nvSpPr>
        <p:spPr>
          <a:xfrm rot="840000">
            <a:off x="3758760" y="3581280"/>
            <a:ext cx="203400" cy="3175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0"/>
                </a:lnTo>
                <a:cubicBezTo>
                  <a:pt x="10000" y="5522"/>
                  <a:pt x="5522" y="10000"/>
                  <a:pt x="0" y="10000"/>
                </a:cubicBez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noFill/>
          <a:ln w="38160">
            <a:solidFill>
              <a:srgbClr val="e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58" name="Freeform 18"/>
          <p:cNvSpPr/>
          <p:nvPr/>
        </p:nvSpPr>
        <p:spPr>
          <a:xfrm rot="12299400">
            <a:off x="6374520" y="3695400"/>
            <a:ext cx="203400" cy="3175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0"/>
                </a:lnTo>
                <a:cubicBezTo>
                  <a:pt x="10000" y="5522"/>
                  <a:pt x="5522" y="10000"/>
                  <a:pt x="0" y="10000"/>
                </a:cubicBez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noFill/>
          <a:ln w="38160">
            <a:solidFill>
              <a:srgbClr val="e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59" name="Line 19"/>
          <p:cNvSpPr/>
          <p:nvPr/>
        </p:nvSpPr>
        <p:spPr>
          <a:xfrm flipH="1">
            <a:off x="4393800" y="3505320"/>
            <a:ext cx="50760" cy="304560"/>
          </a:xfrm>
          <a:prstGeom prst="line">
            <a:avLst/>
          </a:prstGeom>
          <a:ln w="38160">
            <a:solidFill>
              <a:srgbClr val="e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60" name="Line 20"/>
          <p:cNvSpPr/>
          <p:nvPr/>
        </p:nvSpPr>
        <p:spPr>
          <a:xfrm flipH="1">
            <a:off x="5816160" y="3759120"/>
            <a:ext cx="50760" cy="304920"/>
          </a:xfrm>
          <a:prstGeom prst="line">
            <a:avLst/>
          </a:prstGeom>
          <a:ln w="38160">
            <a:solidFill>
              <a:srgbClr val="e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transition spd="med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1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562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563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564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565" name="Text Box 5"/>
          <p:cNvSpPr/>
          <p:nvPr/>
        </p:nvSpPr>
        <p:spPr>
          <a:xfrm>
            <a:off x="511200" y="-15840"/>
            <a:ext cx="765504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Proving  ∆s  Congruent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66" name="Line 6"/>
          <p:cNvSpPr/>
          <p:nvPr/>
        </p:nvSpPr>
        <p:spPr>
          <a:xfrm>
            <a:off x="574560" y="96192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67" name="Text Box 7"/>
          <p:cNvSpPr/>
          <p:nvPr/>
        </p:nvSpPr>
        <p:spPr>
          <a:xfrm>
            <a:off x="853560" y="1663560"/>
            <a:ext cx="11116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SSS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68" name="Text Box 8"/>
          <p:cNvSpPr/>
          <p:nvPr/>
        </p:nvSpPr>
        <p:spPr>
          <a:xfrm>
            <a:off x="855720" y="2476440"/>
            <a:ext cx="11710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SAS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69" name="Text Box 9"/>
          <p:cNvSpPr/>
          <p:nvPr/>
        </p:nvSpPr>
        <p:spPr>
          <a:xfrm>
            <a:off x="622440" y="990720"/>
            <a:ext cx="74548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Bodoni SvtyTwo ITC TT-Book"/>
              </a:rPr>
              <a:t>Choose a Method to Prove:</a:t>
            </a:r>
            <a:endParaRPr b="0" lang="en-US" sz="4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70" name="Text Box 10"/>
          <p:cNvSpPr/>
          <p:nvPr/>
        </p:nvSpPr>
        <p:spPr>
          <a:xfrm>
            <a:off x="864000" y="3289320"/>
            <a:ext cx="12304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ASA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71" name="Text Box 11"/>
          <p:cNvSpPr/>
          <p:nvPr/>
        </p:nvSpPr>
        <p:spPr>
          <a:xfrm>
            <a:off x="864000" y="4178160"/>
            <a:ext cx="12304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AAS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72" name="Text Box 12"/>
          <p:cNvSpPr/>
          <p:nvPr/>
        </p:nvSpPr>
        <p:spPr>
          <a:xfrm>
            <a:off x="906120" y="5029200"/>
            <a:ext cx="8542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HL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73" name="Text Box 13"/>
          <p:cNvSpPr/>
          <p:nvPr/>
        </p:nvSpPr>
        <p:spPr>
          <a:xfrm>
            <a:off x="3314880" y="1650960"/>
            <a:ext cx="38988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doni SvtyTwo ITC TT-Book"/>
              </a:rPr>
              <a:t>∆</a:t>
            </a:r>
            <a:r>
              <a:rPr b="0" lang="en-US" sz="4400" spc="-1" strike="noStrike">
                <a:solidFill>
                  <a:srgbClr val="000000"/>
                </a:solidFill>
                <a:latin typeface="Bodoni SvtyTwo ITC TT-Book"/>
              </a:rPr>
              <a:t>ABC        ∆DEC</a:t>
            </a:r>
            <a:endParaRPr b="0" lang="en-US" sz="4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574" name="Picture 14" descr=""/>
          <p:cNvPicPr/>
          <p:nvPr/>
        </p:nvPicPr>
        <p:blipFill>
          <a:blip r:embed="rId1"/>
          <a:stretch/>
        </p:blipFill>
        <p:spPr>
          <a:xfrm>
            <a:off x="4800600" y="1231920"/>
            <a:ext cx="812880" cy="1244520"/>
          </a:xfrm>
          <a:prstGeom prst="rect">
            <a:avLst/>
          </a:prstGeom>
          <a:ln w="0">
            <a:noFill/>
          </a:ln>
        </p:spPr>
      </p:pic>
      <p:sp>
        <p:nvSpPr>
          <p:cNvPr id="575" name="Freeform 15"/>
          <p:cNvSpPr/>
          <p:nvPr/>
        </p:nvSpPr>
        <p:spPr>
          <a:xfrm>
            <a:off x="698400" y="3263760"/>
            <a:ext cx="1600200" cy="914400"/>
          </a:xfrm>
          <a:custGeom>
            <a:avLst/>
            <a:gdLst/>
            <a:ahLst/>
            <a:rect l="l" t="t" r="r" b="b"/>
            <a:pathLst>
              <a:path w="9111" h="9111">
                <a:moveTo>
                  <a:pt x="7777" y="1334"/>
                </a:moveTo>
                <a:cubicBezTo>
                  <a:pt x="9556" y="3113"/>
                  <a:pt x="9556" y="5998"/>
                  <a:pt x="7777" y="7777"/>
                </a:cubicBezTo>
                <a:cubicBezTo>
                  <a:pt x="5998" y="9556"/>
                  <a:pt x="3113" y="9556"/>
                  <a:pt x="1334" y="7777"/>
                </a:cubicBezTo>
                <a:cubicBezTo>
                  <a:pt x="-444" y="5998"/>
                  <a:pt x="-444" y="3113"/>
                  <a:pt x="1334" y="1334"/>
                </a:cubicBezTo>
                <a:cubicBezTo>
                  <a:pt x="3113" y="-444"/>
                  <a:pt x="5998" y="-444"/>
                  <a:pt x="7777" y="1334"/>
                </a:cubicBezTo>
              </a:path>
            </a:pathLst>
          </a:custGeom>
          <a:noFill/>
          <a:ln w="76320">
            <a:solidFill>
              <a:srgbClr val="0000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576" name="Picture 16" descr=""/>
          <p:cNvPicPr/>
          <p:nvPr/>
        </p:nvPicPr>
        <p:blipFill>
          <a:blip r:embed="rId2"/>
          <a:stretch/>
        </p:blipFill>
        <p:spPr>
          <a:xfrm>
            <a:off x="3181320" y="2273400"/>
            <a:ext cx="4000680" cy="3124080"/>
          </a:xfrm>
          <a:prstGeom prst="rect">
            <a:avLst/>
          </a:prstGeom>
          <a:ln w="0">
            <a:noFill/>
          </a:ln>
        </p:spPr>
      </p:pic>
      <p:sp>
        <p:nvSpPr>
          <p:cNvPr id="577" name="Freeform 17"/>
          <p:cNvSpPr/>
          <p:nvPr/>
        </p:nvSpPr>
        <p:spPr>
          <a:xfrm rot="840000">
            <a:off x="3758760" y="3581280"/>
            <a:ext cx="203400" cy="3175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0"/>
                </a:lnTo>
                <a:cubicBezTo>
                  <a:pt x="10000" y="5522"/>
                  <a:pt x="5522" y="10000"/>
                  <a:pt x="0" y="10000"/>
                </a:cubicBez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noFill/>
          <a:ln w="38160">
            <a:solidFill>
              <a:srgbClr val="e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78" name="Freeform 18"/>
          <p:cNvSpPr/>
          <p:nvPr/>
        </p:nvSpPr>
        <p:spPr>
          <a:xfrm rot="12299400">
            <a:off x="6374520" y="3695400"/>
            <a:ext cx="203400" cy="3175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0"/>
                </a:lnTo>
                <a:cubicBezTo>
                  <a:pt x="10000" y="5522"/>
                  <a:pt x="5522" y="10000"/>
                  <a:pt x="0" y="10000"/>
                </a:cubicBez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noFill/>
          <a:ln w="38160">
            <a:solidFill>
              <a:srgbClr val="e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79" name="Line 19"/>
          <p:cNvSpPr/>
          <p:nvPr/>
        </p:nvSpPr>
        <p:spPr>
          <a:xfrm flipH="1">
            <a:off x="4393800" y="3505320"/>
            <a:ext cx="50760" cy="304560"/>
          </a:xfrm>
          <a:prstGeom prst="line">
            <a:avLst/>
          </a:prstGeom>
          <a:ln w="38160">
            <a:solidFill>
              <a:srgbClr val="e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80" name="Line 20"/>
          <p:cNvSpPr/>
          <p:nvPr/>
        </p:nvSpPr>
        <p:spPr>
          <a:xfrm flipH="1">
            <a:off x="5816160" y="3759120"/>
            <a:ext cx="50760" cy="304920"/>
          </a:xfrm>
          <a:prstGeom prst="line">
            <a:avLst/>
          </a:prstGeom>
          <a:ln w="38160">
            <a:solidFill>
              <a:srgbClr val="e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81" name="Freeform 21"/>
          <p:cNvSpPr/>
          <p:nvPr/>
        </p:nvSpPr>
        <p:spPr>
          <a:xfrm rot="18840000">
            <a:off x="5537160" y="3541680"/>
            <a:ext cx="203040" cy="3175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0"/>
                </a:lnTo>
                <a:cubicBezTo>
                  <a:pt x="10000" y="5522"/>
                  <a:pt x="5522" y="10000"/>
                  <a:pt x="0" y="10000"/>
                </a:cubicBez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82" name="Freeform 22"/>
          <p:cNvSpPr/>
          <p:nvPr/>
        </p:nvSpPr>
        <p:spPr>
          <a:xfrm rot="8100000">
            <a:off x="4634640" y="3758760"/>
            <a:ext cx="203400" cy="3175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0"/>
                </a:lnTo>
                <a:cubicBezTo>
                  <a:pt x="10000" y="5522"/>
                  <a:pt x="5522" y="10000"/>
                  <a:pt x="0" y="10000"/>
                </a:cubicBez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83" name="Freeform 23"/>
          <p:cNvSpPr/>
          <p:nvPr/>
        </p:nvSpPr>
        <p:spPr>
          <a:xfrm rot="8100000">
            <a:off x="4757040" y="3750840"/>
            <a:ext cx="160200" cy="2682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0"/>
                </a:lnTo>
                <a:cubicBezTo>
                  <a:pt x="10000" y="5522"/>
                  <a:pt x="5522" y="10000"/>
                  <a:pt x="0" y="10000"/>
                </a:cubicBez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84" name="Freeform 24"/>
          <p:cNvSpPr/>
          <p:nvPr/>
        </p:nvSpPr>
        <p:spPr>
          <a:xfrm rot="18840000">
            <a:off x="5427720" y="3579480"/>
            <a:ext cx="166680" cy="23004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0"/>
                </a:lnTo>
                <a:cubicBezTo>
                  <a:pt x="10000" y="5522"/>
                  <a:pt x="5522" y="10000"/>
                  <a:pt x="0" y="10000"/>
                </a:cubicBez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85" name="Text Box 25"/>
          <p:cNvSpPr/>
          <p:nvPr/>
        </p:nvSpPr>
        <p:spPr>
          <a:xfrm>
            <a:off x="3456000" y="5270400"/>
            <a:ext cx="4467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Bodoni SvtyTwo ITC TT-Book"/>
              </a:rPr>
              <a:t>vertical angles</a:t>
            </a:r>
            <a:endParaRPr b="0" lang="en-US" sz="48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transition spd="med"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6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587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588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589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pic>
        <p:nvPicPr>
          <p:cNvPr id="590" name="Picture 5" descr=""/>
          <p:cNvPicPr/>
          <p:nvPr/>
        </p:nvPicPr>
        <p:blipFill>
          <a:blip r:embed="rId1"/>
          <a:stretch/>
        </p:blipFill>
        <p:spPr>
          <a:xfrm>
            <a:off x="2635200" y="2495520"/>
            <a:ext cx="4940280" cy="3060720"/>
          </a:xfrm>
          <a:prstGeom prst="rect">
            <a:avLst/>
          </a:prstGeom>
          <a:ln w="0">
            <a:noFill/>
          </a:ln>
        </p:spPr>
      </p:pic>
      <p:sp>
        <p:nvSpPr>
          <p:cNvPr id="591" name="Text Box 6"/>
          <p:cNvSpPr/>
          <p:nvPr/>
        </p:nvSpPr>
        <p:spPr>
          <a:xfrm>
            <a:off x="511200" y="-15840"/>
            <a:ext cx="765504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Proving  ∆s  Congruent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92" name="Line 7"/>
          <p:cNvSpPr/>
          <p:nvPr/>
        </p:nvSpPr>
        <p:spPr>
          <a:xfrm>
            <a:off x="574560" y="96192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93" name="Text Box 8"/>
          <p:cNvSpPr/>
          <p:nvPr/>
        </p:nvSpPr>
        <p:spPr>
          <a:xfrm>
            <a:off x="853560" y="1663560"/>
            <a:ext cx="11116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SSS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94" name="Text Box 9"/>
          <p:cNvSpPr/>
          <p:nvPr/>
        </p:nvSpPr>
        <p:spPr>
          <a:xfrm>
            <a:off x="855720" y="2476440"/>
            <a:ext cx="11710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SAS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95" name="Text Box 10"/>
          <p:cNvSpPr/>
          <p:nvPr/>
        </p:nvSpPr>
        <p:spPr>
          <a:xfrm>
            <a:off x="622440" y="990720"/>
            <a:ext cx="74548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Bodoni SvtyTwo ITC TT-Book"/>
              </a:rPr>
              <a:t>Choose a Method to Prove:</a:t>
            </a:r>
            <a:endParaRPr b="0" lang="en-US" sz="4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96" name="Text Box 11"/>
          <p:cNvSpPr/>
          <p:nvPr/>
        </p:nvSpPr>
        <p:spPr>
          <a:xfrm>
            <a:off x="864000" y="3289320"/>
            <a:ext cx="12304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ASA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97" name="Text Box 12"/>
          <p:cNvSpPr/>
          <p:nvPr/>
        </p:nvSpPr>
        <p:spPr>
          <a:xfrm>
            <a:off x="864000" y="4178160"/>
            <a:ext cx="12304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AAS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98" name="Text Box 13"/>
          <p:cNvSpPr/>
          <p:nvPr/>
        </p:nvSpPr>
        <p:spPr>
          <a:xfrm>
            <a:off x="906120" y="5029200"/>
            <a:ext cx="8542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HL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599" name="Text Box 14"/>
          <p:cNvSpPr/>
          <p:nvPr/>
        </p:nvSpPr>
        <p:spPr>
          <a:xfrm>
            <a:off x="3314880" y="1650960"/>
            <a:ext cx="38988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doni SvtyTwo ITC TT-Book"/>
              </a:rPr>
              <a:t>∆</a:t>
            </a:r>
            <a:r>
              <a:rPr b="0" lang="en-US" sz="4400" spc="-1" strike="noStrike">
                <a:solidFill>
                  <a:srgbClr val="000000"/>
                </a:solidFill>
                <a:latin typeface="Bodoni SvtyTwo ITC TT-Book"/>
              </a:rPr>
              <a:t>ABD        ∆CDB</a:t>
            </a:r>
            <a:endParaRPr b="0" lang="en-US" sz="4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600" name="Picture 15" descr=""/>
          <p:cNvPicPr/>
          <p:nvPr/>
        </p:nvPicPr>
        <p:blipFill>
          <a:blip r:embed="rId2"/>
          <a:stretch/>
        </p:blipFill>
        <p:spPr>
          <a:xfrm>
            <a:off x="4800600" y="1231920"/>
            <a:ext cx="812880" cy="1244520"/>
          </a:xfrm>
          <a:prstGeom prst="rect">
            <a:avLst/>
          </a:prstGeom>
          <a:ln w="0">
            <a:noFill/>
          </a:ln>
        </p:spPr>
      </p:pic>
      <p:sp>
        <p:nvSpPr>
          <p:cNvPr id="601" name="Freeform 16"/>
          <p:cNvSpPr/>
          <p:nvPr/>
        </p:nvSpPr>
        <p:spPr>
          <a:xfrm rot="18120000">
            <a:off x="3185280" y="4440600"/>
            <a:ext cx="236520" cy="3175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0"/>
                </a:lnTo>
                <a:cubicBezTo>
                  <a:pt x="10000" y="5522"/>
                  <a:pt x="5522" y="10000"/>
                  <a:pt x="0" y="10000"/>
                </a:cubicBez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noFill/>
          <a:ln w="38160">
            <a:solidFill>
              <a:srgbClr val="e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602" name="Freeform 17"/>
          <p:cNvSpPr/>
          <p:nvPr/>
        </p:nvSpPr>
        <p:spPr>
          <a:xfrm rot="6239400">
            <a:off x="6855480" y="3221640"/>
            <a:ext cx="236520" cy="3175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0"/>
                </a:lnTo>
                <a:cubicBezTo>
                  <a:pt x="10000" y="5522"/>
                  <a:pt x="5522" y="10000"/>
                  <a:pt x="0" y="10000"/>
                </a:cubicBez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noFill/>
          <a:ln w="38160">
            <a:solidFill>
              <a:srgbClr val="e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transition spd="med"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3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604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605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606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pic>
        <p:nvPicPr>
          <p:cNvPr id="607" name="Picture 5" descr=""/>
          <p:cNvPicPr/>
          <p:nvPr/>
        </p:nvPicPr>
        <p:blipFill>
          <a:blip r:embed="rId1"/>
          <a:stretch/>
        </p:blipFill>
        <p:spPr>
          <a:xfrm>
            <a:off x="2635200" y="2495520"/>
            <a:ext cx="4940280" cy="3060720"/>
          </a:xfrm>
          <a:prstGeom prst="rect">
            <a:avLst/>
          </a:prstGeom>
          <a:ln w="0">
            <a:noFill/>
          </a:ln>
        </p:spPr>
      </p:pic>
      <p:sp>
        <p:nvSpPr>
          <p:cNvPr id="608" name="Text Box 6"/>
          <p:cNvSpPr/>
          <p:nvPr/>
        </p:nvSpPr>
        <p:spPr>
          <a:xfrm>
            <a:off x="511200" y="-15840"/>
            <a:ext cx="765504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Proving  ∆s  Congruent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609" name="Line 7"/>
          <p:cNvSpPr/>
          <p:nvPr/>
        </p:nvSpPr>
        <p:spPr>
          <a:xfrm>
            <a:off x="574560" y="96192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610" name="Text Box 8"/>
          <p:cNvSpPr/>
          <p:nvPr/>
        </p:nvSpPr>
        <p:spPr>
          <a:xfrm>
            <a:off x="853560" y="1663560"/>
            <a:ext cx="11116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SSS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611" name="Text Box 9"/>
          <p:cNvSpPr/>
          <p:nvPr/>
        </p:nvSpPr>
        <p:spPr>
          <a:xfrm>
            <a:off x="855720" y="2476440"/>
            <a:ext cx="11710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SAS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612" name="Text Box 10"/>
          <p:cNvSpPr/>
          <p:nvPr/>
        </p:nvSpPr>
        <p:spPr>
          <a:xfrm>
            <a:off x="622440" y="990720"/>
            <a:ext cx="74548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Bodoni SvtyTwo ITC TT-Book"/>
              </a:rPr>
              <a:t>Choose a Method to Prove:</a:t>
            </a:r>
            <a:endParaRPr b="0" lang="en-US" sz="4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613" name="Text Box 11"/>
          <p:cNvSpPr/>
          <p:nvPr/>
        </p:nvSpPr>
        <p:spPr>
          <a:xfrm>
            <a:off x="864000" y="3289320"/>
            <a:ext cx="12304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ASA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614" name="Text Box 12"/>
          <p:cNvSpPr/>
          <p:nvPr/>
        </p:nvSpPr>
        <p:spPr>
          <a:xfrm>
            <a:off x="864000" y="4178160"/>
            <a:ext cx="12304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AAS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615" name="Text Box 13"/>
          <p:cNvSpPr/>
          <p:nvPr/>
        </p:nvSpPr>
        <p:spPr>
          <a:xfrm>
            <a:off x="906120" y="5029200"/>
            <a:ext cx="8542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HL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616" name="Text Box 14"/>
          <p:cNvSpPr/>
          <p:nvPr/>
        </p:nvSpPr>
        <p:spPr>
          <a:xfrm>
            <a:off x="3314880" y="1650960"/>
            <a:ext cx="38988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doni SvtyTwo ITC TT-Book"/>
              </a:rPr>
              <a:t>∆</a:t>
            </a:r>
            <a:r>
              <a:rPr b="0" lang="en-US" sz="4400" spc="-1" strike="noStrike">
                <a:solidFill>
                  <a:srgbClr val="000000"/>
                </a:solidFill>
                <a:latin typeface="Bodoni SvtyTwo ITC TT-Book"/>
              </a:rPr>
              <a:t>ABD        ∆CDB</a:t>
            </a:r>
            <a:endParaRPr b="0" lang="en-US" sz="4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617" name="Picture 15" descr=""/>
          <p:cNvPicPr/>
          <p:nvPr/>
        </p:nvPicPr>
        <p:blipFill>
          <a:blip r:embed="rId2"/>
          <a:stretch/>
        </p:blipFill>
        <p:spPr>
          <a:xfrm>
            <a:off x="4800600" y="1231920"/>
            <a:ext cx="812880" cy="1244520"/>
          </a:xfrm>
          <a:prstGeom prst="rect">
            <a:avLst/>
          </a:prstGeom>
          <a:ln w="0">
            <a:noFill/>
          </a:ln>
        </p:spPr>
      </p:pic>
      <p:sp>
        <p:nvSpPr>
          <p:cNvPr id="618" name="Freeform 16"/>
          <p:cNvSpPr/>
          <p:nvPr/>
        </p:nvSpPr>
        <p:spPr>
          <a:xfrm>
            <a:off x="685800" y="4114800"/>
            <a:ext cx="1600200" cy="914400"/>
          </a:xfrm>
          <a:custGeom>
            <a:avLst/>
            <a:gdLst/>
            <a:ahLst/>
            <a:rect l="l" t="t" r="r" b="b"/>
            <a:pathLst>
              <a:path w="9111" h="9111">
                <a:moveTo>
                  <a:pt x="7777" y="1334"/>
                </a:moveTo>
                <a:cubicBezTo>
                  <a:pt x="9556" y="3113"/>
                  <a:pt x="9556" y="5998"/>
                  <a:pt x="7777" y="7777"/>
                </a:cubicBezTo>
                <a:cubicBezTo>
                  <a:pt x="5998" y="9556"/>
                  <a:pt x="3113" y="9556"/>
                  <a:pt x="1334" y="7777"/>
                </a:cubicBezTo>
                <a:cubicBezTo>
                  <a:pt x="-444" y="5998"/>
                  <a:pt x="-444" y="3113"/>
                  <a:pt x="1334" y="1334"/>
                </a:cubicBezTo>
                <a:cubicBezTo>
                  <a:pt x="3113" y="-444"/>
                  <a:pt x="5998" y="-444"/>
                  <a:pt x="7777" y="1334"/>
                </a:cubicBezTo>
              </a:path>
            </a:pathLst>
          </a:custGeom>
          <a:noFill/>
          <a:ln w="76320">
            <a:solidFill>
              <a:srgbClr val="0000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619" name="Freeform 17"/>
          <p:cNvSpPr/>
          <p:nvPr/>
        </p:nvSpPr>
        <p:spPr>
          <a:xfrm rot="18120000">
            <a:off x="3185280" y="4440600"/>
            <a:ext cx="236520" cy="3175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0"/>
                </a:lnTo>
                <a:cubicBezTo>
                  <a:pt x="10000" y="5522"/>
                  <a:pt x="5522" y="10000"/>
                  <a:pt x="0" y="10000"/>
                </a:cubicBez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noFill/>
          <a:ln w="38160">
            <a:solidFill>
              <a:srgbClr val="e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620" name="Freeform 18"/>
          <p:cNvSpPr/>
          <p:nvPr/>
        </p:nvSpPr>
        <p:spPr>
          <a:xfrm rot="6239400">
            <a:off x="6855480" y="3221640"/>
            <a:ext cx="236520" cy="3175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0"/>
                </a:lnTo>
                <a:cubicBezTo>
                  <a:pt x="10000" y="5522"/>
                  <a:pt x="5522" y="10000"/>
                  <a:pt x="0" y="10000"/>
                </a:cubicBez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noFill/>
          <a:ln w="38160">
            <a:solidFill>
              <a:srgbClr val="e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transition spd="med"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622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623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624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pic>
        <p:nvPicPr>
          <p:cNvPr id="625" name="Picture 5" descr=""/>
          <p:cNvPicPr/>
          <p:nvPr/>
        </p:nvPicPr>
        <p:blipFill>
          <a:blip r:embed="rId1"/>
          <a:stretch/>
        </p:blipFill>
        <p:spPr>
          <a:xfrm>
            <a:off x="2635200" y="2495520"/>
            <a:ext cx="4940280" cy="3060720"/>
          </a:xfrm>
          <a:prstGeom prst="rect">
            <a:avLst/>
          </a:prstGeom>
          <a:ln w="0">
            <a:noFill/>
          </a:ln>
        </p:spPr>
      </p:pic>
      <p:sp>
        <p:nvSpPr>
          <p:cNvPr id="626" name="Text Box 6"/>
          <p:cNvSpPr/>
          <p:nvPr/>
        </p:nvSpPr>
        <p:spPr>
          <a:xfrm>
            <a:off x="511200" y="-15840"/>
            <a:ext cx="765504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Proving  ∆s  Congruent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627" name="Line 7"/>
          <p:cNvSpPr/>
          <p:nvPr/>
        </p:nvSpPr>
        <p:spPr>
          <a:xfrm>
            <a:off x="574560" y="96192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628" name="Text Box 8"/>
          <p:cNvSpPr/>
          <p:nvPr/>
        </p:nvSpPr>
        <p:spPr>
          <a:xfrm>
            <a:off x="853560" y="1663560"/>
            <a:ext cx="11116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SSS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629" name="Text Box 9"/>
          <p:cNvSpPr/>
          <p:nvPr/>
        </p:nvSpPr>
        <p:spPr>
          <a:xfrm>
            <a:off x="855720" y="2476440"/>
            <a:ext cx="11710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SAS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630" name="Text Box 10"/>
          <p:cNvSpPr/>
          <p:nvPr/>
        </p:nvSpPr>
        <p:spPr>
          <a:xfrm>
            <a:off x="622440" y="990720"/>
            <a:ext cx="74548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Bodoni SvtyTwo ITC TT-Book"/>
              </a:rPr>
              <a:t>Choose a Method to Prove:</a:t>
            </a:r>
            <a:endParaRPr b="0" lang="en-US" sz="4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631" name="Text Box 11"/>
          <p:cNvSpPr/>
          <p:nvPr/>
        </p:nvSpPr>
        <p:spPr>
          <a:xfrm>
            <a:off x="864000" y="3289320"/>
            <a:ext cx="12304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ASA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632" name="Text Box 12"/>
          <p:cNvSpPr/>
          <p:nvPr/>
        </p:nvSpPr>
        <p:spPr>
          <a:xfrm>
            <a:off x="864000" y="4178160"/>
            <a:ext cx="12304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AAS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633" name="Text Box 13"/>
          <p:cNvSpPr/>
          <p:nvPr/>
        </p:nvSpPr>
        <p:spPr>
          <a:xfrm>
            <a:off x="906120" y="5029200"/>
            <a:ext cx="8542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Bodoni SvtyTwo ITC TT-Book"/>
              </a:rPr>
              <a:t>HL</a:t>
            </a:r>
            <a:endParaRPr b="0" lang="en-US" sz="5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634" name="Text Box 14"/>
          <p:cNvSpPr/>
          <p:nvPr/>
        </p:nvSpPr>
        <p:spPr>
          <a:xfrm>
            <a:off x="3314880" y="1650960"/>
            <a:ext cx="38988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doni SvtyTwo ITC TT-Book"/>
              </a:rPr>
              <a:t>∆</a:t>
            </a:r>
            <a:r>
              <a:rPr b="0" lang="en-US" sz="4400" spc="-1" strike="noStrike">
                <a:solidFill>
                  <a:srgbClr val="000000"/>
                </a:solidFill>
                <a:latin typeface="Bodoni SvtyTwo ITC TT-Book"/>
              </a:rPr>
              <a:t>ABD        ∆CDB</a:t>
            </a:r>
            <a:endParaRPr b="0" lang="en-US" sz="4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635" name="Picture 15" descr=""/>
          <p:cNvPicPr/>
          <p:nvPr/>
        </p:nvPicPr>
        <p:blipFill>
          <a:blip r:embed="rId2"/>
          <a:stretch/>
        </p:blipFill>
        <p:spPr>
          <a:xfrm>
            <a:off x="4800600" y="1231920"/>
            <a:ext cx="812880" cy="1244520"/>
          </a:xfrm>
          <a:prstGeom prst="rect">
            <a:avLst/>
          </a:prstGeom>
          <a:ln w="0">
            <a:noFill/>
          </a:ln>
        </p:spPr>
      </p:pic>
      <p:sp>
        <p:nvSpPr>
          <p:cNvPr id="636" name="Freeform 16"/>
          <p:cNvSpPr/>
          <p:nvPr/>
        </p:nvSpPr>
        <p:spPr>
          <a:xfrm>
            <a:off x="685800" y="4114800"/>
            <a:ext cx="1600200" cy="914400"/>
          </a:xfrm>
          <a:custGeom>
            <a:avLst/>
            <a:gdLst/>
            <a:ahLst/>
            <a:rect l="l" t="t" r="r" b="b"/>
            <a:pathLst>
              <a:path w="9111" h="9111">
                <a:moveTo>
                  <a:pt x="7777" y="1334"/>
                </a:moveTo>
                <a:cubicBezTo>
                  <a:pt x="9556" y="3113"/>
                  <a:pt x="9556" y="5998"/>
                  <a:pt x="7777" y="7777"/>
                </a:cubicBezTo>
                <a:cubicBezTo>
                  <a:pt x="5998" y="9556"/>
                  <a:pt x="3113" y="9556"/>
                  <a:pt x="1334" y="7777"/>
                </a:cubicBezTo>
                <a:cubicBezTo>
                  <a:pt x="-444" y="5998"/>
                  <a:pt x="-444" y="3113"/>
                  <a:pt x="1334" y="1334"/>
                </a:cubicBezTo>
                <a:cubicBezTo>
                  <a:pt x="3113" y="-444"/>
                  <a:pt x="5998" y="-444"/>
                  <a:pt x="7777" y="1334"/>
                </a:cubicBezTo>
              </a:path>
            </a:pathLst>
          </a:custGeom>
          <a:noFill/>
          <a:ln w="76320">
            <a:solidFill>
              <a:srgbClr val="0000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637" name="Line 17"/>
          <p:cNvSpPr/>
          <p:nvPr/>
        </p:nvSpPr>
        <p:spPr>
          <a:xfrm flipH="1">
            <a:off x="4952880" y="3825720"/>
            <a:ext cx="216000" cy="27972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638" name="Text Box 18"/>
          <p:cNvSpPr/>
          <p:nvPr/>
        </p:nvSpPr>
        <p:spPr>
          <a:xfrm>
            <a:off x="1512000" y="5337000"/>
            <a:ext cx="716184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9900"/>
                </a:solidFill>
                <a:latin typeface="Bodoni SvtyTwo ITC TT-Book"/>
              </a:rPr>
              <a:t>alt. int. angles /reflexive side</a:t>
            </a:r>
            <a:endParaRPr b="0" lang="en-US" sz="39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639" name="Freeform 19"/>
          <p:cNvSpPr/>
          <p:nvPr/>
        </p:nvSpPr>
        <p:spPr>
          <a:xfrm rot="21000000">
            <a:off x="4506840" y="3224160"/>
            <a:ext cx="203400" cy="3175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0"/>
                </a:lnTo>
                <a:cubicBezTo>
                  <a:pt x="10000" y="5522"/>
                  <a:pt x="5522" y="10000"/>
                  <a:pt x="0" y="10000"/>
                </a:cubicBez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640" name="Freeform 20"/>
          <p:cNvSpPr/>
          <p:nvPr/>
        </p:nvSpPr>
        <p:spPr>
          <a:xfrm rot="10139400">
            <a:off x="5524200" y="4470120"/>
            <a:ext cx="241200" cy="29196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0"/>
                </a:lnTo>
                <a:cubicBezTo>
                  <a:pt x="10000" y="5522"/>
                  <a:pt x="5522" y="10000"/>
                  <a:pt x="0" y="10000"/>
                </a:cubicBez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641" name="Freeform 21"/>
          <p:cNvSpPr/>
          <p:nvPr/>
        </p:nvSpPr>
        <p:spPr>
          <a:xfrm rot="18120000">
            <a:off x="3185280" y="4440600"/>
            <a:ext cx="236520" cy="3175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0"/>
                </a:lnTo>
                <a:cubicBezTo>
                  <a:pt x="10000" y="5522"/>
                  <a:pt x="5522" y="10000"/>
                  <a:pt x="0" y="10000"/>
                </a:cubicBez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noFill/>
          <a:ln w="38160">
            <a:solidFill>
              <a:srgbClr val="e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642" name="Freeform 22"/>
          <p:cNvSpPr/>
          <p:nvPr/>
        </p:nvSpPr>
        <p:spPr>
          <a:xfrm rot="6239400">
            <a:off x="6855480" y="3221640"/>
            <a:ext cx="236520" cy="3175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0"/>
                </a:lnTo>
                <a:cubicBezTo>
                  <a:pt x="10000" y="5522"/>
                  <a:pt x="5522" y="10000"/>
                  <a:pt x="0" y="10000"/>
                </a:cubicBez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noFill/>
          <a:ln w="38160">
            <a:solidFill>
              <a:srgbClr val="e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643" name="Freeform 23"/>
          <p:cNvSpPr/>
          <p:nvPr/>
        </p:nvSpPr>
        <p:spPr>
          <a:xfrm rot="21000000">
            <a:off x="4371480" y="3214440"/>
            <a:ext cx="195480" cy="2365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0"/>
                </a:lnTo>
                <a:cubicBezTo>
                  <a:pt x="10000" y="5522"/>
                  <a:pt x="5522" y="10000"/>
                  <a:pt x="0" y="10000"/>
                </a:cubicBez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644" name="Freeform 24"/>
          <p:cNvSpPr/>
          <p:nvPr/>
        </p:nvSpPr>
        <p:spPr>
          <a:xfrm rot="10139400">
            <a:off x="5655960" y="4548960"/>
            <a:ext cx="191880" cy="1954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0"/>
                </a:lnTo>
                <a:cubicBezTo>
                  <a:pt x="10000" y="5522"/>
                  <a:pt x="5522" y="10000"/>
                  <a:pt x="0" y="10000"/>
                </a:cubicBez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76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77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78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79" name="Text Box 5"/>
          <p:cNvSpPr/>
          <p:nvPr/>
        </p:nvSpPr>
        <p:spPr>
          <a:xfrm>
            <a:off x="1295280" y="165240"/>
            <a:ext cx="6413760" cy="22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Bodoni SvtyTwo ITC TT-Book"/>
              </a:rPr>
              <a:t>Conditional Statements</a:t>
            </a:r>
            <a:endParaRPr b="0" lang="en-US" sz="5000" spc="-1" strike="noStrike">
              <a:solidFill>
                <a:srgbClr val="000000"/>
              </a:solidFill>
              <a:latin typeface="Bodoni SvtyTwo ITC TT-Book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Bodoni SvtyTwo ITC TT-Book"/>
              </a:rPr>
              <a:t>  “ </a:t>
            </a:r>
            <a:r>
              <a:rPr b="0" lang="en-US" sz="5000" spc="-1" strike="noStrike">
                <a:solidFill>
                  <a:srgbClr val="000000"/>
                </a:solidFill>
                <a:latin typeface="Bodoni SvtyTwo ITC TT-Book"/>
              </a:rPr>
              <a:t>If    </a:t>
            </a:r>
            <a:r>
              <a:rPr b="0" lang="en-US" sz="5000" spc="-1" strike="noStrike">
                <a:solidFill>
                  <a:srgbClr val="000000"/>
                </a:solidFill>
                <a:latin typeface="Bradley Hand ITC TT-Bold"/>
              </a:rPr>
              <a:t>p</a:t>
            </a:r>
            <a:r>
              <a:rPr b="0" lang="en-US" sz="5000" spc="-1" strike="noStrike">
                <a:solidFill>
                  <a:srgbClr val="000000"/>
                </a:solidFill>
                <a:latin typeface="Bodoni SvtyTwo ITC TT-Book"/>
              </a:rPr>
              <a:t>    then   </a:t>
            </a:r>
            <a:r>
              <a:rPr b="0" lang="en-US" sz="5000" spc="-1" strike="noStrike">
                <a:solidFill>
                  <a:srgbClr val="000000"/>
                </a:solidFill>
                <a:latin typeface="Bradley Hand ITC TT-Bold"/>
              </a:rPr>
              <a:t>q</a:t>
            </a:r>
            <a:r>
              <a:rPr b="0" lang="en-US" sz="5000" spc="-1" strike="noStrike">
                <a:solidFill>
                  <a:srgbClr val="000000"/>
                </a:solidFill>
                <a:latin typeface="Bodoni SvtyTwo ITC TT-Book"/>
              </a:rPr>
              <a:t>. ”</a:t>
            </a:r>
            <a:endParaRPr b="0" lang="en-US" sz="5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635040" y="2019240"/>
            <a:ext cx="223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C</a:t>
            </a: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onverse: 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674640" y="2798640"/>
            <a:ext cx="22208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I</a:t>
            </a: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nverse: 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1714680" y="4457880"/>
            <a:ext cx="1942920" cy="15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Bodoni SvtyTwo ITC TT-Book"/>
              </a:rPr>
              <a:t>The </a:t>
            </a:r>
            <a:endParaRPr b="0" lang="en-US" sz="3300" spc="-1" strike="noStrike">
              <a:solidFill>
                <a:srgbClr val="000000"/>
              </a:solidFill>
              <a:latin typeface="Bodoni SvtyTwo ITC TT-Book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Bodoni SvtyTwo ITC TT-Book"/>
              </a:rPr>
              <a:t>Law of Syllogism </a:t>
            </a:r>
            <a:endParaRPr b="0" lang="en-US" sz="3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615960" y="3583080"/>
            <a:ext cx="296532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C</a:t>
            </a: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ontrapositive: 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2819520" y="2082960"/>
            <a:ext cx="506736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Bodoni SvtyTwo ITC TT-Book"/>
              </a:rPr>
              <a:t>“ </a:t>
            </a:r>
            <a:r>
              <a:rPr b="0" lang="en-US" sz="4500" spc="-1" strike="noStrike">
                <a:solidFill>
                  <a:srgbClr val="000000"/>
                </a:solidFill>
                <a:latin typeface="Bodoni SvtyTwo ITC TT-Book"/>
              </a:rPr>
              <a:t>If    </a:t>
            </a:r>
            <a:r>
              <a:rPr b="0" lang="en-US" sz="4500" spc="-1" strike="noStrike">
                <a:solidFill>
                  <a:srgbClr val="000000"/>
                </a:solidFill>
                <a:latin typeface="Bradley Hand ITC TT-Bold"/>
              </a:rPr>
              <a:t>q</a:t>
            </a:r>
            <a:r>
              <a:rPr b="0" lang="en-US" sz="4500" spc="-1" strike="noStrike">
                <a:solidFill>
                  <a:srgbClr val="000000"/>
                </a:solidFill>
                <a:latin typeface="Bodoni SvtyTwo ITC TT-Book"/>
              </a:rPr>
              <a:t>    then   </a:t>
            </a:r>
            <a:r>
              <a:rPr b="0" lang="en-US" sz="4500" spc="-1" strike="noStrike">
                <a:solidFill>
                  <a:srgbClr val="000000"/>
                </a:solidFill>
                <a:latin typeface="Bradley Hand ITC TT-Bold"/>
              </a:rPr>
              <a:t>p</a:t>
            </a:r>
            <a:r>
              <a:rPr b="0" lang="en-US" sz="4500" spc="-1" strike="noStrike">
                <a:solidFill>
                  <a:srgbClr val="000000"/>
                </a:solidFill>
                <a:latin typeface="Bodoni SvtyTwo ITC TT-Book"/>
              </a:rPr>
              <a:t>. ”</a:t>
            </a:r>
            <a:endParaRPr b="0" lang="en-US" sz="45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3073320" y="2844720"/>
            <a:ext cx="506736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Bodoni SvtyTwo ITC TT-Book"/>
              </a:rPr>
              <a:t>“ </a:t>
            </a:r>
            <a:r>
              <a:rPr b="0" lang="en-US" sz="4500" spc="-1" strike="noStrike">
                <a:solidFill>
                  <a:srgbClr val="000000"/>
                </a:solidFill>
                <a:latin typeface="Bodoni SvtyTwo ITC TT-Book"/>
              </a:rPr>
              <a:t>If    - </a:t>
            </a:r>
            <a:r>
              <a:rPr b="0" lang="en-US" sz="4500" spc="-1" strike="noStrike">
                <a:solidFill>
                  <a:srgbClr val="000000"/>
                </a:solidFill>
                <a:latin typeface="Bradley Hand ITC TT-Bold"/>
              </a:rPr>
              <a:t>p</a:t>
            </a:r>
            <a:r>
              <a:rPr b="0" lang="en-US" sz="4500" spc="-1" strike="noStrike">
                <a:solidFill>
                  <a:srgbClr val="000000"/>
                </a:solidFill>
                <a:latin typeface="Bodoni SvtyTwo ITC TT-Book"/>
              </a:rPr>
              <a:t>    then   - </a:t>
            </a:r>
            <a:r>
              <a:rPr b="0" lang="en-US" sz="4500" spc="-1" strike="noStrike">
                <a:solidFill>
                  <a:srgbClr val="000000"/>
                </a:solidFill>
                <a:latin typeface="Bradley Hand ITC TT-Bold"/>
              </a:rPr>
              <a:t>q</a:t>
            </a:r>
            <a:r>
              <a:rPr b="0" lang="en-US" sz="4500" spc="-1" strike="noStrike">
                <a:solidFill>
                  <a:srgbClr val="000000"/>
                </a:solidFill>
                <a:latin typeface="Bodoni SvtyTwo ITC TT-Book"/>
              </a:rPr>
              <a:t>. ”</a:t>
            </a:r>
            <a:endParaRPr b="0" lang="en-US" sz="45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86" name="Text Box 12"/>
          <p:cNvSpPr/>
          <p:nvPr/>
        </p:nvSpPr>
        <p:spPr>
          <a:xfrm>
            <a:off x="4127400" y="4648320"/>
            <a:ext cx="7239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odoni SvtyTwo ITC TT-Book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87" name="Line 13"/>
          <p:cNvSpPr/>
          <p:nvPr/>
        </p:nvSpPr>
        <p:spPr>
          <a:xfrm>
            <a:off x="546120" y="439416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88" name="Line 14"/>
          <p:cNvSpPr/>
          <p:nvPr/>
        </p:nvSpPr>
        <p:spPr>
          <a:xfrm>
            <a:off x="571680" y="1841400"/>
            <a:ext cx="758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5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646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647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648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649" name="Text Box 5"/>
          <p:cNvSpPr/>
          <p:nvPr/>
        </p:nvSpPr>
        <p:spPr>
          <a:xfrm>
            <a:off x="511200" y="-15840"/>
            <a:ext cx="765504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Bodoni SvtyTwo ITC TT-Book"/>
              </a:rPr>
              <a:t>Angles of Regular Polygons</a:t>
            </a:r>
            <a:endParaRPr b="0" lang="en-US" sz="5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650" name="Line 6"/>
          <p:cNvSpPr/>
          <p:nvPr/>
        </p:nvSpPr>
        <p:spPr>
          <a:xfrm>
            <a:off x="574560" y="96192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651" name="Freeform 7"/>
          <p:cNvSpPr/>
          <p:nvPr/>
        </p:nvSpPr>
        <p:spPr>
          <a:xfrm>
            <a:off x="2646360" y="2019240"/>
            <a:ext cx="3227400" cy="27925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2500" y="0"/>
                </a:moveTo>
                <a:lnTo>
                  <a:pt x="7500" y="0"/>
                </a:lnTo>
                <a:lnTo>
                  <a:pt x="10000" y="5000"/>
                </a:lnTo>
                <a:lnTo>
                  <a:pt x="7500" y="10000"/>
                </a:lnTo>
                <a:lnTo>
                  <a:pt x="2500" y="10000"/>
                </a:lnTo>
                <a:lnTo>
                  <a:pt x="0" y="4999"/>
                </a:lnTo>
                <a:lnTo>
                  <a:pt x="2500" y="0"/>
                </a:lnTo>
              </a:path>
            </a:pathLst>
          </a:custGeom>
          <a:solidFill>
            <a:srgbClr val="ffffff"/>
          </a:solidFill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652" name="Freeform 8"/>
          <p:cNvSpPr/>
          <p:nvPr/>
        </p:nvSpPr>
        <p:spPr>
          <a:xfrm>
            <a:off x="3289320" y="4444920"/>
            <a:ext cx="520560" cy="3682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lnTo>
                  <a:pt x="0" y="0"/>
                </a:lnTo>
                <a:lnTo>
                  <a:pt x="0" y="0"/>
                </a:lnTo>
                <a:cubicBezTo>
                  <a:pt x="5522" y="0"/>
                  <a:pt x="10000" y="4477"/>
                  <a:pt x="10000" y="10000"/>
                </a:cubicBezTo>
                <a:lnTo>
                  <a:pt x="0" y="10000"/>
                </a:lnTo>
                <a:close/>
                <a:moveTo>
                  <a:pt x="0" y="10000"/>
                </a:moveTo>
              </a:path>
            </a:pathLst>
          </a:custGeom>
          <a:noFill/>
          <a:ln w="38160">
            <a:solidFill>
              <a:srgbClr val="e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653" name="Text Box 9"/>
          <p:cNvSpPr/>
          <p:nvPr/>
        </p:nvSpPr>
        <p:spPr>
          <a:xfrm>
            <a:off x="3530880" y="3886200"/>
            <a:ext cx="3420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transition spd="med"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655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656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657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grpSp>
        <p:nvGrpSpPr>
          <p:cNvPr id="658" name="Group 5"/>
          <p:cNvGrpSpPr/>
          <p:nvPr/>
        </p:nvGrpSpPr>
        <p:grpSpPr>
          <a:xfrm>
            <a:off x="698400" y="939960"/>
            <a:ext cx="7149960" cy="1765080"/>
            <a:chOff x="698400" y="939960"/>
            <a:chExt cx="7149960" cy="1765080"/>
          </a:xfrm>
        </p:grpSpPr>
        <p:sp>
          <p:nvSpPr>
            <p:cNvPr id="659" name="Rectangle 6"/>
            <p:cNvSpPr/>
            <p:nvPr/>
          </p:nvSpPr>
          <p:spPr>
            <a:xfrm>
              <a:off x="698400" y="939960"/>
              <a:ext cx="1434960" cy="11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n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660" name="Rectangle 7"/>
            <p:cNvSpPr/>
            <p:nvPr/>
          </p:nvSpPr>
          <p:spPr>
            <a:xfrm>
              <a:off x="2133360" y="939960"/>
              <a:ext cx="1422720" cy="11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Sum of Ext. &lt;s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661" name="Rectangle 8"/>
            <p:cNvSpPr/>
            <p:nvPr/>
          </p:nvSpPr>
          <p:spPr>
            <a:xfrm>
              <a:off x="3556080" y="939960"/>
              <a:ext cx="1434960" cy="11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Each Ext. &lt;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662" name="Rectangle 9"/>
            <p:cNvSpPr/>
            <p:nvPr/>
          </p:nvSpPr>
          <p:spPr>
            <a:xfrm>
              <a:off x="4991040" y="939960"/>
              <a:ext cx="1422360" cy="11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Each Int. &lt;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663" name="Rectangle 10"/>
            <p:cNvSpPr/>
            <p:nvPr/>
          </p:nvSpPr>
          <p:spPr>
            <a:xfrm>
              <a:off x="6413400" y="939960"/>
              <a:ext cx="1434960" cy="11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Sum of Int. &lt;s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664" name="Rectangle 11"/>
            <p:cNvSpPr/>
            <p:nvPr/>
          </p:nvSpPr>
          <p:spPr>
            <a:xfrm>
              <a:off x="698400" y="2095560"/>
              <a:ext cx="14349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665" name="Rectangle 12"/>
            <p:cNvSpPr/>
            <p:nvPr/>
          </p:nvSpPr>
          <p:spPr>
            <a:xfrm>
              <a:off x="2133360" y="2095560"/>
              <a:ext cx="14227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666" name="Rectangle 13"/>
            <p:cNvSpPr/>
            <p:nvPr/>
          </p:nvSpPr>
          <p:spPr>
            <a:xfrm>
              <a:off x="3556080" y="2095560"/>
              <a:ext cx="14349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667" name="Rectangle 14"/>
            <p:cNvSpPr/>
            <p:nvPr/>
          </p:nvSpPr>
          <p:spPr>
            <a:xfrm>
              <a:off x="4991040" y="2095560"/>
              <a:ext cx="14223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668" name="Rectangle 15"/>
            <p:cNvSpPr/>
            <p:nvPr/>
          </p:nvSpPr>
          <p:spPr>
            <a:xfrm>
              <a:off x="6413400" y="2095560"/>
              <a:ext cx="14349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669" name="Line 16"/>
            <p:cNvSpPr/>
            <p:nvPr/>
          </p:nvSpPr>
          <p:spPr>
            <a:xfrm>
              <a:off x="698400" y="93996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670" name="Line 17"/>
            <p:cNvSpPr/>
            <p:nvPr/>
          </p:nvSpPr>
          <p:spPr>
            <a:xfrm>
              <a:off x="2133360" y="93996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671" name="Line 18"/>
            <p:cNvSpPr/>
            <p:nvPr/>
          </p:nvSpPr>
          <p:spPr>
            <a:xfrm>
              <a:off x="3556080" y="93996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672" name="Line 19"/>
            <p:cNvSpPr/>
            <p:nvPr/>
          </p:nvSpPr>
          <p:spPr>
            <a:xfrm>
              <a:off x="4991040" y="93996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673" name="Line 20"/>
            <p:cNvSpPr/>
            <p:nvPr/>
          </p:nvSpPr>
          <p:spPr>
            <a:xfrm>
              <a:off x="6413400" y="93996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674" name="Line 21"/>
            <p:cNvSpPr/>
            <p:nvPr/>
          </p:nvSpPr>
          <p:spPr>
            <a:xfrm>
              <a:off x="7848360" y="93996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675" name="Line 22"/>
            <p:cNvSpPr/>
            <p:nvPr/>
          </p:nvSpPr>
          <p:spPr>
            <a:xfrm>
              <a:off x="698400" y="939960"/>
              <a:ext cx="71499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676" name="Line 23"/>
            <p:cNvSpPr/>
            <p:nvPr/>
          </p:nvSpPr>
          <p:spPr>
            <a:xfrm>
              <a:off x="698400" y="2095560"/>
              <a:ext cx="71499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677" name="Line 24"/>
            <p:cNvSpPr/>
            <p:nvPr/>
          </p:nvSpPr>
          <p:spPr>
            <a:xfrm>
              <a:off x="698400" y="2705040"/>
              <a:ext cx="71499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</p:grpSp>
      <p:sp>
        <p:nvSpPr>
          <p:cNvPr id="678" name="Text Box 25"/>
          <p:cNvSpPr/>
          <p:nvPr/>
        </p:nvSpPr>
        <p:spPr>
          <a:xfrm>
            <a:off x="511200" y="-15840"/>
            <a:ext cx="765504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Bodoni SvtyTwo ITC TT-Book"/>
              </a:rPr>
              <a:t>Angles of Regular Polygons</a:t>
            </a:r>
            <a:endParaRPr b="0" lang="en-US" sz="5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679" name="Line 26"/>
          <p:cNvSpPr/>
          <p:nvPr/>
        </p:nvSpPr>
        <p:spPr>
          <a:xfrm>
            <a:off x="574560" y="96048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680" name="Text Box 27"/>
          <p:cNvSpPr/>
          <p:nvPr/>
        </p:nvSpPr>
        <p:spPr>
          <a:xfrm>
            <a:off x="2692800" y="2131920"/>
            <a:ext cx="3420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681" name="Freeform 28"/>
          <p:cNvSpPr/>
          <p:nvPr/>
        </p:nvSpPr>
        <p:spPr>
          <a:xfrm>
            <a:off x="4995720" y="3325680"/>
            <a:ext cx="2268720" cy="20718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2499" y="0"/>
                </a:moveTo>
                <a:lnTo>
                  <a:pt x="7499" y="0"/>
                </a:lnTo>
                <a:lnTo>
                  <a:pt x="10000" y="5000"/>
                </a:lnTo>
                <a:lnTo>
                  <a:pt x="7499" y="10000"/>
                </a:lnTo>
                <a:lnTo>
                  <a:pt x="2499" y="10000"/>
                </a:lnTo>
                <a:lnTo>
                  <a:pt x="0" y="4999"/>
                </a:lnTo>
                <a:lnTo>
                  <a:pt x="2499" y="0"/>
                </a:lnTo>
              </a:path>
            </a:pathLst>
          </a:custGeom>
          <a:solidFill>
            <a:srgbClr val="ffffff"/>
          </a:solidFill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transition spd="med"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2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683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684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685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grpSp>
        <p:nvGrpSpPr>
          <p:cNvPr id="686" name="Group 5"/>
          <p:cNvGrpSpPr/>
          <p:nvPr/>
        </p:nvGrpSpPr>
        <p:grpSpPr>
          <a:xfrm>
            <a:off x="698400" y="946080"/>
            <a:ext cx="7149960" cy="1765080"/>
            <a:chOff x="698400" y="946080"/>
            <a:chExt cx="7149960" cy="1765080"/>
          </a:xfrm>
        </p:grpSpPr>
        <p:sp>
          <p:nvSpPr>
            <p:cNvPr id="687" name="Rectangle 6"/>
            <p:cNvSpPr/>
            <p:nvPr/>
          </p:nvSpPr>
          <p:spPr>
            <a:xfrm>
              <a:off x="698400" y="946080"/>
              <a:ext cx="1434960" cy="11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n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688" name="Rectangle 7"/>
            <p:cNvSpPr/>
            <p:nvPr/>
          </p:nvSpPr>
          <p:spPr>
            <a:xfrm>
              <a:off x="2133360" y="946080"/>
              <a:ext cx="1422720" cy="11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Sum of Ext. &lt;s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689" name="Rectangle 8"/>
            <p:cNvSpPr/>
            <p:nvPr/>
          </p:nvSpPr>
          <p:spPr>
            <a:xfrm>
              <a:off x="3556080" y="946080"/>
              <a:ext cx="1434960" cy="11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Each Ext. &lt;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690" name="Rectangle 9"/>
            <p:cNvSpPr/>
            <p:nvPr/>
          </p:nvSpPr>
          <p:spPr>
            <a:xfrm>
              <a:off x="4991040" y="946080"/>
              <a:ext cx="1422360" cy="11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Each Int. &lt;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691" name="Rectangle 10"/>
            <p:cNvSpPr/>
            <p:nvPr/>
          </p:nvSpPr>
          <p:spPr>
            <a:xfrm>
              <a:off x="6413400" y="946080"/>
              <a:ext cx="1434960" cy="11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Sum of Int. &lt;s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692" name="Rectangle 11"/>
            <p:cNvSpPr/>
            <p:nvPr/>
          </p:nvSpPr>
          <p:spPr>
            <a:xfrm>
              <a:off x="698400" y="2101680"/>
              <a:ext cx="14349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693" name="Rectangle 12"/>
            <p:cNvSpPr/>
            <p:nvPr/>
          </p:nvSpPr>
          <p:spPr>
            <a:xfrm>
              <a:off x="2133360" y="2101680"/>
              <a:ext cx="14227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694" name="Rectangle 13"/>
            <p:cNvSpPr/>
            <p:nvPr/>
          </p:nvSpPr>
          <p:spPr>
            <a:xfrm>
              <a:off x="3556080" y="2101680"/>
              <a:ext cx="14349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695" name="Rectangle 14"/>
            <p:cNvSpPr/>
            <p:nvPr/>
          </p:nvSpPr>
          <p:spPr>
            <a:xfrm>
              <a:off x="4991040" y="2101680"/>
              <a:ext cx="14223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696" name="Rectangle 15"/>
            <p:cNvSpPr/>
            <p:nvPr/>
          </p:nvSpPr>
          <p:spPr>
            <a:xfrm>
              <a:off x="6413400" y="2101680"/>
              <a:ext cx="14349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697" name="Line 16"/>
            <p:cNvSpPr/>
            <p:nvPr/>
          </p:nvSpPr>
          <p:spPr>
            <a:xfrm>
              <a:off x="698400" y="94608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698" name="Line 17"/>
            <p:cNvSpPr/>
            <p:nvPr/>
          </p:nvSpPr>
          <p:spPr>
            <a:xfrm>
              <a:off x="2133360" y="94608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699" name="Line 18"/>
            <p:cNvSpPr/>
            <p:nvPr/>
          </p:nvSpPr>
          <p:spPr>
            <a:xfrm>
              <a:off x="3556080" y="94608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700" name="Line 19"/>
            <p:cNvSpPr/>
            <p:nvPr/>
          </p:nvSpPr>
          <p:spPr>
            <a:xfrm>
              <a:off x="4991040" y="94608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701" name="Line 20"/>
            <p:cNvSpPr/>
            <p:nvPr/>
          </p:nvSpPr>
          <p:spPr>
            <a:xfrm>
              <a:off x="6413400" y="94608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702" name="Line 21"/>
            <p:cNvSpPr/>
            <p:nvPr/>
          </p:nvSpPr>
          <p:spPr>
            <a:xfrm>
              <a:off x="7848360" y="94608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703" name="Line 22"/>
            <p:cNvSpPr/>
            <p:nvPr/>
          </p:nvSpPr>
          <p:spPr>
            <a:xfrm>
              <a:off x="698400" y="946080"/>
              <a:ext cx="71499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704" name="Line 23"/>
            <p:cNvSpPr/>
            <p:nvPr/>
          </p:nvSpPr>
          <p:spPr>
            <a:xfrm>
              <a:off x="698400" y="2101680"/>
              <a:ext cx="71499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705" name="Line 24"/>
            <p:cNvSpPr/>
            <p:nvPr/>
          </p:nvSpPr>
          <p:spPr>
            <a:xfrm>
              <a:off x="698400" y="2711160"/>
              <a:ext cx="71499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</p:grpSp>
      <p:sp>
        <p:nvSpPr>
          <p:cNvPr id="706" name="Text Box 25"/>
          <p:cNvSpPr/>
          <p:nvPr/>
        </p:nvSpPr>
        <p:spPr>
          <a:xfrm>
            <a:off x="511200" y="-22320"/>
            <a:ext cx="765504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Bodoni SvtyTwo ITC TT-Book"/>
              </a:rPr>
              <a:t>Angles of Regular Polygons</a:t>
            </a:r>
            <a:endParaRPr b="0" lang="en-US" sz="5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707" name="Line 26"/>
          <p:cNvSpPr/>
          <p:nvPr/>
        </p:nvSpPr>
        <p:spPr>
          <a:xfrm>
            <a:off x="574560" y="95400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708" name="Text Box 27"/>
          <p:cNvSpPr/>
          <p:nvPr/>
        </p:nvSpPr>
        <p:spPr>
          <a:xfrm>
            <a:off x="2692800" y="2125800"/>
            <a:ext cx="3420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709" name="Text Box 28"/>
          <p:cNvSpPr/>
          <p:nvPr/>
        </p:nvSpPr>
        <p:spPr>
          <a:xfrm>
            <a:off x="2367720" y="3828960"/>
            <a:ext cx="124596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360˚</a:t>
            </a:r>
            <a:endParaRPr b="0" lang="en-US" sz="48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710" name="Line 29"/>
          <p:cNvSpPr/>
          <p:nvPr/>
        </p:nvSpPr>
        <p:spPr>
          <a:xfrm>
            <a:off x="2857680" y="2927520"/>
            <a:ext cx="0" cy="838080"/>
          </a:xfrm>
          <a:prstGeom prst="line">
            <a:avLst/>
          </a:prstGeom>
          <a:ln w="76320">
            <a:solidFill>
              <a:srgbClr val="00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711" name="Text Box 30"/>
          <p:cNvSpPr/>
          <p:nvPr/>
        </p:nvSpPr>
        <p:spPr>
          <a:xfrm>
            <a:off x="261000" y="4603680"/>
            <a:ext cx="44434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doni SvtyTwo ITC TT-Book"/>
              </a:rPr>
              <a:t>The answer for </a:t>
            </a:r>
            <a:r>
              <a:rPr b="0" i="1" lang="en-US" sz="2700" spc="-1" strike="noStrike" u="sng">
                <a:solidFill>
                  <a:srgbClr val="000000"/>
                </a:solidFill>
                <a:uFillTx/>
                <a:latin typeface="Bodoni SvtyTwo ITC TT-Book"/>
              </a:rPr>
              <a:t>all</a:t>
            </a:r>
            <a:r>
              <a:rPr b="0" lang="en-US" sz="2700" spc="-1" strike="noStrike">
                <a:solidFill>
                  <a:srgbClr val="000000"/>
                </a:solidFill>
                <a:latin typeface="Bodoni SvtyTwo ITC TT-Book"/>
              </a:rPr>
              <a:t> polygons</a:t>
            </a:r>
            <a:endParaRPr b="0" lang="en-US" sz="27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grpSp>
        <p:nvGrpSpPr>
          <p:cNvPr id="712" name="Group 31"/>
          <p:cNvGrpSpPr/>
          <p:nvPr/>
        </p:nvGrpSpPr>
        <p:grpSpPr>
          <a:xfrm>
            <a:off x="4559040" y="2610000"/>
            <a:ext cx="3048120" cy="3352320"/>
            <a:chOff x="4559040" y="2610000"/>
            <a:chExt cx="3048120" cy="3352320"/>
          </a:xfrm>
        </p:grpSpPr>
        <p:sp>
          <p:nvSpPr>
            <p:cNvPr id="713" name="Freeform 32"/>
            <p:cNvSpPr/>
            <p:nvPr/>
          </p:nvSpPr>
          <p:spPr>
            <a:xfrm>
              <a:off x="4995720" y="3332160"/>
              <a:ext cx="2268720" cy="20710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2499" y="0"/>
                  </a:moveTo>
                  <a:lnTo>
                    <a:pt x="7499" y="0"/>
                  </a:lnTo>
                  <a:lnTo>
                    <a:pt x="10000" y="5000"/>
                  </a:lnTo>
                  <a:lnTo>
                    <a:pt x="7499" y="10000"/>
                  </a:lnTo>
                  <a:lnTo>
                    <a:pt x="2499" y="10000"/>
                  </a:lnTo>
                  <a:lnTo>
                    <a:pt x="0" y="4999"/>
                  </a:lnTo>
                  <a:lnTo>
                    <a:pt x="2499" y="0"/>
                  </a:lnTo>
                </a:path>
              </a:pathLst>
            </a:custGeom>
            <a:solidFill>
              <a:srgbClr val="ffffff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grpSp>
          <p:nvGrpSpPr>
            <p:cNvPr id="714" name="Group 33"/>
            <p:cNvGrpSpPr/>
            <p:nvPr/>
          </p:nvGrpSpPr>
          <p:grpSpPr>
            <a:xfrm>
              <a:off x="4559040" y="2610000"/>
              <a:ext cx="3048120" cy="3352320"/>
              <a:chOff x="4559040" y="2610000"/>
              <a:chExt cx="3048120" cy="3352320"/>
            </a:xfrm>
          </p:grpSpPr>
          <p:sp>
            <p:nvSpPr>
              <p:cNvPr id="715" name="Freeform 34"/>
              <p:cNvSpPr/>
              <p:nvPr/>
            </p:nvSpPr>
            <p:spPr>
              <a:xfrm>
                <a:off x="5753160" y="3003480"/>
                <a:ext cx="279360" cy="3153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10000"/>
                    </a:moveTo>
                    <a:lnTo>
                      <a:pt x="0" y="0"/>
                    </a:lnTo>
                    <a:lnTo>
                      <a:pt x="0" y="0"/>
                    </a:lnTo>
                    <a:cubicBezTo>
                      <a:pt x="5522" y="0"/>
                      <a:pt x="10000" y="4477"/>
                      <a:pt x="10000" y="10000"/>
                    </a:cubicBezTo>
                    <a:lnTo>
                      <a:pt x="0" y="10000"/>
                    </a:lnTo>
                    <a:close/>
                    <a:moveTo>
                      <a:pt x="0" y="10000"/>
                    </a:moveTo>
                  </a:path>
                </a:pathLst>
              </a:custGeom>
              <a:noFill/>
              <a:ln w="38160">
                <a:solidFill>
                  <a:srgbClr val="ee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716" name="Line 35"/>
              <p:cNvSpPr/>
              <p:nvPr/>
            </p:nvSpPr>
            <p:spPr>
              <a:xfrm flipH="1" flipV="1">
                <a:off x="4559040" y="3612960"/>
                <a:ext cx="495000" cy="8632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717" name="Line 36"/>
              <p:cNvSpPr/>
              <p:nvPr/>
            </p:nvSpPr>
            <p:spPr>
              <a:xfrm flipH="1">
                <a:off x="4749840" y="5403600"/>
                <a:ext cx="91440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718" name="Line 37"/>
              <p:cNvSpPr/>
              <p:nvPr/>
            </p:nvSpPr>
            <p:spPr>
              <a:xfrm flipV="1">
                <a:off x="5435640" y="2610000"/>
                <a:ext cx="520560" cy="9396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719" name="Line 38"/>
              <p:cNvSpPr/>
              <p:nvPr/>
            </p:nvSpPr>
            <p:spPr>
              <a:xfrm>
                <a:off x="6514920" y="3321000"/>
                <a:ext cx="96552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720" name="Line 39"/>
              <p:cNvSpPr/>
              <p:nvPr/>
            </p:nvSpPr>
            <p:spPr>
              <a:xfrm>
                <a:off x="7200720" y="4222440"/>
                <a:ext cx="406440" cy="7743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721" name="Line 40"/>
              <p:cNvSpPr/>
              <p:nvPr/>
            </p:nvSpPr>
            <p:spPr>
              <a:xfrm flipH="1">
                <a:off x="6426000" y="5162400"/>
                <a:ext cx="393840" cy="7999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722" name="Freeform 41"/>
              <p:cNvSpPr/>
              <p:nvPr/>
            </p:nvSpPr>
            <p:spPr>
              <a:xfrm rot="18420000">
                <a:off x="4874400" y="3827160"/>
                <a:ext cx="279000" cy="3160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10000"/>
                    </a:moveTo>
                    <a:lnTo>
                      <a:pt x="0" y="0"/>
                    </a:lnTo>
                    <a:lnTo>
                      <a:pt x="0" y="0"/>
                    </a:lnTo>
                    <a:cubicBezTo>
                      <a:pt x="5522" y="0"/>
                      <a:pt x="10000" y="4477"/>
                      <a:pt x="10000" y="10000"/>
                    </a:cubicBezTo>
                    <a:lnTo>
                      <a:pt x="0" y="10000"/>
                    </a:lnTo>
                    <a:close/>
                    <a:moveTo>
                      <a:pt x="0" y="10000"/>
                    </a:moveTo>
                  </a:path>
                </a:pathLst>
              </a:custGeom>
              <a:noFill/>
              <a:ln w="38160">
                <a:solidFill>
                  <a:srgbClr val="ee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723" name="Freeform 42"/>
              <p:cNvSpPr/>
              <p:nvPr/>
            </p:nvSpPr>
            <p:spPr>
              <a:xfrm rot="15720000">
                <a:off x="5117040" y="5072040"/>
                <a:ext cx="279000" cy="315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10000"/>
                    </a:moveTo>
                    <a:lnTo>
                      <a:pt x="0" y="0"/>
                    </a:lnTo>
                    <a:lnTo>
                      <a:pt x="0" y="0"/>
                    </a:lnTo>
                    <a:cubicBezTo>
                      <a:pt x="5522" y="0"/>
                      <a:pt x="10000" y="4477"/>
                      <a:pt x="10000" y="10000"/>
                    </a:cubicBezTo>
                    <a:lnTo>
                      <a:pt x="0" y="10000"/>
                    </a:lnTo>
                    <a:close/>
                    <a:moveTo>
                      <a:pt x="0" y="10000"/>
                    </a:moveTo>
                  </a:path>
                </a:pathLst>
              </a:custGeom>
              <a:noFill/>
              <a:ln w="38160">
                <a:solidFill>
                  <a:srgbClr val="ee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724" name="Freeform 43"/>
              <p:cNvSpPr/>
              <p:nvPr/>
            </p:nvSpPr>
            <p:spPr>
              <a:xfrm rot="10680000">
                <a:off x="6298920" y="5390280"/>
                <a:ext cx="279360" cy="315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10000"/>
                    </a:moveTo>
                    <a:lnTo>
                      <a:pt x="0" y="0"/>
                    </a:lnTo>
                    <a:lnTo>
                      <a:pt x="0" y="0"/>
                    </a:lnTo>
                    <a:cubicBezTo>
                      <a:pt x="5522" y="0"/>
                      <a:pt x="10000" y="4477"/>
                      <a:pt x="10000" y="10000"/>
                    </a:cubicBezTo>
                    <a:lnTo>
                      <a:pt x="0" y="10000"/>
                    </a:lnTo>
                    <a:close/>
                    <a:moveTo>
                      <a:pt x="0" y="10000"/>
                    </a:moveTo>
                  </a:path>
                </a:pathLst>
              </a:custGeom>
              <a:noFill/>
              <a:ln w="38160">
                <a:solidFill>
                  <a:srgbClr val="ee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725" name="Freeform 44"/>
              <p:cNvSpPr/>
              <p:nvPr/>
            </p:nvSpPr>
            <p:spPr>
              <a:xfrm rot="7320000">
                <a:off x="7110720" y="4564440"/>
                <a:ext cx="279360" cy="315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10000"/>
                    </a:moveTo>
                    <a:lnTo>
                      <a:pt x="0" y="0"/>
                    </a:lnTo>
                    <a:lnTo>
                      <a:pt x="0" y="0"/>
                    </a:lnTo>
                    <a:cubicBezTo>
                      <a:pt x="5522" y="0"/>
                      <a:pt x="10000" y="4477"/>
                      <a:pt x="10000" y="10000"/>
                    </a:cubicBezTo>
                    <a:lnTo>
                      <a:pt x="0" y="10000"/>
                    </a:lnTo>
                    <a:close/>
                    <a:moveTo>
                      <a:pt x="0" y="10000"/>
                    </a:moveTo>
                  </a:path>
                </a:pathLst>
              </a:custGeom>
              <a:noFill/>
              <a:ln w="38160">
                <a:solidFill>
                  <a:srgbClr val="ee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726" name="Freeform 45"/>
              <p:cNvSpPr/>
              <p:nvPr/>
            </p:nvSpPr>
            <p:spPr>
              <a:xfrm rot="4620000">
                <a:off x="6933240" y="3357720"/>
                <a:ext cx="279000" cy="315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10000"/>
                    </a:moveTo>
                    <a:lnTo>
                      <a:pt x="0" y="0"/>
                    </a:lnTo>
                    <a:lnTo>
                      <a:pt x="0" y="0"/>
                    </a:lnTo>
                    <a:cubicBezTo>
                      <a:pt x="5522" y="0"/>
                      <a:pt x="10000" y="4477"/>
                      <a:pt x="10000" y="10000"/>
                    </a:cubicBezTo>
                    <a:lnTo>
                      <a:pt x="0" y="10000"/>
                    </a:lnTo>
                    <a:close/>
                    <a:moveTo>
                      <a:pt x="0" y="10000"/>
                    </a:moveTo>
                  </a:path>
                </a:pathLst>
              </a:custGeom>
              <a:noFill/>
              <a:ln w="38160">
                <a:solidFill>
                  <a:srgbClr val="ee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</p:spTree>
  </p:cSld>
  <p:transition spd="med"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7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728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729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730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grpSp>
        <p:nvGrpSpPr>
          <p:cNvPr id="731" name="Group 5"/>
          <p:cNvGrpSpPr/>
          <p:nvPr/>
        </p:nvGrpSpPr>
        <p:grpSpPr>
          <a:xfrm>
            <a:off x="698400" y="939960"/>
            <a:ext cx="7149960" cy="1765080"/>
            <a:chOff x="698400" y="939960"/>
            <a:chExt cx="7149960" cy="1765080"/>
          </a:xfrm>
        </p:grpSpPr>
        <p:sp>
          <p:nvSpPr>
            <p:cNvPr id="732" name="Rectangle 6"/>
            <p:cNvSpPr/>
            <p:nvPr/>
          </p:nvSpPr>
          <p:spPr>
            <a:xfrm>
              <a:off x="698400" y="939960"/>
              <a:ext cx="1434960" cy="11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n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733" name="Rectangle 7"/>
            <p:cNvSpPr/>
            <p:nvPr/>
          </p:nvSpPr>
          <p:spPr>
            <a:xfrm>
              <a:off x="2133360" y="939960"/>
              <a:ext cx="1422720" cy="11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Sum of Ext. &lt;s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734" name="Rectangle 8"/>
            <p:cNvSpPr/>
            <p:nvPr/>
          </p:nvSpPr>
          <p:spPr>
            <a:xfrm>
              <a:off x="3556080" y="939960"/>
              <a:ext cx="1434960" cy="11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Each Ext. &lt;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735" name="Rectangle 9"/>
            <p:cNvSpPr/>
            <p:nvPr/>
          </p:nvSpPr>
          <p:spPr>
            <a:xfrm>
              <a:off x="4991040" y="939960"/>
              <a:ext cx="1422360" cy="11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Each Int. &lt;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736" name="Rectangle 10"/>
            <p:cNvSpPr/>
            <p:nvPr/>
          </p:nvSpPr>
          <p:spPr>
            <a:xfrm>
              <a:off x="6413400" y="939960"/>
              <a:ext cx="1434960" cy="11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Sum of Int. &lt;s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737" name="Rectangle 11"/>
            <p:cNvSpPr/>
            <p:nvPr/>
          </p:nvSpPr>
          <p:spPr>
            <a:xfrm>
              <a:off x="698400" y="2095560"/>
              <a:ext cx="14349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738" name="Rectangle 12"/>
            <p:cNvSpPr/>
            <p:nvPr/>
          </p:nvSpPr>
          <p:spPr>
            <a:xfrm>
              <a:off x="2133360" y="2095560"/>
              <a:ext cx="14227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ee"/>
                  </a:solidFill>
                  <a:latin typeface="Bodoni SvtyTwo ITC TT-Book"/>
                </a:rPr>
                <a:t>360˚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739" name="Rectangle 13"/>
            <p:cNvSpPr/>
            <p:nvPr/>
          </p:nvSpPr>
          <p:spPr>
            <a:xfrm>
              <a:off x="3556080" y="2095560"/>
              <a:ext cx="14349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740" name="Rectangle 14"/>
            <p:cNvSpPr/>
            <p:nvPr/>
          </p:nvSpPr>
          <p:spPr>
            <a:xfrm>
              <a:off x="4991040" y="2095560"/>
              <a:ext cx="14223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741" name="Rectangle 15"/>
            <p:cNvSpPr/>
            <p:nvPr/>
          </p:nvSpPr>
          <p:spPr>
            <a:xfrm>
              <a:off x="6413400" y="2095560"/>
              <a:ext cx="14349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742" name="Line 16"/>
            <p:cNvSpPr/>
            <p:nvPr/>
          </p:nvSpPr>
          <p:spPr>
            <a:xfrm>
              <a:off x="698400" y="93996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743" name="Line 17"/>
            <p:cNvSpPr/>
            <p:nvPr/>
          </p:nvSpPr>
          <p:spPr>
            <a:xfrm>
              <a:off x="2133360" y="93996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744" name="Line 18"/>
            <p:cNvSpPr/>
            <p:nvPr/>
          </p:nvSpPr>
          <p:spPr>
            <a:xfrm>
              <a:off x="3556080" y="93996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745" name="Line 19"/>
            <p:cNvSpPr/>
            <p:nvPr/>
          </p:nvSpPr>
          <p:spPr>
            <a:xfrm>
              <a:off x="4991040" y="93996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746" name="Line 20"/>
            <p:cNvSpPr/>
            <p:nvPr/>
          </p:nvSpPr>
          <p:spPr>
            <a:xfrm>
              <a:off x="6413400" y="93996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747" name="Line 21"/>
            <p:cNvSpPr/>
            <p:nvPr/>
          </p:nvSpPr>
          <p:spPr>
            <a:xfrm>
              <a:off x="7848360" y="93996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748" name="Line 22"/>
            <p:cNvSpPr/>
            <p:nvPr/>
          </p:nvSpPr>
          <p:spPr>
            <a:xfrm>
              <a:off x="698400" y="939960"/>
              <a:ext cx="71499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749" name="Line 23"/>
            <p:cNvSpPr/>
            <p:nvPr/>
          </p:nvSpPr>
          <p:spPr>
            <a:xfrm>
              <a:off x="698400" y="2095560"/>
              <a:ext cx="71499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750" name="Line 24"/>
            <p:cNvSpPr/>
            <p:nvPr/>
          </p:nvSpPr>
          <p:spPr>
            <a:xfrm>
              <a:off x="698400" y="2705040"/>
              <a:ext cx="71499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</p:grpSp>
      <p:sp>
        <p:nvSpPr>
          <p:cNvPr id="751" name="Text Box 25"/>
          <p:cNvSpPr/>
          <p:nvPr/>
        </p:nvSpPr>
        <p:spPr>
          <a:xfrm>
            <a:off x="511200" y="-15840"/>
            <a:ext cx="765504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Bodoni SvtyTwo ITC TT-Book"/>
              </a:rPr>
              <a:t>Angles of Regular Polygons</a:t>
            </a:r>
            <a:endParaRPr b="0" lang="en-US" sz="5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752" name="Line 26"/>
          <p:cNvSpPr/>
          <p:nvPr/>
        </p:nvSpPr>
        <p:spPr>
          <a:xfrm>
            <a:off x="574560" y="96048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753" name="Text Box 27"/>
          <p:cNvSpPr/>
          <p:nvPr/>
        </p:nvSpPr>
        <p:spPr>
          <a:xfrm>
            <a:off x="4051800" y="2119320"/>
            <a:ext cx="3420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754" name="Freeform 28"/>
          <p:cNvSpPr/>
          <p:nvPr/>
        </p:nvSpPr>
        <p:spPr>
          <a:xfrm>
            <a:off x="4995720" y="3325680"/>
            <a:ext cx="2268720" cy="20718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2499" y="0"/>
                </a:moveTo>
                <a:lnTo>
                  <a:pt x="7499" y="0"/>
                </a:lnTo>
                <a:lnTo>
                  <a:pt x="10000" y="5000"/>
                </a:lnTo>
                <a:lnTo>
                  <a:pt x="7499" y="10000"/>
                </a:lnTo>
                <a:lnTo>
                  <a:pt x="2499" y="10000"/>
                </a:lnTo>
                <a:lnTo>
                  <a:pt x="0" y="4999"/>
                </a:lnTo>
                <a:lnTo>
                  <a:pt x="2499" y="0"/>
                </a:lnTo>
              </a:path>
            </a:pathLst>
          </a:custGeom>
          <a:solidFill>
            <a:srgbClr val="ffffff"/>
          </a:solidFill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transition spd="med">
    <p:wipe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5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756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757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758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grpSp>
        <p:nvGrpSpPr>
          <p:cNvPr id="759" name="Group 5"/>
          <p:cNvGrpSpPr/>
          <p:nvPr/>
        </p:nvGrpSpPr>
        <p:grpSpPr>
          <a:xfrm>
            <a:off x="698400" y="939960"/>
            <a:ext cx="7149960" cy="1765080"/>
            <a:chOff x="698400" y="939960"/>
            <a:chExt cx="7149960" cy="1765080"/>
          </a:xfrm>
        </p:grpSpPr>
        <p:sp>
          <p:nvSpPr>
            <p:cNvPr id="760" name="Rectangle 6"/>
            <p:cNvSpPr/>
            <p:nvPr/>
          </p:nvSpPr>
          <p:spPr>
            <a:xfrm>
              <a:off x="698400" y="939960"/>
              <a:ext cx="1434960" cy="11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n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761" name="Rectangle 7"/>
            <p:cNvSpPr/>
            <p:nvPr/>
          </p:nvSpPr>
          <p:spPr>
            <a:xfrm>
              <a:off x="2133360" y="939960"/>
              <a:ext cx="1422720" cy="11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Sum of Ext. &lt;s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762" name="Rectangle 8"/>
            <p:cNvSpPr/>
            <p:nvPr/>
          </p:nvSpPr>
          <p:spPr>
            <a:xfrm>
              <a:off x="3556080" y="939960"/>
              <a:ext cx="1434960" cy="11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Each Ext. &lt;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763" name="Rectangle 9"/>
            <p:cNvSpPr/>
            <p:nvPr/>
          </p:nvSpPr>
          <p:spPr>
            <a:xfrm>
              <a:off x="4991040" y="939960"/>
              <a:ext cx="1422360" cy="11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Each Int. &lt;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764" name="Rectangle 10"/>
            <p:cNvSpPr/>
            <p:nvPr/>
          </p:nvSpPr>
          <p:spPr>
            <a:xfrm>
              <a:off x="6413400" y="939960"/>
              <a:ext cx="1434960" cy="11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Sum of Int. &lt;s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765" name="Rectangle 11"/>
            <p:cNvSpPr/>
            <p:nvPr/>
          </p:nvSpPr>
          <p:spPr>
            <a:xfrm>
              <a:off x="698400" y="2095560"/>
              <a:ext cx="14349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766" name="Rectangle 12"/>
            <p:cNvSpPr/>
            <p:nvPr/>
          </p:nvSpPr>
          <p:spPr>
            <a:xfrm>
              <a:off x="2133360" y="2095560"/>
              <a:ext cx="14227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ee"/>
                  </a:solidFill>
                  <a:latin typeface="Bodoni SvtyTwo ITC TT-Book"/>
                </a:rPr>
                <a:t>360˚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767" name="Rectangle 13"/>
            <p:cNvSpPr/>
            <p:nvPr/>
          </p:nvSpPr>
          <p:spPr>
            <a:xfrm>
              <a:off x="3556080" y="2095560"/>
              <a:ext cx="14349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768" name="Rectangle 14"/>
            <p:cNvSpPr/>
            <p:nvPr/>
          </p:nvSpPr>
          <p:spPr>
            <a:xfrm>
              <a:off x="4991040" y="2095560"/>
              <a:ext cx="14223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769" name="Rectangle 15"/>
            <p:cNvSpPr/>
            <p:nvPr/>
          </p:nvSpPr>
          <p:spPr>
            <a:xfrm>
              <a:off x="6413400" y="2095560"/>
              <a:ext cx="14349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770" name="Line 16"/>
            <p:cNvSpPr/>
            <p:nvPr/>
          </p:nvSpPr>
          <p:spPr>
            <a:xfrm>
              <a:off x="698400" y="93996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771" name="Line 17"/>
            <p:cNvSpPr/>
            <p:nvPr/>
          </p:nvSpPr>
          <p:spPr>
            <a:xfrm>
              <a:off x="2133360" y="93996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772" name="Line 18"/>
            <p:cNvSpPr/>
            <p:nvPr/>
          </p:nvSpPr>
          <p:spPr>
            <a:xfrm>
              <a:off x="3556080" y="93996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773" name="Line 19"/>
            <p:cNvSpPr/>
            <p:nvPr/>
          </p:nvSpPr>
          <p:spPr>
            <a:xfrm>
              <a:off x="4991040" y="93996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774" name="Line 20"/>
            <p:cNvSpPr/>
            <p:nvPr/>
          </p:nvSpPr>
          <p:spPr>
            <a:xfrm>
              <a:off x="6413400" y="93996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775" name="Line 21"/>
            <p:cNvSpPr/>
            <p:nvPr/>
          </p:nvSpPr>
          <p:spPr>
            <a:xfrm>
              <a:off x="7848360" y="93996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776" name="Line 22"/>
            <p:cNvSpPr/>
            <p:nvPr/>
          </p:nvSpPr>
          <p:spPr>
            <a:xfrm>
              <a:off x="698400" y="939960"/>
              <a:ext cx="71499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777" name="Line 23"/>
            <p:cNvSpPr/>
            <p:nvPr/>
          </p:nvSpPr>
          <p:spPr>
            <a:xfrm>
              <a:off x="698400" y="2095560"/>
              <a:ext cx="71499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778" name="Line 24"/>
            <p:cNvSpPr/>
            <p:nvPr/>
          </p:nvSpPr>
          <p:spPr>
            <a:xfrm>
              <a:off x="698400" y="2705040"/>
              <a:ext cx="71499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</p:grpSp>
      <p:sp>
        <p:nvSpPr>
          <p:cNvPr id="779" name="Text Box 25"/>
          <p:cNvSpPr/>
          <p:nvPr/>
        </p:nvSpPr>
        <p:spPr>
          <a:xfrm>
            <a:off x="511200" y="-15840"/>
            <a:ext cx="765504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Bodoni SvtyTwo ITC TT-Book"/>
              </a:rPr>
              <a:t>Angles of Regular Polygons</a:t>
            </a:r>
            <a:endParaRPr b="0" lang="en-US" sz="5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780" name="Line 26"/>
          <p:cNvSpPr/>
          <p:nvPr/>
        </p:nvSpPr>
        <p:spPr>
          <a:xfrm>
            <a:off x="574560" y="96048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781" name="Text Box 27"/>
          <p:cNvSpPr/>
          <p:nvPr/>
        </p:nvSpPr>
        <p:spPr>
          <a:xfrm>
            <a:off x="4051800" y="2119320"/>
            <a:ext cx="3420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782" name="Line 28"/>
          <p:cNvSpPr/>
          <p:nvPr/>
        </p:nvSpPr>
        <p:spPr>
          <a:xfrm flipH="1">
            <a:off x="3759120" y="2793960"/>
            <a:ext cx="292320" cy="838080"/>
          </a:xfrm>
          <a:prstGeom prst="line">
            <a:avLst/>
          </a:prstGeom>
          <a:ln w="76320">
            <a:solidFill>
              <a:srgbClr val="00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grpSp>
        <p:nvGrpSpPr>
          <p:cNvPr id="783" name="Group 29"/>
          <p:cNvGrpSpPr/>
          <p:nvPr/>
        </p:nvGrpSpPr>
        <p:grpSpPr>
          <a:xfrm>
            <a:off x="4559040" y="2603160"/>
            <a:ext cx="3048120" cy="3353040"/>
            <a:chOff x="4559040" y="2603160"/>
            <a:chExt cx="3048120" cy="3353040"/>
          </a:xfrm>
        </p:grpSpPr>
        <p:sp>
          <p:nvSpPr>
            <p:cNvPr id="784" name="Freeform 30"/>
            <p:cNvSpPr/>
            <p:nvPr/>
          </p:nvSpPr>
          <p:spPr>
            <a:xfrm>
              <a:off x="4995720" y="3325680"/>
              <a:ext cx="2268720" cy="20718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2499" y="0"/>
                  </a:moveTo>
                  <a:lnTo>
                    <a:pt x="7499" y="0"/>
                  </a:lnTo>
                  <a:lnTo>
                    <a:pt x="10000" y="5000"/>
                  </a:lnTo>
                  <a:lnTo>
                    <a:pt x="7499" y="10000"/>
                  </a:lnTo>
                  <a:lnTo>
                    <a:pt x="2499" y="10000"/>
                  </a:lnTo>
                  <a:lnTo>
                    <a:pt x="0" y="4999"/>
                  </a:lnTo>
                  <a:lnTo>
                    <a:pt x="2499" y="0"/>
                  </a:lnTo>
                </a:path>
              </a:pathLst>
            </a:custGeom>
            <a:solidFill>
              <a:srgbClr val="ffffff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grpSp>
          <p:nvGrpSpPr>
            <p:cNvPr id="785" name="Group 31"/>
            <p:cNvGrpSpPr/>
            <p:nvPr/>
          </p:nvGrpSpPr>
          <p:grpSpPr>
            <a:xfrm>
              <a:off x="4559040" y="2603160"/>
              <a:ext cx="3048120" cy="3353040"/>
              <a:chOff x="4559040" y="2603160"/>
              <a:chExt cx="3048120" cy="3353040"/>
            </a:xfrm>
          </p:grpSpPr>
          <p:sp>
            <p:nvSpPr>
              <p:cNvPr id="786" name="Freeform 32"/>
              <p:cNvSpPr/>
              <p:nvPr/>
            </p:nvSpPr>
            <p:spPr>
              <a:xfrm>
                <a:off x="5753160" y="2997360"/>
                <a:ext cx="279360" cy="315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10000"/>
                    </a:moveTo>
                    <a:lnTo>
                      <a:pt x="0" y="0"/>
                    </a:lnTo>
                    <a:lnTo>
                      <a:pt x="0" y="0"/>
                    </a:lnTo>
                    <a:cubicBezTo>
                      <a:pt x="5522" y="0"/>
                      <a:pt x="10000" y="4477"/>
                      <a:pt x="10000" y="10000"/>
                    </a:cubicBezTo>
                    <a:lnTo>
                      <a:pt x="0" y="10000"/>
                    </a:lnTo>
                    <a:close/>
                    <a:moveTo>
                      <a:pt x="0" y="10000"/>
                    </a:moveTo>
                  </a:path>
                </a:pathLst>
              </a:custGeom>
              <a:noFill/>
              <a:ln w="38160">
                <a:solidFill>
                  <a:srgbClr val="ee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787" name="Line 33"/>
              <p:cNvSpPr/>
              <p:nvPr/>
            </p:nvSpPr>
            <p:spPr>
              <a:xfrm flipH="1" flipV="1">
                <a:off x="4559040" y="3606480"/>
                <a:ext cx="495000" cy="8636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788" name="Line 34"/>
              <p:cNvSpPr/>
              <p:nvPr/>
            </p:nvSpPr>
            <p:spPr>
              <a:xfrm flipH="1">
                <a:off x="4749840" y="5397480"/>
                <a:ext cx="91440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789" name="Line 35"/>
              <p:cNvSpPr/>
              <p:nvPr/>
            </p:nvSpPr>
            <p:spPr>
              <a:xfrm flipV="1">
                <a:off x="5435640" y="2603160"/>
                <a:ext cx="520560" cy="9399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790" name="Line 36"/>
              <p:cNvSpPr/>
              <p:nvPr/>
            </p:nvSpPr>
            <p:spPr>
              <a:xfrm>
                <a:off x="6514920" y="3314880"/>
                <a:ext cx="96552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791" name="Line 37"/>
              <p:cNvSpPr/>
              <p:nvPr/>
            </p:nvSpPr>
            <p:spPr>
              <a:xfrm>
                <a:off x="7200720" y="4216320"/>
                <a:ext cx="406440" cy="774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792" name="Line 38"/>
              <p:cNvSpPr/>
              <p:nvPr/>
            </p:nvSpPr>
            <p:spPr>
              <a:xfrm flipH="1">
                <a:off x="6426000" y="5156280"/>
                <a:ext cx="393840" cy="7999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793" name="Freeform 39"/>
              <p:cNvSpPr/>
              <p:nvPr/>
            </p:nvSpPr>
            <p:spPr>
              <a:xfrm rot="18420000">
                <a:off x="4874400" y="3821760"/>
                <a:ext cx="279360" cy="3160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10000"/>
                    </a:moveTo>
                    <a:lnTo>
                      <a:pt x="0" y="0"/>
                    </a:lnTo>
                    <a:lnTo>
                      <a:pt x="0" y="0"/>
                    </a:lnTo>
                    <a:cubicBezTo>
                      <a:pt x="5522" y="0"/>
                      <a:pt x="10000" y="4477"/>
                      <a:pt x="10000" y="10000"/>
                    </a:cubicBezTo>
                    <a:lnTo>
                      <a:pt x="0" y="10000"/>
                    </a:lnTo>
                    <a:close/>
                    <a:moveTo>
                      <a:pt x="0" y="10000"/>
                    </a:moveTo>
                  </a:path>
                </a:pathLst>
              </a:custGeom>
              <a:noFill/>
              <a:ln w="38160">
                <a:solidFill>
                  <a:srgbClr val="ee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794" name="Freeform 40"/>
              <p:cNvSpPr/>
              <p:nvPr/>
            </p:nvSpPr>
            <p:spPr>
              <a:xfrm rot="15720000">
                <a:off x="5117040" y="5066280"/>
                <a:ext cx="279360" cy="315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10000"/>
                    </a:moveTo>
                    <a:lnTo>
                      <a:pt x="0" y="0"/>
                    </a:lnTo>
                    <a:lnTo>
                      <a:pt x="0" y="0"/>
                    </a:lnTo>
                    <a:cubicBezTo>
                      <a:pt x="5522" y="0"/>
                      <a:pt x="10000" y="4477"/>
                      <a:pt x="10000" y="10000"/>
                    </a:cubicBezTo>
                    <a:lnTo>
                      <a:pt x="0" y="10000"/>
                    </a:lnTo>
                    <a:close/>
                    <a:moveTo>
                      <a:pt x="0" y="10000"/>
                    </a:moveTo>
                  </a:path>
                </a:pathLst>
              </a:custGeom>
              <a:noFill/>
              <a:ln w="38160">
                <a:solidFill>
                  <a:srgbClr val="ee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795" name="Freeform 41"/>
              <p:cNvSpPr/>
              <p:nvPr/>
            </p:nvSpPr>
            <p:spPr>
              <a:xfrm rot="10680000">
                <a:off x="6298920" y="5384160"/>
                <a:ext cx="279360" cy="315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10000"/>
                    </a:moveTo>
                    <a:lnTo>
                      <a:pt x="0" y="0"/>
                    </a:lnTo>
                    <a:lnTo>
                      <a:pt x="0" y="0"/>
                    </a:lnTo>
                    <a:cubicBezTo>
                      <a:pt x="5522" y="0"/>
                      <a:pt x="10000" y="4477"/>
                      <a:pt x="10000" y="10000"/>
                    </a:cubicBezTo>
                    <a:lnTo>
                      <a:pt x="0" y="10000"/>
                    </a:lnTo>
                    <a:close/>
                    <a:moveTo>
                      <a:pt x="0" y="10000"/>
                    </a:moveTo>
                  </a:path>
                </a:pathLst>
              </a:custGeom>
              <a:noFill/>
              <a:ln w="38160">
                <a:solidFill>
                  <a:srgbClr val="ee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796" name="Freeform 42"/>
              <p:cNvSpPr/>
              <p:nvPr/>
            </p:nvSpPr>
            <p:spPr>
              <a:xfrm rot="7320000">
                <a:off x="7110720" y="4558320"/>
                <a:ext cx="279360" cy="315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10000"/>
                    </a:moveTo>
                    <a:lnTo>
                      <a:pt x="0" y="0"/>
                    </a:lnTo>
                    <a:lnTo>
                      <a:pt x="0" y="0"/>
                    </a:lnTo>
                    <a:cubicBezTo>
                      <a:pt x="5522" y="0"/>
                      <a:pt x="10000" y="4477"/>
                      <a:pt x="10000" y="10000"/>
                    </a:cubicBezTo>
                    <a:lnTo>
                      <a:pt x="0" y="10000"/>
                    </a:lnTo>
                    <a:close/>
                    <a:moveTo>
                      <a:pt x="0" y="10000"/>
                    </a:moveTo>
                  </a:path>
                </a:pathLst>
              </a:custGeom>
              <a:noFill/>
              <a:ln w="38160">
                <a:solidFill>
                  <a:srgbClr val="ee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797" name="Freeform 43"/>
              <p:cNvSpPr/>
              <p:nvPr/>
            </p:nvSpPr>
            <p:spPr>
              <a:xfrm rot="4620000">
                <a:off x="6932880" y="3351960"/>
                <a:ext cx="279360" cy="315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10000"/>
                    </a:moveTo>
                    <a:lnTo>
                      <a:pt x="0" y="0"/>
                    </a:lnTo>
                    <a:lnTo>
                      <a:pt x="0" y="0"/>
                    </a:lnTo>
                    <a:cubicBezTo>
                      <a:pt x="5522" y="0"/>
                      <a:pt x="10000" y="4477"/>
                      <a:pt x="10000" y="10000"/>
                    </a:cubicBezTo>
                    <a:lnTo>
                      <a:pt x="0" y="10000"/>
                    </a:lnTo>
                    <a:close/>
                    <a:moveTo>
                      <a:pt x="0" y="10000"/>
                    </a:moveTo>
                  </a:path>
                </a:pathLst>
              </a:custGeom>
              <a:noFill/>
              <a:ln w="38160">
                <a:solidFill>
                  <a:srgbClr val="ee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798" name="Text Box 44"/>
          <p:cNvSpPr/>
          <p:nvPr/>
        </p:nvSpPr>
        <p:spPr>
          <a:xfrm>
            <a:off x="3079080" y="3816360"/>
            <a:ext cx="124596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360˚</a:t>
            </a:r>
            <a:endParaRPr b="0" lang="en-US" sz="48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799" name="Line 45"/>
          <p:cNvSpPr/>
          <p:nvPr/>
        </p:nvSpPr>
        <p:spPr>
          <a:xfrm>
            <a:off x="2870280" y="4457880"/>
            <a:ext cx="1384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800" name="Text Box 46"/>
          <p:cNvSpPr/>
          <p:nvPr/>
        </p:nvSpPr>
        <p:spPr>
          <a:xfrm>
            <a:off x="3362040" y="4381560"/>
            <a:ext cx="34956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801" name="Text Box 47"/>
          <p:cNvSpPr/>
          <p:nvPr/>
        </p:nvSpPr>
        <p:spPr>
          <a:xfrm>
            <a:off x="859680" y="3790800"/>
            <a:ext cx="124596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360˚</a:t>
            </a:r>
            <a:endParaRPr b="0" lang="en-US" sz="48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802" name="Line 48"/>
          <p:cNvSpPr/>
          <p:nvPr/>
        </p:nvSpPr>
        <p:spPr>
          <a:xfrm>
            <a:off x="650880" y="4432320"/>
            <a:ext cx="1384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803" name="Text Box 49"/>
          <p:cNvSpPr/>
          <p:nvPr/>
        </p:nvSpPr>
        <p:spPr>
          <a:xfrm>
            <a:off x="1116720" y="4280040"/>
            <a:ext cx="4014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n</a:t>
            </a:r>
            <a:endParaRPr b="0" lang="en-US" sz="48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804" name="Line 50"/>
          <p:cNvSpPr/>
          <p:nvPr/>
        </p:nvSpPr>
        <p:spPr>
          <a:xfrm flipH="1">
            <a:off x="2184480" y="4432320"/>
            <a:ext cx="495360" cy="0"/>
          </a:xfrm>
          <a:prstGeom prst="line">
            <a:avLst/>
          </a:prstGeom>
          <a:ln w="76320">
            <a:solidFill>
              <a:srgbClr val="00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transition spd="med"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5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806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807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808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grpSp>
        <p:nvGrpSpPr>
          <p:cNvPr id="809" name="Group 5"/>
          <p:cNvGrpSpPr/>
          <p:nvPr/>
        </p:nvGrpSpPr>
        <p:grpSpPr>
          <a:xfrm>
            <a:off x="698400" y="946080"/>
            <a:ext cx="7149960" cy="1765080"/>
            <a:chOff x="698400" y="946080"/>
            <a:chExt cx="7149960" cy="1765080"/>
          </a:xfrm>
        </p:grpSpPr>
        <p:sp>
          <p:nvSpPr>
            <p:cNvPr id="810" name="Rectangle 6"/>
            <p:cNvSpPr/>
            <p:nvPr/>
          </p:nvSpPr>
          <p:spPr>
            <a:xfrm>
              <a:off x="698400" y="946080"/>
              <a:ext cx="1434960" cy="11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n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11" name="Rectangle 7"/>
            <p:cNvSpPr/>
            <p:nvPr/>
          </p:nvSpPr>
          <p:spPr>
            <a:xfrm>
              <a:off x="2133360" y="946080"/>
              <a:ext cx="1422720" cy="11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Sum of Ext. &lt;s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12" name="Rectangle 8"/>
            <p:cNvSpPr/>
            <p:nvPr/>
          </p:nvSpPr>
          <p:spPr>
            <a:xfrm>
              <a:off x="3556080" y="946080"/>
              <a:ext cx="1434960" cy="11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Each Ext. &lt;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13" name="Rectangle 9"/>
            <p:cNvSpPr/>
            <p:nvPr/>
          </p:nvSpPr>
          <p:spPr>
            <a:xfrm>
              <a:off x="4991040" y="946080"/>
              <a:ext cx="1422360" cy="11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Each Int. &lt;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14" name="Rectangle 10"/>
            <p:cNvSpPr/>
            <p:nvPr/>
          </p:nvSpPr>
          <p:spPr>
            <a:xfrm>
              <a:off x="6413400" y="946080"/>
              <a:ext cx="1434960" cy="11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Sum of Int. &lt;s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15" name="Rectangle 11"/>
            <p:cNvSpPr/>
            <p:nvPr/>
          </p:nvSpPr>
          <p:spPr>
            <a:xfrm>
              <a:off x="698400" y="2101680"/>
              <a:ext cx="14349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16" name="Rectangle 12"/>
            <p:cNvSpPr/>
            <p:nvPr/>
          </p:nvSpPr>
          <p:spPr>
            <a:xfrm>
              <a:off x="2133360" y="2101680"/>
              <a:ext cx="14227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ee"/>
                  </a:solidFill>
                  <a:latin typeface="Bodoni SvtyTwo ITC TT-Book"/>
                </a:rPr>
                <a:t>360˚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17" name="Rectangle 13"/>
            <p:cNvSpPr/>
            <p:nvPr/>
          </p:nvSpPr>
          <p:spPr>
            <a:xfrm>
              <a:off x="3556080" y="2101680"/>
              <a:ext cx="14349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ee"/>
                  </a:solidFill>
                  <a:latin typeface="Bodoni SvtyTwo ITC TT-Book"/>
                </a:rPr>
                <a:t>60˚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18" name="Rectangle 14"/>
            <p:cNvSpPr/>
            <p:nvPr/>
          </p:nvSpPr>
          <p:spPr>
            <a:xfrm>
              <a:off x="4991040" y="2101680"/>
              <a:ext cx="14223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19" name="Rectangle 15"/>
            <p:cNvSpPr/>
            <p:nvPr/>
          </p:nvSpPr>
          <p:spPr>
            <a:xfrm>
              <a:off x="6413400" y="2101680"/>
              <a:ext cx="14349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20" name="Line 16"/>
            <p:cNvSpPr/>
            <p:nvPr/>
          </p:nvSpPr>
          <p:spPr>
            <a:xfrm>
              <a:off x="698400" y="94608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21" name="Line 17"/>
            <p:cNvSpPr/>
            <p:nvPr/>
          </p:nvSpPr>
          <p:spPr>
            <a:xfrm>
              <a:off x="2133360" y="94608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22" name="Line 18"/>
            <p:cNvSpPr/>
            <p:nvPr/>
          </p:nvSpPr>
          <p:spPr>
            <a:xfrm>
              <a:off x="3556080" y="94608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23" name="Line 19"/>
            <p:cNvSpPr/>
            <p:nvPr/>
          </p:nvSpPr>
          <p:spPr>
            <a:xfrm>
              <a:off x="4991040" y="94608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24" name="Line 20"/>
            <p:cNvSpPr/>
            <p:nvPr/>
          </p:nvSpPr>
          <p:spPr>
            <a:xfrm>
              <a:off x="6413400" y="94608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25" name="Line 21"/>
            <p:cNvSpPr/>
            <p:nvPr/>
          </p:nvSpPr>
          <p:spPr>
            <a:xfrm>
              <a:off x="7848360" y="94608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26" name="Line 22"/>
            <p:cNvSpPr/>
            <p:nvPr/>
          </p:nvSpPr>
          <p:spPr>
            <a:xfrm>
              <a:off x="698400" y="946080"/>
              <a:ext cx="71499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27" name="Line 23"/>
            <p:cNvSpPr/>
            <p:nvPr/>
          </p:nvSpPr>
          <p:spPr>
            <a:xfrm>
              <a:off x="698400" y="2101680"/>
              <a:ext cx="71499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28" name="Line 24"/>
            <p:cNvSpPr/>
            <p:nvPr/>
          </p:nvSpPr>
          <p:spPr>
            <a:xfrm>
              <a:off x="698400" y="2711160"/>
              <a:ext cx="71499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</p:grpSp>
      <p:sp>
        <p:nvSpPr>
          <p:cNvPr id="829" name="Text Box 25"/>
          <p:cNvSpPr/>
          <p:nvPr/>
        </p:nvSpPr>
        <p:spPr>
          <a:xfrm>
            <a:off x="511200" y="-22320"/>
            <a:ext cx="765504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Bodoni SvtyTwo ITC TT-Book"/>
              </a:rPr>
              <a:t>Angles of Regular Polygons</a:t>
            </a:r>
            <a:endParaRPr b="0" lang="en-US" sz="5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830" name="Line 26"/>
          <p:cNvSpPr/>
          <p:nvPr/>
        </p:nvSpPr>
        <p:spPr>
          <a:xfrm>
            <a:off x="574560" y="95400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831" name="Text Box 27"/>
          <p:cNvSpPr/>
          <p:nvPr/>
        </p:nvSpPr>
        <p:spPr>
          <a:xfrm>
            <a:off x="5511960" y="2100240"/>
            <a:ext cx="3420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832" name="Freeform 28"/>
          <p:cNvSpPr/>
          <p:nvPr/>
        </p:nvSpPr>
        <p:spPr>
          <a:xfrm>
            <a:off x="1528920" y="3459240"/>
            <a:ext cx="2268360" cy="207144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2499" y="0"/>
                </a:moveTo>
                <a:lnTo>
                  <a:pt x="7499" y="0"/>
                </a:lnTo>
                <a:lnTo>
                  <a:pt x="10000" y="5000"/>
                </a:lnTo>
                <a:lnTo>
                  <a:pt x="7499" y="10000"/>
                </a:lnTo>
                <a:lnTo>
                  <a:pt x="2499" y="10000"/>
                </a:lnTo>
                <a:lnTo>
                  <a:pt x="0" y="4999"/>
                </a:lnTo>
                <a:lnTo>
                  <a:pt x="2499" y="0"/>
                </a:lnTo>
              </a:path>
            </a:pathLst>
          </a:custGeom>
          <a:solidFill>
            <a:srgbClr val="ffffff"/>
          </a:solidFill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833" name="Line 29"/>
          <p:cNvSpPr/>
          <p:nvPr/>
        </p:nvSpPr>
        <p:spPr>
          <a:xfrm flipH="1" flipV="1">
            <a:off x="901800" y="5537160"/>
            <a:ext cx="1295280" cy="648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834" name="Freeform 30"/>
          <p:cNvSpPr/>
          <p:nvPr/>
        </p:nvSpPr>
        <p:spPr>
          <a:xfrm rot="21240000">
            <a:off x="1990800" y="5184360"/>
            <a:ext cx="326880" cy="3556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lnTo>
                  <a:pt x="0" y="0"/>
                </a:lnTo>
                <a:lnTo>
                  <a:pt x="0" y="0"/>
                </a:lnTo>
                <a:cubicBezTo>
                  <a:pt x="5522" y="0"/>
                  <a:pt x="10000" y="4477"/>
                  <a:pt x="10000" y="10000"/>
                </a:cubicBezTo>
                <a:lnTo>
                  <a:pt x="0" y="10000"/>
                </a:lnTo>
                <a:close/>
                <a:moveTo>
                  <a:pt x="0" y="10000"/>
                </a:moveTo>
              </a:path>
            </a:pathLst>
          </a:custGeom>
          <a:noFill/>
          <a:ln w="38160">
            <a:solidFill>
              <a:srgbClr val="e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835" name="Text Box 31"/>
          <p:cNvSpPr/>
          <p:nvPr/>
        </p:nvSpPr>
        <p:spPr>
          <a:xfrm>
            <a:off x="1041480" y="5073480"/>
            <a:ext cx="1041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ee"/>
                </a:solidFill>
                <a:latin typeface="Bodoni SvtyTwo ITC TT-Book"/>
              </a:rPr>
              <a:t>60˚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transition spd="med">
    <p:wipe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6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837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838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839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grpSp>
        <p:nvGrpSpPr>
          <p:cNvPr id="840" name="Group 5"/>
          <p:cNvGrpSpPr/>
          <p:nvPr/>
        </p:nvGrpSpPr>
        <p:grpSpPr>
          <a:xfrm>
            <a:off x="698400" y="939960"/>
            <a:ext cx="7149960" cy="1765080"/>
            <a:chOff x="698400" y="939960"/>
            <a:chExt cx="7149960" cy="1765080"/>
          </a:xfrm>
        </p:grpSpPr>
        <p:sp>
          <p:nvSpPr>
            <p:cNvPr id="841" name="Rectangle 6"/>
            <p:cNvSpPr/>
            <p:nvPr/>
          </p:nvSpPr>
          <p:spPr>
            <a:xfrm>
              <a:off x="698400" y="939960"/>
              <a:ext cx="1434960" cy="11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n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42" name="Rectangle 7"/>
            <p:cNvSpPr/>
            <p:nvPr/>
          </p:nvSpPr>
          <p:spPr>
            <a:xfrm>
              <a:off x="2133360" y="939960"/>
              <a:ext cx="1422720" cy="11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Sum of Ext. &lt;s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43" name="Rectangle 8"/>
            <p:cNvSpPr/>
            <p:nvPr/>
          </p:nvSpPr>
          <p:spPr>
            <a:xfrm>
              <a:off x="3556080" y="939960"/>
              <a:ext cx="1434960" cy="11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Each Ext. &lt;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44" name="Rectangle 9"/>
            <p:cNvSpPr/>
            <p:nvPr/>
          </p:nvSpPr>
          <p:spPr>
            <a:xfrm>
              <a:off x="4991040" y="939960"/>
              <a:ext cx="1422360" cy="11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Each Int. &lt;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45" name="Rectangle 10"/>
            <p:cNvSpPr/>
            <p:nvPr/>
          </p:nvSpPr>
          <p:spPr>
            <a:xfrm>
              <a:off x="6413400" y="939960"/>
              <a:ext cx="1434960" cy="11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Sum of Int. &lt;s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46" name="Rectangle 11"/>
            <p:cNvSpPr/>
            <p:nvPr/>
          </p:nvSpPr>
          <p:spPr>
            <a:xfrm>
              <a:off x="698400" y="2095560"/>
              <a:ext cx="14349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47" name="Rectangle 12"/>
            <p:cNvSpPr/>
            <p:nvPr/>
          </p:nvSpPr>
          <p:spPr>
            <a:xfrm>
              <a:off x="2133360" y="2095560"/>
              <a:ext cx="14227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ee"/>
                  </a:solidFill>
                  <a:latin typeface="Bodoni SvtyTwo ITC TT-Book"/>
                </a:rPr>
                <a:t>360˚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48" name="Rectangle 13"/>
            <p:cNvSpPr/>
            <p:nvPr/>
          </p:nvSpPr>
          <p:spPr>
            <a:xfrm>
              <a:off x="3556080" y="2095560"/>
              <a:ext cx="14349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ee"/>
                  </a:solidFill>
                  <a:latin typeface="Bodoni SvtyTwo ITC TT-Book"/>
                </a:rPr>
                <a:t>60˚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49" name="Rectangle 14"/>
            <p:cNvSpPr/>
            <p:nvPr/>
          </p:nvSpPr>
          <p:spPr>
            <a:xfrm>
              <a:off x="4991040" y="2095560"/>
              <a:ext cx="14223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50" name="Rectangle 15"/>
            <p:cNvSpPr/>
            <p:nvPr/>
          </p:nvSpPr>
          <p:spPr>
            <a:xfrm>
              <a:off x="6413400" y="2095560"/>
              <a:ext cx="14349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51" name="Line 16"/>
            <p:cNvSpPr/>
            <p:nvPr/>
          </p:nvSpPr>
          <p:spPr>
            <a:xfrm>
              <a:off x="698400" y="93996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52" name="Line 17"/>
            <p:cNvSpPr/>
            <p:nvPr/>
          </p:nvSpPr>
          <p:spPr>
            <a:xfrm>
              <a:off x="2133360" y="93996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53" name="Line 18"/>
            <p:cNvSpPr/>
            <p:nvPr/>
          </p:nvSpPr>
          <p:spPr>
            <a:xfrm>
              <a:off x="3556080" y="93996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54" name="Line 19"/>
            <p:cNvSpPr/>
            <p:nvPr/>
          </p:nvSpPr>
          <p:spPr>
            <a:xfrm>
              <a:off x="4991040" y="93996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55" name="Line 20"/>
            <p:cNvSpPr/>
            <p:nvPr/>
          </p:nvSpPr>
          <p:spPr>
            <a:xfrm>
              <a:off x="6413400" y="93996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56" name="Line 21"/>
            <p:cNvSpPr/>
            <p:nvPr/>
          </p:nvSpPr>
          <p:spPr>
            <a:xfrm>
              <a:off x="7848360" y="93996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57" name="Line 22"/>
            <p:cNvSpPr/>
            <p:nvPr/>
          </p:nvSpPr>
          <p:spPr>
            <a:xfrm>
              <a:off x="698400" y="939960"/>
              <a:ext cx="71499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58" name="Line 23"/>
            <p:cNvSpPr/>
            <p:nvPr/>
          </p:nvSpPr>
          <p:spPr>
            <a:xfrm>
              <a:off x="698400" y="2095560"/>
              <a:ext cx="71499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59" name="Line 24"/>
            <p:cNvSpPr/>
            <p:nvPr/>
          </p:nvSpPr>
          <p:spPr>
            <a:xfrm>
              <a:off x="698400" y="2705040"/>
              <a:ext cx="71499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511200" y="-15840"/>
            <a:ext cx="765504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Bodoni SvtyTwo ITC TT-Book"/>
              </a:rPr>
              <a:t>Angles of Regular Polygons</a:t>
            </a:r>
            <a:endParaRPr b="0" lang="en-US" sz="5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861" name="Line 26"/>
          <p:cNvSpPr/>
          <p:nvPr/>
        </p:nvSpPr>
        <p:spPr>
          <a:xfrm>
            <a:off x="574560" y="96048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862" name="Text Box 27"/>
          <p:cNvSpPr/>
          <p:nvPr/>
        </p:nvSpPr>
        <p:spPr>
          <a:xfrm>
            <a:off x="5511960" y="2106720"/>
            <a:ext cx="3420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863" name="Freeform 28"/>
          <p:cNvSpPr/>
          <p:nvPr/>
        </p:nvSpPr>
        <p:spPr>
          <a:xfrm>
            <a:off x="1528920" y="3465360"/>
            <a:ext cx="2268360" cy="20718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2499" y="0"/>
                </a:moveTo>
                <a:lnTo>
                  <a:pt x="7499" y="0"/>
                </a:lnTo>
                <a:lnTo>
                  <a:pt x="10000" y="5000"/>
                </a:lnTo>
                <a:lnTo>
                  <a:pt x="7499" y="10000"/>
                </a:lnTo>
                <a:lnTo>
                  <a:pt x="2499" y="10000"/>
                </a:lnTo>
                <a:lnTo>
                  <a:pt x="0" y="4999"/>
                </a:lnTo>
                <a:lnTo>
                  <a:pt x="2499" y="0"/>
                </a:lnTo>
              </a:path>
            </a:pathLst>
          </a:custGeom>
          <a:solidFill>
            <a:srgbClr val="ffffff"/>
          </a:solidFill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864" name="Line 29"/>
          <p:cNvSpPr/>
          <p:nvPr/>
        </p:nvSpPr>
        <p:spPr>
          <a:xfrm flipH="1">
            <a:off x="901800" y="5537160"/>
            <a:ext cx="12952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865" name="Freeform 30"/>
          <p:cNvSpPr/>
          <p:nvPr/>
        </p:nvSpPr>
        <p:spPr>
          <a:xfrm rot="21240000">
            <a:off x="1990800" y="5178240"/>
            <a:ext cx="326880" cy="3553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lnTo>
                  <a:pt x="0" y="0"/>
                </a:lnTo>
                <a:lnTo>
                  <a:pt x="0" y="0"/>
                </a:lnTo>
                <a:cubicBezTo>
                  <a:pt x="5522" y="0"/>
                  <a:pt x="10000" y="4477"/>
                  <a:pt x="10000" y="10000"/>
                </a:cubicBezTo>
                <a:lnTo>
                  <a:pt x="0" y="10000"/>
                </a:lnTo>
                <a:close/>
                <a:moveTo>
                  <a:pt x="0" y="10000"/>
                </a:moveTo>
              </a:path>
            </a:pathLst>
          </a:custGeom>
          <a:noFill/>
          <a:ln w="38160">
            <a:solidFill>
              <a:srgbClr val="e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866" name="Text Box 31"/>
          <p:cNvSpPr/>
          <p:nvPr/>
        </p:nvSpPr>
        <p:spPr>
          <a:xfrm>
            <a:off x="1041480" y="5067360"/>
            <a:ext cx="1041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ee"/>
                </a:solidFill>
                <a:latin typeface="Bodoni SvtyTwo ITC TT-Book"/>
              </a:rPr>
              <a:t>60˚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867" name="Text Box 32"/>
          <p:cNvSpPr/>
          <p:nvPr/>
        </p:nvSpPr>
        <p:spPr>
          <a:xfrm>
            <a:off x="3594240" y="3289320"/>
            <a:ext cx="43434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ee"/>
                </a:solidFill>
                <a:latin typeface="Bodoni SvtyTwo ITC TT-Book"/>
              </a:rPr>
              <a:t>60˚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4800" spc="-1" strike="noStrike">
                <a:solidFill>
                  <a:srgbClr val="ee0000"/>
                </a:solidFill>
                <a:latin typeface="Arial"/>
              </a:rPr>
              <a:t>?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= 180˚</a:t>
            </a:r>
            <a:endParaRPr b="0" lang="en-US" sz="48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868" name="Line 33"/>
          <p:cNvSpPr/>
          <p:nvPr/>
        </p:nvSpPr>
        <p:spPr>
          <a:xfrm>
            <a:off x="4152960" y="2806560"/>
            <a:ext cx="0" cy="419400"/>
          </a:xfrm>
          <a:prstGeom prst="line">
            <a:avLst/>
          </a:prstGeom>
          <a:ln w="50760">
            <a:solidFill>
              <a:srgbClr val="0099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869" name="Line 34"/>
          <p:cNvSpPr/>
          <p:nvPr/>
        </p:nvSpPr>
        <p:spPr>
          <a:xfrm>
            <a:off x="5626080" y="2793960"/>
            <a:ext cx="0" cy="419040"/>
          </a:xfrm>
          <a:prstGeom prst="line">
            <a:avLst/>
          </a:prstGeom>
          <a:ln w="50760">
            <a:solidFill>
              <a:srgbClr val="0099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870" name="Text Box 35"/>
          <p:cNvSpPr/>
          <p:nvPr/>
        </p:nvSpPr>
        <p:spPr>
          <a:xfrm>
            <a:off x="3508200" y="4813200"/>
            <a:ext cx="4617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Bodoni SvtyTwo ITC TT-Book"/>
              </a:rPr>
              <a:t>(Linear Pair of Angles)</a:t>
            </a:r>
            <a:endParaRPr b="0" lang="en-US" sz="33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transition spd="med"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1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872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873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874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grpSp>
        <p:nvGrpSpPr>
          <p:cNvPr id="875" name="Group 5"/>
          <p:cNvGrpSpPr/>
          <p:nvPr/>
        </p:nvGrpSpPr>
        <p:grpSpPr>
          <a:xfrm>
            <a:off x="698400" y="946080"/>
            <a:ext cx="7149960" cy="1765080"/>
            <a:chOff x="698400" y="946080"/>
            <a:chExt cx="7149960" cy="1765080"/>
          </a:xfrm>
        </p:grpSpPr>
        <p:sp>
          <p:nvSpPr>
            <p:cNvPr id="876" name="Rectangle 6"/>
            <p:cNvSpPr/>
            <p:nvPr/>
          </p:nvSpPr>
          <p:spPr>
            <a:xfrm>
              <a:off x="698400" y="946080"/>
              <a:ext cx="1434960" cy="11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n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77" name="Rectangle 7"/>
            <p:cNvSpPr/>
            <p:nvPr/>
          </p:nvSpPr>
          <p:spPr>
            <a:xfrm>
              <a:off x="2133360" y="946080"/>
              <a:ext cx="1422720" cy="11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Sum of Ext. &lt;s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78" name="Rectangle 8"/>
            <p:cNvSpPr/>
            <p:nvPr/>
          </p:nvSpPr>
          <p:spPr>
            <a:xfrm>
              <a:off x="3556080" y="946080"/>
              <a:ext cx="1434960" cy="11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Each Ext. &lt;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79" name="Rectangle 9"/>
            <p:cNvSpPr/>
            <p:nvPr/>
          </p:nvSpPr>
          <p:spPr>
            <a:xfrm>
              <a:off x="4991040" y="946080"/>
              <a:ext cx="1422360" cy="11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Each Int. &lt;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80" name="Rectangle 10"/>
            <p:cNvSpPr/>
            <p:nvPr/>
          </p:nvSpPr>
          <p:spPr>
            <a:xfrm>
              <a:off x="6413400" y="946080"/>
              <a:ext cx="1434960" cy="11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Sum of Int. &lt;s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81" name="Rectangle 11"/>
            <p:cNvSpPr/>
            <p:nvPr/>
          </p:nvSpPr>
          <p:spPr>
            <a:xfrm>
              <a:off x="698400" y="2101680"/>
              <a:ext cx="14349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82" name="Rectangle 12"/>
            <p:cNvSpPr/>
            <p:nvPr/>
          </p:nvSpPr>
          <p:spPr>
            <a:xfrm>
              <a:off x="2133360" y="2101680"/>
              <a:ext cx="14227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ee"/>
                  </a:solidFill>
                  <a:latin typeface="Bodoni SvtyTwo ITC TT-Book"/>
                </a:rPr>
                <a:t>360˚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83" name="Rectangle 13"/>
            <p:cNvSpPr/>
            <p:nvPr/>
          </p:nvSpPr>
          <p:spPr>
            <a:xfrm>
              <a:off x="3556080" y="2101680"/>
              <a:ext cx="14349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ee"/>
                  </a:solidFill>
                  <a:latin typeface="Bodoni SvtyTwo ITC TT-Book"/>
                </a:rPr>
                <a:t>60˚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84" name="Rectangle 14"/>
            <p:cNvSpPr/>
            <p:nvPr/>
          </p:nvSpPr>
          <p:spPr>
            <a:xfrm>
              <a:off x="4991040" y="2101680"/>
              <a:ext cx="14223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ee"/>
                  </a:solidFill>
                  <a:latin typeface="Bodoni SvtyTwo ITC TT-Book"/>
                </a:rPr>
                <a:t>120˚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85" name="Rectangle 15"/>
            <p:cNvSpPr/>
            <p:nvPr/>
          </p:nvSpPr>
          <p:spPr>
            <a:xfrm>
              <a:off x="6413400" y="2101680"/>
              <a:ext cx="14349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86" name="Line 16"/>
            <p:cNvSpPr/>
            <p:nvPr/>
          </p:nvSpPr>
          <p:spPr>
            <a:xfrm>
              <a:off x="698400" y="94608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87" name="Line 17"/>
            <p:cNvSpPr/>
            <p:nvPr/>
          </p:nvSpPr>
          <p:spPr>
            <a:xfrm>
              <a:off x="2133360" y="94608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88" name="Line 18"/>
            <p:cNvSpPr/>
            <p:nvPr/>
          </p:nvSpPr>
          <p:spPr>
            <a:xfrm>
              <a:off x="3556080" y="94608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89" name="Line 19"/>
            <p:cNvSpPr/>
            <p:nvPr/>
          </p:nvSpPr>
          <p:spPr>
            <a:xfrm>
              <a:off x="4991040" y="94608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90" name="Line 20"/>
            <p:cNvSpPr/>
            <p:nvPr/>
          </p:nvSpPr>
          <p:spPr>
            <a:xfrm>
              <a:off x="6413400" y="94608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91" name="Line 21"/>
            <p:cNvSpPr/>
            <p:nvPr/>
          </p:nvSpPr>
          <p:spPr>
            <a:xfrm>
              <a:off x="7848360" y="94608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92" name="Line 22"/>
            <p:cNvSpPr/>
            <p:nvPr/>
          </p:nvSpPr>
          <p:spPr>
            <a:xfrm>
              <a:off x="698400" y="946080"/>
              <a:ext cx="71499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93" name="Line 23"/>
            <p:cNvSpPr/>
            <p:nvPr/>
          </p:nvSpPr>
          <p:spPr>
            <a:xfrm>
              <a:off x="698400" y="2101680"/>
              <a:ext cx="71499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894" name="Line 24"/>
            <p:cNvSpPr/>
            <p:nvPr/>
          </p:nvSpPr>
          <p:spPr>
            <a:xfrm>
              <a:off x="698400" y="2711160"/>
              <a:ext cx="71499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</p:grpSp>
      <p:sp>
        <p:nvSpPr>
          <p:cNvPr id="895" name="Text Box 25"/>
          <p:cNvSpPr/>
          <p:nvPr/>
        </p:nvSpPr>
        <p:spPr>
          <a:xfrm>
            <a:off x="511200" y="-22320"/>
            <a:ext cx="765504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Bodoni SvtyTwo ITC TT-Book"/>
              </a:rPr>
              <a:t>Angles of Regular Polygons</a:t>
            </a:r>
            <a:endParaRPr b="0" lang="en-US" sz="5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896" name="Line 26"/>
          <p:cNvSpPr/>
          <p:nvPr/>
        </p:nvSpPr>
        <p:spPr>
          <a:xfrm>
            <a:off x="574560" y="95400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897" name="Text Box 27"/>
          <p:cNvSpPr/>
          <p:nvPr/>
        </p:nvSpPr>
        <p:spPr>
          <a:xfrm>
            <a:off x="6959880" y="2112840"/>
            <a:ext cx="3420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898" name="Freeform 28"/>
          <p:cNvSpPr/>
          <p:nvPr/>
        </p:nvSpPr>
        <p:spPr>
          <a:xfrm>
            <a:off x="1528920" y="3459240"/>
            <a:ext cx="2268360" cy="207144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2499" y="0"/>
                </a:moveTo>
                <a:lnTo>
                  <a:pt x="7499" y="0"/>
                </a:lnTo>
                <a:lnTo>
                  <a:pt x="10000" y="5000"/>
                </a:lnTo>
                <a:lnTo>
                  <a:pt x="7499" y="10000"/>
                </a:lnTo>
                <a:lnTo>
                  <a:pt x="2499" y="10000"/>
                </a:lnTo>
                <a:lnTo>
                  <a:pt x="0" y="4999"/>
                </a:lnTo>
                <a:lnTo>
                  <a:pt x="2499" y="0"/>
                </a:lnTo>
              </a:path>
            </a:pathLst>
          </a:custGeom>
          <a:solidFill>
            <a:srgbClr val="ffffff"/>
          </a:solidFill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899" name="Freeform 29"/>
          <p:cNvSpPr/>
          <p:nvPr/>
        </p:nvSpPr>
        <p:spPr>
          <a:xfrm rot="21240000">
            <a:off x="1990800" y="5184360"/>
            <a:ext cx="326880" cy="3556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lnTo>
                  <a:pt x="0" y="0"/>
                </a:lnTo>
                <a:lnTo>
                  <a:pt x="0" y="0"/>
                </a:lnTo>
                <a:cubicBezTo>
                  <a:pt x="5522" y="0"/>
                  <a:pt x="10000" y="4477"/>
                  <a:pt x="10000" y="10000"/>
                </a:cubicBezTo>
                <a:lnTo>
                  <a:pt x="0" y="10000"/>
                </a:lnTo>
                <a:close/>
                <a:moveTo>
                  <a:pt x="0" y="10000"/>
                </a:moveTo>
              </a:path>
            </a:pathLst>
          </a:custGeom>
          <a:noFill/>
          <a:ln w="38160">
            <a:solidFill>
              <a:srgbClr val="e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900" name="Text Box 30"/>
          <p:cNvSpPr/>
          <p:nvPr/>
        </p:nvSpPr>
        <p:spPr>
          <a:xfrm>
            <a:off x="2095560" y="4260960"/>
            <a:ext cx="1231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ee"/>
                </a:solidFill>
                <a:latin typeface="Bodoni SvtyTwo ITC TT-Book"/>
              </a:rPr>
              <a:t>120˚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901" name="Line 31"/>
          <p:cNvSpPr/>
          <p:nvPr/>
        </p:nvSpPr>
        <p:spPr>
          <a:xfrm flipH="1">
            <a:off x="2260080" y="4724280"/>
            <a:ext cx="266760" cy="43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902" name="Freeform 32"/>
          <p:cNvSpPr/>
          <p:nvPr/>
        </p:nvSpPr>
        <p:spPr>
          <a:xfrm rot="2819400">
            <a:off x="1546200" y="4320720"/>
            <a:ext cx="326880" cy="3556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lnTo>
                  <a:pt x="0" y="0"/>
                </a:lnTo>
                <a:lnTo>
                  <a:pt x="0" y="0"/>
                </a:lnTo>
                <a:cubicBezTo>
                  <a:pt x="5522" y="0"/>
                  <a:pt x="10000" y="4477"/>
                  <a:pt x="10000" y="10000"/>
                </a:cubicBezTo>
                <a:lnTo>
                  <a:pt x="0" y="10000"/>
                </a:lnTo>
                <a:close/>
                <a:moveTo>
                  <a:pt x="0" y="10000"/>
                </a:moveTo>
              </a:path>
            </a:pathLst>
          </a:custGeom>
          <a:noFill/>
          <a:ln w="38160">
            <a:solidFill>
              <a:srgbClr val="e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903" name="Freeform 33"/>
          <p:cNvSpPr/>
          <p:nvPr/>
        </p:nvSpPr>
        <p:spPr>
          <a:xfrm rot="18780000">
            <a:off x="3476520" y="4295520"/>
            <a:ext cx="327240" cy="3553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10000" y="10000"/>
                </a:moveTo>
                <a:lnTo>
                  <a:pt x="0" y="10000"/>
                </a:lnTo>
                <a:lnTo>
                  <a:pt x="0" y="10000"/>
                </a:lnTo>
                <a:cubicBezTo>
                  <a:pt x="0" y="4477"/>
                  <a:pt x="4477" y="0"/>
                  <a:pt x="10000" y="0"/>
                </a:cubicBezTo>
                <a:lnTo>
                  <a:pt x="10000" y="10000"/>
                </a:lnTo>
                <a:close/>
                <a:moveTo>
                  <a:pt x="10000" y="10000"/>
                </a:moveTo>
              </a:path>
            </a:pathLst>
          </a:custGeom>
          <a:noFill/>
          <a:ln w="38160">
            <a:solidFill>
              <a:srgbClr val="e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904" name="Freeform 34"/>
          <p:cNvSpPr/>
          <p:nvPr/>
        </p:nvSpPr>
        <p:spPr>
          <a:xfrm rot="9780000">
            <a:off x="2994120" y="3457440"/>
            <a:ext cx="326880" cy="3556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lnTo>
                  <a:pt x="0" y="0"/>
                </a:lnTo>
                <a:lnTo>
                  <a:pt x="0" y="0"/>
                </a:lnTo>
                <a:cubicBezTo>
                  <a:pt x="5522" y="0"/>
                  <a:pt x="10000" y="4477"/>
                  <a:pt x="10000" y="10000"/>
                </a:cubicBezTo>
                <a:lnTo>
                  <a:pt x="0" y="10000"/>
                </a:lnTo>
                <a:close/>
                <a:moveTo>
                  <a:pt x="0" y="10000"/>
                </a:moveTo>
              </a:path>
            </a:pathLst>
          </a:custGeom>
          <a:noFill/>
          <a:ln w="38160">
            <a:solidFill>
              <a:srgbClr val="e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905" name="Freeform 35"/>
          <p:cNvSpPr/>
          <p:nvPr/>
        </p:nvSpPr>
        <p:spPr>
          <a:xfrm rot="6000000">
            <a:off x="2015640" y="3444840"/>
            <a:ext cx="326880" cy="3553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lnTo>
                  <a:pt x="0" y="0"/>
                </a:lnTo>
                <a:lnTo>
                  <a:pt x="0" y="0"/>
                </a:lnTo>
                <a:cubicBezTo>
                  <a:pt x="5522" y="0"/>
                  <a:pt x="10000" y="4477"/>
                  <a:pt x="10000" y="10000"/>
                </a:cubicBezTo>
                <a:lnTo>
                  <a:pt x="0" y="10000"/>
                </a:lnTo>
                <a:close/>
                <a:moveTo>
                  <a:pt x="0" y="10000"/>
                </a:moveTo>
              </a:path>
            </a:pathLst>
          </a:custGeom>
          <a:noFill/>
          <a:ln w="38160">
            <a:solidFill>
              <a:srgbClr val="e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906" name="Freeform 36"/>
          <p:cNvSpPr/>
          <p:nvPr/>
        </p:nvSpPr>
        <p:spPr>
          <a:xfrm rot="16920000">
            <a:off x="2955600" y="5235120"/>
            <a:ext cx="326880" cy="3556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lnTo>
                  <a:pt x="0" y="0"/>
                </a:lnTo>
                <a:lnTo>
                  <a:pt x="0" y="0"/>
                </a:lnTo>
                <a:cubicBezTo>
                  <a:pt x="5522" y="0"/>
                  <a:pt x="10000" y="4477"/>
                  <a:pt x="10000" y="10000"/>
                </a:cubicBezTo>
                <a:lnTo>
                  <a:pt x="0" y="10000"/>
                </a:lnTo>
                <a:close/>
                <a:moveTo>
                  <a:pt x="0" y="10000"/>
                </a:moveTo>
              </a:path>
            </a:pathLst>
          </a:custGeom>
          <a:noFill/>
          <a:ln w="38160">
            <a:solidFill>
              <a:srgbClr val="e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transition spd="med">
    <p:wipe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908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909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910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grpSp>
        <p:nvGrpSpPr>
          <p:cNvPr id="911" name="Group 5"/>
          <p:cNvGrpSpPr/>
          <p:nvPr/>
        </p:nvGrpSpPr>
        <p:grpSpPr>
          <a:xfrm>
            <a:off x="698400" y="944640"/>
            <a:ext cx="7149960" cy="1765080"/>
            <a:chOff x="698400" y="944640"/>
            <a:chExt cx="7149960" cy="1765080"/>
          </a:xfrm>
        </p:grpSpPr>
        <p:sp>
          <p:nvSpPr>
            <p:cNvPr id="912" name="Rectangle 6"/>
            <p:cNvSpPr/>
            <p:nvPr/>
          </p:nvSpPr>
          <p:spPr>
            <a:xfrm>
              <a:off x="698400" y="944640"/>
              <a:ext cx="1434960" cy="11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n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913" name="Rectangle 7"/>
            <p:cNvSpPr/>
            <p:nvPr/>
          </p:nvSpPr>
          <p:spPr>
            <a:xfrm>
              <a:off x="2133360" y="944640"/>
              <a:ext cx="1422720" cy="11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Sum of Ext. &lt;s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914" name="Rectangle 8"/>
            <p:cNvSpPr/>
            <p:nvPr/>
          </p:nvSpPr>
          <p:spPr>
            <a:xfrm>
              <a:off x="3556080" y="944640"/>
              <a:ext cx="1434960" cy="11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Each Ext. &lt;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915" name="Rectangle 9"/>
            <p:cNvSpPr/>
            <p:nvPr/>
          </p:nvSpPr>
          <p:spPr>
            <a:xfrm>
              <a:off x="4991040" y="944640"/>
              <a:ext cx="1422360" cy="11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Each Int. &lt;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916" name="Rectangle 10"/>
            <p:cNvSpPr/>
            <p:nvPr/>
          </p:nvSpPr>
          <p:spPr>
            <a:xfrm>
              <a:off x="6413400" y="944640"/>
              <a:ext cx="1434960" cy="11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Sum of Int. &lt;s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917" name="Rectangle 11"/>
            <p:cNvSpPr/>
            <p:nvPr/>
          </p:nvSpPr>
          <p:spPr>
            <a:xfrm>
              <a:off x="698400" y="2100240"/>
              <a:ext cx="14349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918" name="Rectangle 12"/>
            <p:cNvSpPr/>
            <p:nvPr/>
          </p:nvSpPr>
          <p:spPr>
            <a:xfrm>
              <a:off x="2133360" y="2100240"/>
              <a:ext cx="14227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ee"/>
                  </a:solidFill>
                  <a:latin typeface="Bodoni SvtyTwo ITC TT-Book"/>
                </a:rPr>
                <a:t>360˚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919" name="Rectangle 13"/>
            <p:cNvSpPr/>
            <p:nvPr/>
          </p:nvSpPr>
          <p:spPr>
            <a:xfrm>
              <a:off x="3556080" y="2100240"/>
              <a:ext cx="14349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ee"/>
                  </a:solidFill>
                  <a:latin typeface="Bodoni SvtyTwo ITC TT-Book"/>
                </a:rPr>
                <a:t>60˚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920" name="Rectangle 14"/>
            <p:cNvSpPr/>
            <p:nvPr/>
          </p:nvSpPr>
          <p:spPr>
            <a:xfrm>
              <a:off x="4991040" y="2100240"/>
              <a:ext cx="14223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ee"/>
                  </a:solidFill>
                  <a:latin typeface="Bodoni SvtyTwo ITC TT-Book"/>
                </a:rPr>
                <a:t>120˚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921" name="Rectangle 15"/>
            <p:cNvSpPr/>
            <p:nvPr/>
          </p:nvSpPr>
          <p:spPr>
            <a:xfrm>
              <a:off x="6413400" y="2100240"/>
              <a:ext cx="14349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922" name="Line 16"/>
            <p:cNvSpPr/>
            <p:nvPr/>
          </p:nvSpPr>
          <p:spPr>
            <a:xfrm>
              <a:off x="698400" y="94464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923" name="Line 17"/>
            <p:cNvSpPr/>
            <p:nvPr/>
          </p:nvSpPr>
          <p:spPr>
            <a:xfrm>
              <a:off x="2133360" y="94464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924" name="Line 18"/>
            <p:cNvSpPr/>
            <p:nvPr/>
          </p:nvSpPr>
          <p:spPr>
            <a:xfrm>
              <a:off x="3556080" y="94464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925" name="Line 19"/>
            <p:cNvSpPr/>
            <p:nvPr/>
          </p:nvSpPr>
          <p:spPr>
            <a:xfrm>
              <a:off x="4991040" y="94464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926" name="Line 20"/>
            <p:cNvSpPr/>
            <p:nvPr/>
          </p:nvSpPr>
          <p:spPr>
            <a:xfrm>
              <a:off x="6413400" y="94464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927" name="Line 21"/>
            <p:cNvSpPr/>
            <p:nvPr/>
          </p:nvSpPr>
          <p:spPr>
            <a:xfrm>
              <a:off x="7848360" y="94464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928" name="Line 22"/>
            <p:cNvSpPr/>
            <p:nvPr/>
          </p:nvSpPr>
          <p:spPr>
            <a:xfrm>
              <a:off x="698400" y="944640"/>
              <a:ext cx="71499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929" name="Line 23"/>
            <p:cNvSpPr/>
            <p:nvPr/>
          </p:nvSpPr>
          <p:spPr>
            <a:xfrm>
              <a:off x="698400" y="2100240"/>
              <a:ext cx="71499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930" name="Line 24"/>
            <p:cNvSpPr/>
            <p:nvPr/>
          </p:nvSpPr>
          <p:spPr>
            <a:xfrm>
              <a:off x="698400" y="2709720"/>
              <a:ext cx="71499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</p:grpSp>
      <p:sp>
        <p:nvSpPr>
          <p:cNvPr id="931" name="Text Box 25"/>
          <p:cNvSpPr/>
          <p:nvPr/>
        </p:nvSpPr>
        <p:spPr>
          <a:xfrm>
            <a:off x="511200" y="-23760"/>
            <a:ext cx="765504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Bodoni SvtyTwo ITC TT-Book"/>
              </a:rPr>
              <a:t>Angles of Regular Polygons</a:t>
            </a:r>
            <a:endParaRPr b="0" lang="en-US" sz="5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932" name="Line 26"/>
          <p:cNvSpPr/>
          <p:nvPr/>
        </p:nvSpPr>
        <p:spPr>
          <a:xfrm>
            <a:off x="574560" y="95256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933" name="Text Box 27"/>
          <p:cNvSpPr/>
          <p:nvPr/>
        </p:nvSpPr>
        <p:spPr>
          <a:xfrm>
            <a:off x="6959880" y="2111400"/>
            <a:ext cx="3420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934" name="Freeform 28"/>
          <p:cNvSpPr/>
          <p:nvPr/>
        </p:nvSpPr>
        <p:spPr>
          <a:xfrm>
            <a:off x="1528920" y="3457440"/>
            <a:ext cx="2268360" cy="20718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2499" y="0"/>
                </a:moveTo>
                <a:lnTo>
                  <a:pt x="7499" y="0"/>
                </a:lnTo>
                <a:lnTo>
                  <a:pt x="10000" y="5000"/>
                </a:lnTo>
                <a:lnTo>
                  <a:pt x="7499" y="10000"/>
                </a:lnTo>
                <a:lnTo>
                  <a:pt x="2499" y="10000"/>
                </a:lnTo>
                <a:lnTo>
                  <a:pt x="0" y="4999"/>
                </a:lnTo>
                <a:lnTo>
                  <a:pt x="2499" y="0"/>
                </a:lnTo>
              </a:path>
            </a:pathLst>
          </a:custGeom>
          <a:solidFill>
            <a:srgbClr val="ffffff"/>
          </a:solidFill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935" name="Text Box 29"/>
          <p:cNvSpPr/>
          <p:nvPr/>
        </p:nvSpPr>
        <p:spPr>
          <a:xfrm>
            <a:off x="2095560" y="4259160"/>
            <a:ext cx="1231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ee"/>
                </a:solidFill>
                <a:latin typeface="Bodoni SvtyTwo ITC TT-Book"/>
              </a:rPr>
              <a:t>120˚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936" name="Line 30"/>
          <p:cNvSpPr/>
          <p:nvPr/>
        </p:nvSpPr>
        <p:spPr>
          <a:xfrm flipH="1">
            <a:off x="2260080" y="4735440"/>
            <a:ext cx="266760" cy="43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937" name="Freeform 31"/>
          <p:cNvSpPr/>
          <p:nvPr/>
        </p:nvSpPr>
        <p:spPr>
          <a:xfrm rot="21240000">
            <a:off x="1990800" y="5182920"/>
            <a:ext cx="326880" cy="3556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lnTo>
                  <a:pt x="0" y="0"/>
                </a:lnTo>
                <a:lnTo>
                  <a:pt x="0" y="0"/>
                </a:lnTo>
                <a:cubicBezTo>
                  <a:pt x="5522" y="0"/>
                  <a:pt x="10000" y="4477"/>
                  <a:pt x="10000" y="10000"/>
                </a:cubicBezTo>
                <a:lnTo>
                  <a:pt x="0" y="10000"/>
                </a:lnTo>
                <a:close/>
                <a:moveTo>
                  <a:pt x="0" y="10000"/>
                </a:moveTo>
              </a:path>
            </a:pathLst>
          </a:custGeom>
          <a:noFill/>
          <a:ln w="38160">
            <a:solidFill>
              <a:srgbClr val="e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938" name="Freeform 32"/>
          <p:cNvSpPr/>
          <p:nvPr/>
        </p:nvSpPr>
        <p:spPr>
          <a:xfrm rot="2819400">
            <a:off x="1546200" y="4319280"/>
            <a:ext cx="326880" cy="3556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lnTo>
                  <a:pt x="0" y="0"/>
                </a:lnTo>
                <a:lnTo>
                  <a:pt x="0" y="0"/>
                </a:lnTo>
                <a:cubicBezTo>
                  <a:pt x="5522" y="0"/>
                  <a:pt x="10000" y="4477"/>
                  <a:pt x="10000" y="10000"/>
                </a:cubicBezTo>
                <a:lnTo>
                  <a:pt x="0" y="10000"/>
                </a:lnTo>
                <a:close/>
                <a:moveTo>
                  <a:pt x="0" y="10000"/>
                </a:moveTo>
              </a:path>
            </a:pathLst>
          </a:custGeom>
          <a:noFill/>
          <a:ln w="38160">
            <a:solidFill>
              <a:srgbClr val="e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939" name="Freeform 33"/>
          <p:cNvSpPr/>
          <p:nvPr/>
        </p:nvSpPr>
        <p:spPr>
          <a:xfrm rot="18780000">
            <a:off x="3476520" y="4294440"/>
            <a:ext cx="326880" cy="3553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10000" y="10000"/>
                </a:moveTo>
                <a:lnTo>
                  <a:pt x="0" y="10000"/>
                </a:lnTo>
                <a:lnTo>
                  <a:pt x="0" y="10000"/>
                </a:lnTo>
                <a:cubicBezTo>
                  <a:pt x="0" y="4477"/>
                  <a:pt x="4477" y="0"/>
                  <a:pt x="10000" y="0"/>
                </a:cubicBezTo>
                <a:lnTo>
                  <a:pt x="10000" y="10000"/>
                </a:lnTo>
                <a:close/>
                <a:moveTo>
                  <a:pt x="10000" y="10000"/>
                </a:moveTo>
              </a:path>
            </a:pathLst>
          </a:custGeom>
          <a:noFill/>
          <a:ln w="38160">
            <a:solidFill>
              <a:srgbClr val="e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940" name="Freeform 34"/>
          <p:cNvSpPr/>
          <p:nvPr/>
        </p:nvSpPr>
        <p:spPr>
          <a:xfrm rot="9780000">
            <a:off x="2994120" y="3468600"/>
            <a:ext cx="326880" cy="3556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lnTo>
                  <a:pt x="0" y="0"/>
                </a:lnTo>
                <a:lnTo>
                  <a:pt x="0" y="0"/>
                </a:lnTo>
                <a:cubicBezTo>
                  <a:pt x="5522" y="0"/>
                  <a:pt x="10000" y="4477"/>
                  <a:pt x="10000" y="10000"/>
                </a:cubicBezTo>
                <a:lnTo>
                  <a:pt x="0" y="10000"/>
                </a:lnTo>
                <a:close/>
                <a:moveTo>
                  <a:pt x="0" y="10000"/>
                </a:moveTo>
              </a:path>
            </a:pathLst>
          </a:custGeom>
          <a:noFill/>
          <a:ln w="38160">
            <a:solidFill>
              <a:srgbClr val="e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941" name="Freeform 35"/>
          <p:cNvSpPr/>
          <p:nvPr/>
        </p:nvSpPr>
        <p:spPr>
          <a:xfrm rot="6000000">
            <a:off x="2015280" y="3443400"/>
            <a:ext cx="327240" cy="3553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lnTo>
                  <a:pt x="0" y="0"/>
                </a:lnTo>
                <a:lnTo>
                  <a:pt x="0" y="0"/>
                </a:lnTo>
                <a:cubicBezTo>
                  <a:pt x="5522" y="0"/>
                  <a:pt x="10000" y="4477"/>
                  <a:pt x="10000" y="10000"/>
                </a:cubicBezTo>
                <a:lnTo>
                  <a:pt x="0" y="10000"/>
                </a:lnTo>
                <a:close/>
                <a:moveTo>
                  <a:pt x="0" y="10000"/>
                </a:moveTo>
              </a:path>
            </a:pathLst>
          </a:custGeom>
          <a:noFill/>
          <a:ln w="38160">
            <a:solidFill>
              <a:srgbClr val="e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942" name="Freeform 36"/>
          <p:cNvSpPr/>
          <p:nvPr/>
        </p:nvSpPr>
        <p:spPr>
          <a:xfrm rot="16920000">
            <a:off x="2955600" y="5233680"/>
            <a:ext cx="326880" cy="3556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lnTo>
                  <a:pt x="0" y="0"/>
                </a:lnTo>
                <a:lnTo>
                  <a:pt x="0" y="0"/>
                </a:lnTo>
                <a:cubicBezTo>
                  <a:pt x="5522" y="0"/>
                  <a:pt x="10000" y="4477"/>
                  <a:pt x="10000" y="10000"/>
                </a:cubicBezTo>
                <a:lnTo>
                  <a:pt x="0" y="10000"/>
                </a:lnTo>
                <a:close/>
                <a:moveTo>
                  <a:pt x="0" y="10000"/>
                </a:moveTo>
              </a:path>
            </a:pathLst>
          </a:custGeom>
          <a:noFill/>
          <a:ln w="38160">
            <a:solidFill>
              <a:srgbClr val="e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943" name="Line 37"/>
          <p:cNvSpPr/>
          <p:nvPr/>
        </p:nvSpPr>
        <p:spPr>
          <a:xfrm flipH="1">
            <a:off x="6629400" y="2819520"/>
            <a:ext cx="355680" cy="596880"/>
          </a:xfrm>
          <a:prstGeom prst="line">
            <a:avLst/>
          </a:prstGeom>
          <a:ln w="76320">
            <a:solidFill>
              <a:srgbClr val="00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944" name="Text Box 38"/>
          <p:cNvSpPr/>
          <p:nvPr/>
        </p:nvSpPr>
        <p:spPr>
          <a:xfrm>
            <a:off x="4527720" y="5016600"/>
            <a:ext cx="247608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(n)(</a:t>
            </a:r>
            <a:r>
              <a:rPr b="1" lang="en-US" sz="4800" spc="-1" strike="noStrike">
                <a:solidFill>
                  <a:srgbClr val="0000ee"/>
                </a:solidFill>
                <a:latin typeface="Bodoni SvtyTwo ITC TT-Book"/>
              </a:rPr>
              <a:t>120˚</a:t>
            </a: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945" name="Line 39"/>
          <p:cNvSpPr/>
          <p:nvPr/>
        </p:nvSpPr>
        <p:spPr>
          <a:xfrm flipH="1">
            <a:off x="5638320" y="4368960"/>
            <a:ext cx="343080" cy="558720"/>
          </a:xfrm>
          <a:prstGeom prst="line">
            <a:avLst/>
          </a:prstGeom>
          <a:ln w="76320">
            <a:solidFill>
              <a:srgbClr val="00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946" name="Text Box 40"/>
          <p:cNvSpPr/>
          <p:nvPr/>
        </p:nvSpPr>
        <p:spPr>
          <a:xfrm>
            <a:off x="4997880" y="3606840"/>
            <a:ext cx="2424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(6)(</a:t>
            </a:r>
            <a:r>
              <a:rPr b="1" lang="en-US" sz="4800" spc="-1" strike="noStrike">
                <a:solidFill>
                  <a:srgbClr val="0000ee"/>
                </a:solidFill>
                <a:latin typeface="Bodoni SvtyTwo ITC TT-Book"/>
              </a:rPr>
              <a:t>120˚</a:t>
            </a: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transition spd="med"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7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948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949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950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grpSp>
        <p:nvGrpSpPr>
          <p:cNvPr id="951" name="Group 5"/>
          <p:cNvGrpSpPr/>
          <p:nvPr/>
        </p:nvGrpSpPr>
        <p:grpSpPr>
          <a:xfrm>
            <a:off x="698400" y="944640"/>
            <a:ext cx="7149960" cy="1765080"/>
            <a:chOff x="698400" y="944640"/>
            <a:chExt cx="7149960" cy="1765080"/>
          </a:xfrm>
        </p:grpSpPr>
        <p:sp>
          <p:nvSpPr>
            <p:cNvPr id="952" name="Rectangle 6"/>
            <p:cNvSpPr/>
            <p:nvPr/>
          </p:nvSpPr>
          <p:spPr>
            <a:xfrm>
              <a:off x="698400" y="944640"/>
              <a:ext cx="1434960" cy="11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n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953" name="Rectangle 7"/>
            <p:cNvSpPr/>
            <p:nvPr/>
          </p:nvSpPr>
          <p:spPr>
            <a:xfrm>
              <a:off x="2133360" y="944640"/>
              <a:ext cx="1422720" cy="11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Sum of Ext. &lt;s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954" name="Rectangle 8"/>
            <p:cNvSpPr/>
            <p:nvPr/>
          </p:nvSpPr>
          <p:spPr>
            <a:xfrm>
              <a:off x="3556080" y="944640"/>
              <a:ext cx="1434960" cy="11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Each Ext. &lt;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955" name="Rectangle 9"/>
            <p:cNvSpPr/>
            <p:nvPr/>
          </p:nvSpPr>
          <p:spPr>
            <a:xfrm>
              <a:off x="4991040" y="944640"/>
              <a:ext cx="1422360" cy="11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Each Int. &lt;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956" name="Rectangle 10"/>
            <p:cNvSpPr/>
            <p:nvPr/>
          </p:nvSpPr>
          <p:spPr>
            <a:xfrm>
              <a:off x="6413400" y="944640"/>
              <a:ext cx="1434960" cy="11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Sum of Int. &lt;s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957" name="Rectangle 11"/>
            <p:cNvSpPr/>
            <p:nvPr/>
          </p:nvSpPr>
          <p:spPr>
            <a:xfrm>
              <a:off x="698400" y="2100240"/>
              <a:ext cx="14349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Bodoni SvtyTwo ITC TT-Book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958" name="Rectangle 12"/>
            <p:cNvSpPr/>
            <p:nvPr/>
          </p:nvSpPr>
          <p:spPr>
            <a:xfrm>
              <a:off x="2133360" y="2100240"/>
              <a:ext cx="14227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ee"/>
                  </a:solidFill>
                  <a:latin typeface="Bodoni SvtyTwo ITC TT-Book"/>
                </a:rPr>
                <a:t>360˚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959" name="Rectangle 13"/>
            <p:cNvSpPr/>
            <p:nvPr/>
          </p:nvSpPr>
          <p:spPr>
            <a:xfrm>
              <a:off x="3556080" y="2100240"/>
              <a:ext cx="14349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ee"/>
                  </a:solidFill>
                  <a:latin typeface="Bodoni SvtyTwo ITC TT-Book"/>
                </a:rPr>
                <a:t>60˚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960" name="Rectangle 14"/>
            <p:cNvSpPr/>
            <p:nvPr/>
          </p:nvSpPr>
          <p:spPr>
            <a:xfrm>
              <a:off x="4991040" y="2100240"/>
              <a:ext cx="14223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ee"/>
                  </a:solidFill>
                  <a:latin typeface="Bodoni SvtyTwo ITC TT-Book"/>
                </a:rPr>
                <a:t>120˚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961" name="Rectangle 15"/>
            <p:cNvSpPr/>
            <p:nvPr/>
          </p:nvSpPr>
          <p:spPr>
            <a:xfrm>
              <a:off x="6413400" y="2100240"/>
              <a:ext cx="14349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ee"/>
                  </a:solidFill>
                  <a:latin typeface="Bodoni SvtyTwo ITC TT-Book"/>
                </a:rPr>
                <a:t>720˚</a:t>
              </a:r>
              <a:endParaRPr b="0" lang="en-US" sz="36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962" name="Line 16"/>
            <p:cNvSpPr/>
            <p:nvPr/>
          </p:nvSpPr>
          <p:spPr>
            <a:xfrm>
              <a:off x="698400" y="94464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963" name="Line 17"/>
            <p:cNvSpPr/>
            <p:nvPr/>
          </p:nvSpPr>
          <p:spPr>
            <a:xfrm>
              <a:off x="2133360" y="94464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964" name="Line 18"/>
            <p:cNvSpPr/>
            <p:nvPr/>
          </p:nvSpPr>
          <p:spPr>
            <a:xfrm>
              <a:off x="3556080" y="94464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965" name="Line 19"/>
            <p:cNvSpPr/>
            <p:nvPr/>
          </p:nvSpPr>
          <p:spPr>
            <a:xfrm>
              <a:off x="4991040" y="94464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966" name="Line 20"/>
            <p:cNvSpPr/>
            <p:nvPr/>
          </p:nvSpPr>
          <p:spPr>
            <a:xfrm>
              <a:off x="6413400" y="94464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967" name="Line 21"/>
            <p:cNvSpPr/>
            <p:nvPr/>
          </p:nvSpPr>
          <p:spPr>
            <a:xfrm>
              <a:off x="7848360" y="944640"/>
              <a:ext cx="0" cy="176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968" name="Line 22"/>
            <p:cNvSpPr/>
            <p:nvPr/>
          </p:nvSpPr>
          <p:spPr>
            <a:xfrm>
              <a:off x="698400" y="944640"/>
              <a:ext cx="71499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969" name="Line 23"/>
            <p:cNvSpPr/>
            <p:nvPr/>
          </p:nvSpPr>
          <p:spPr>
            <a:xfrm>
              <a:off x="698400" y="2100240"/>
              <a:ext cx="71499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970" name="Line 24"/>
            <p:cNvSpPr/>
            <p:nvPr/>
          </p:nvSpPr>
          <p:spPr>
            <a:xfrm>
              <a:off x="698400" y="2709720"/>
              <a:ext cx="71499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</p:grpSp>
      <p:sp>
        <p:nvSpPr>
          <p:cNvPr id="971" name="Text Box 25"/>
          <p:cNvSpPr/>
          <p:nvPr/>
        </p:nvSpPr>
        <p:spPr>
          <a:xfrm>
            <a:off x="511200" y="-23760"/>
            <a:ext cx="765504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Bodoni SvtyTwo ITC TT-Book"/>
              </a:rPr>
              <a:t>Angles of Regular Polygons</a:t>
            </a:r>
            <a:endParaRPr b="0" lang="en-US" sz="5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972" name="Line 26"/>
          <p:cNvSpPr/>
          <p:nvPr/>
        </p:nvSpPr>
        <p:spPr>
          <a:xfrm>
            <a:off x="574560" y="95256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973" name="Freeform 27"/>
          <p:cNvSpPr/>
          <p:nvPr/>
        </p:nvSpPr>
        <p:spPr>
          <a:xfrm>
            <a:off x="1528920" y="3457440"/>
            <a:ext cx="2268360" cy="20718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2499" y="0"/>
                </a:moveTo>
                <a:lnTo>
                  <a:pt x="7499" y="0"/>
                </a:lnTo>
                <a:lnTo>
                  <a:pt x="10000" y="5000"/>
                </a:lnTo>
                <a:lnTo>
                  <a:pt x="7499" y="10000"/>
                </a:lnTo>
                <a:lnTo>
                  <a:pt x="2499" y="10000"/>
                </a:lnTo>
                <a:lnTo>
                  <a:pt x="0" y="4999"/>
                </a:lnTo>
                <a:lnTo>
                  <a:pt x="2499" y="0"/>
                </a:lnTo>
              </a:path>
            </a:pathLst>
          </a:custGeom>
          <a:solidFill>
            <a:srgbClr val="ffffff"/>
          </a:solidFill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974" name="Text Box 28"/>
          <p:cNvSpPr/>
          <p:nvPr/>
        </p:nvSpPr>
        <p:spPr>
          <a:xfrm>
            <a:off x="2095560" y="4259160"/>
            <a:ext cx="1231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ee"/>
                </a:solidFill>
                <a:latin typeface="Bodoni SvtyTwo ITC TT-Book"/>
              </a:rPr>
              <a:t>120˚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975" name="Line 29"/>
          <p:cNvSpPr/>
          <p:nvPr/>
        </p:nvSpPr>
        <p:spPr>
          <a:xfrm flipH="1">
            <a:off x="2260080" y="4735440"/>
            <a:ext cx="266760" cy="43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976" name="Freeform 30"/>
          <p:cNvSpPr/>
          <p:nvPr/>
        </p:nvSpPr>
        <p:spPr>
          <a:xfrm rot="21240000">
            <a:off x="1990800" y="5182920"/>
            <a:ext cx="326880" cy="3556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lnTo>
                  <a:pt x="0" y="0"/>
                </a:lnTo>
                <a:lnTo>
                  <a:pt x="0" y="0"/>
                </a:lnTo>
                <a:cubicBezTo>
                  <a:pt x="5522" y="0"/>
                  <a:pt x="10000" y="4477"/>
                  <a:pt x="10000" y="10000"/>
                </a:cubicBezTo>
                <a:lnTo>
                  <a:pt x="0" y="10000"/>
                </a:lnTo>
                <a:close/>
                <a:moveTo>
                  <a:pt x="0" y="10000"/>
                </a:moveTo>
              </a:path>
            </a:pathLst>
          </a:custGeom>
          <a:noFill/>
          <a:ln w="38160">
            <a:solidFill>
              <a:srgbClr val="e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977" name="Freeform 31"/>
          <p:cNvSpPr/>
          <p:nvPr/>
        </p:nvSpPr>
        <p:spPr>
          <a:xfrm rot="2819400">
            <a:off x="1546200" y="4319280"/>
            <a:ext cx="326880" cy="3556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lnTo>
                  <a:pt x="0" y="0"/>
                </a:lnTo>
                <a:lnTo>
                  <a:pt x="0" y="0"/>
                </a:lnTo>
                <a:cubicBezTo>
                  <a:pt x="5522" y="0"/>
                  <a:pt x="10000" y="4477"/>
                  <a:pt x="10000" y="10000"/>
                </a:cubicBezTo>
                <a:lnTo>
                  <a:pt x="0" y="10000"/>
                </a:lnTo>
                <a:close/>
                <a:moveTo>
                  <a:pt x="0" y="10000"/>
                </a:moveTo>
              </a:path>
            </a:pathLst>
          </a:custGeom>
          <a:noFill/>
          <a:ln w="38160">
            <a:solidFill>
              <a:srgbClr val="e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978" name="Freeform 32"/>
          <p:cNvSpPr/>
          <p:nvPr/>
        </p:nvSpPr>
        <p:spPr>
          <a:xfrm rot="18780000">
            <a:off x="3476520" y="4294440"/>
            <a:ext cx="326880" cy="3553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10000" y="10000"/>
                </a:moveTo>
                <a:lnTo>
                  <a:pt x="0" y="10000"/>
                </a:lnTo>
                <a:lnTo>
                  <a:pt x="0" y="10000"/>
                </a:lnTo>
                <a:cubicBezTo>
                  <a:pt x="0" y="4477"/>
                  <a:pt x="4477" y="0"/>
                  <a:pt x="10000" y="0"/>
                </a:cubicBezTo>
                <a:lnTo>
                  <a:pt x="10000" y="10000"/>
                </a:lnTo>
                <a:close/>
                <a:moveTo>
                  <a:pt x="10000" y="10000"/>
                </a:moveTo>
              </a:path>
            </a:pathLst>
          </a:custGeom>
          <a:noFill/>
          <a:ln w="38160">
            <a:solidFill>
              <a:srgbClr val="e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979" name="Freeform 33"/>
          <p:cNvSpPr/>
          <p:nvPr/>
        </p:nvSpPr>
        <p:spPr>
          <a:xfrm rot="9780000">
            <a:off x="2994120" y="3468600"/>
            <a:ext cx="326880" cy="3556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lnTo>
                  <a:pt x="0" y="0"/>
                </a:lnTo>
                <a:lnTo>
                  <a:pt x="0" y="0"/>
                </a:lnTo>
                <a:cubicBezTo>
                  <a:pt x="5522" y="0"/>
                  <a:pt x="10000" y="4477"/>
                  <a:pt x="10000" y="10000"/>
                </a:cubicBezTo>
                <a:lnTo>
                  <a:pt x="0" y="10000"/>
                </a:lnTo>
                <a:close/>
                <a:moveTo>
                  <a:pt x="0" y="10000"/>
                </a:moveTo>
              </a:path>
            </a:pathLst>
          </a:custGeom>
          <a:noFill/>
          <a:ln w="38160">
            <a:solidFill>
              <a:srgbClr val="e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980" name="Freeform 34"/>
          <p:cNvSpPr/>
          <p:nvPr/>
        </p:nvSpPr>
        <p:spPr>
          <a:xfrm rot="6000000">
            <a:off x="2015280" y="3443400"/>
            <a:ext cx="327240" cy="3553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lnTo>
                  <a:pt x="0" y="0"/>
                </a:lnTo>
                <a:lnTo>
                  <a:pt x="0" y="0"/>
                </a:lnTo>
                <a:cubicBezTo>
                  <a:pt x="5522" y="0"/>
                  <a:pt x="10000" y="4477"/>
                  <a:pt x="10000" y="10000"/>
                </a:cubicBezTo>
                <a:lnTo>
                  <a:pt x="0" y="10000"/>
                </a:lnTo>
                <a:close/>
                <a:moveTo>
                  <a:pt x="0" y="10000"/>
                </a:moveTo>
              </a:path>
            </a:pathLst>
          </a:custGeom>
          <a:noFill/>
          <a:ln w="38160">
            <a:solidFill>
              <a:srgbClr val="e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981" name="Freeform 35"/>
          <p:cNvSpPr/>
          <p:nvPr/>
        </p:nvSpPr>
        <p:spPr>
          <a:xfrm rot="16920000">
            <a:off x="2955600" y="5233680"/>
            <a:ext cx="326880" cy="3556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lnTo>
                  <a:pt x="0" y="0"/>
                </a:lnTo>
                <a:lnTo>
                  <a:pt x="0" y="0"/>
                </a:lnTo>
                <a:cubicBezTo>
                  <a:pt x="5522" y="0"/>
                  <a:pt x="10000" y="4477"/>
                  <a:pt x="10000" y="10000"/>
                </a:cubicBezTo>
                <a:lnTo>
                  <a:pt x="0" y="10000"/>
                </a:lnTo>
                <a:close/>
                <a:moveTo>
                  <a:pt x="0" y="10000"/>
                </a:moveTo>
              </a:path>
            </a:pathLst>
          </a:custGeom>
          <a:noFill/>
          <a:ln w="38160">
            <a:solidFill>
              <a:srgbClr val="e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982" name="Line 36"/>
          <p:cNvSpPr/>
          <p:nvPr/>
        </p:nvSpPr>
        <p:spPr>
          <a:xfrm flipH="1">
            <a:off x="6629400" y="2819520"/>
            <a:ext cx="355680" cy="596880"/>
          </a:xfrm>
          <a:prstGeom prst="line">
            <a:avLst/>
          </a:prstGeom>
          <a:ln w="76320">
            <a:solidFill>
              <a:srgbClr val="00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983" name="Text Box 37"/>
          <p:cNvSpPr/>
          <p:nvPr/>
        </p:nvSpPr>
        <p:spPr>
          <a:xfrm>
            <a:off x="4527720" y="5016600"/>
            <a:ext cx="247608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(n)(</a:t>
            </a:r>
            <a:r>
              <a:rPr b="1" lang="en-US" sz="4800" spc="-1" strike="noStrike">
                <a:solidFill>
                  <a:srgbClr val="0000ee"/>
                </a:solidFill>
                <a:latin typeface="Bodoni SvtyTwo ITC TT-Book"/>
              </a:rPr>
              <a:t>120˚</a:t>
            </a: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984" name="Line 38"/>
          <p:cNvSpPr/>
          <p:nvPr/>
        </p:nvSpPr>
        <p:spPr>
          <a:xfrm flipH="1">
            <a:off x="5638320" y="4368960"/>
            <a:ext cx="343080" cy="558720"/>
          </a:xfrm>
          <a:prstGeom prst="line">
            <a:avLst/>
          </a:prstGeom>
          <a:ln w="76320">
            <a:solidFill>
              <a:srgbClr val="00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985" name="Text Box 39"/>
          <p:cNvSpPr/>
          <p:nvPr/>
        </p:nvSpPr>
        <p:spPr>
          <a:xfrm>
            <a:off x="4997880" y="3606840"/>
            <a:ext cx="2424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(6)(</a:t>
            </a:r>
            <a:r>
              <a:rPr b="1" lang="en-US" sz="4800" spc="-1" strike="noStrike">
                <a:solidFill>
                  <a:srgbClr val="0000ee"/>
                </a:solidFill>
                <a:latin typeface="Bodoni SvtyTwo ITC TT-Book"/>
              </a:rPr>
              <a:t>120˚</a:t>
            </a: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90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91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92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93" name="Text Box 5"/>
          <p:cNvSpPr/>
          <p:nvPr/>
        </p:nvSpPr>
        <p:spPr>
          <a:xfrm>
            <a:off x="1295280" y="165240"/>
            <a:ext cx="6413760" cy="22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Bodoni SvtyTwo ITC TT-Book"/>
              </a:rPr>
              <a:t>Conditional Statements</a:t>
            </a:r>
            <a:endParaRPr b="0" lang="en-US" sz="5000" spc="-1" strike="noStrike">
              <a:solidFill>
                <a:srgbClr val="000000"/>
              </a:solidFill>
              <a:latin typeface="Bodoni SvtyTwo ITC TT-Book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Bodoni SvtyTwo ITC TT-Book"/>
              </a:rPr>
              <a:t>  “ </a:t>
            </a:r>
            <a:r>
              <a:rPr b="0" lang="en-US" sz="5000" spc="-1" strike="noStrike">
                <a:solidFill>
                  <a:srgbClr val="000000"/>
                </a:solidFill>
                <a:latin typeface="Bodoni SvtyTwo ITC TT-Book"/>
              </a:rPr>
              <a:t>If    </a:t>
            </a:r>
            <a:r>
              <a:rPr b="0" lang="en-US" sz="5000" spc="-1" strike="noStrike">
                <a:solidFill>
                  <a:srgbClr val="000000"/>
                </a:solidFill>
                <a:latin typeface="Bradley Hand ITC TT-Bold"/>
              </a:rPr>
              <a:t>p</a:t>
            </a:r>
            <a:r>
              <a:rPr b="0" lang="en-US" sz="5000" spc="-1" strike="noStrike">
                <a:solidFill>
                  <a:srgbClr val="000000"/>
                </a:solidFill>
                <a:latin typeface="Bodoni SvtyTwo ITC TT-Book"/>
              </a:rPr>
              <a:t>    then   </a:t>
            </a:r>
            <a:r>
              <a:rPr b="0" lang="en-US" sz="5000" spc="-1" strike="noStrike">
                <a:solidFill>
                  <a:srgbClr val="000000"/>
                </a:solidFill>
                <a:latin typeface="Bradley Hand ITC TT-Bold"/>
              </a:rPr>
              <a:t>q</a:t>
            </a:r>
            <a:r>
              <a:rPr b="0" lang="en-US" sz="5000" spc="-1" strike="noStrike">
                <a:solidFill>
                  <a:srgbClr val="000000"/>
                </a:solidFill>
                <a:latin typeface="Bodoni SvtyTwo ITC TT-Book"/>
              </a:rPr>
              <a:t>. ”</a:t>
            </a:r>
            <a:endParaRPr b="0" lang="en-US" sz="5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635040" y="2019240"/>
            <a:ext cx="223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C</a:t>
            </a: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onverse: 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674640" y="2798640"/>
            <a:ext cx="22208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I</a:t>
            </a: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nverse: 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1714680" y="4457880"/>
            <a:ext cx="1942920" cy="15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Bodoni SvtyTwo ITC TT-Book"/>
              </a:rPr>
              <a:t>The </a:t>
            </a:r>
            <a:endParaRPr b="0" lang="en-US" sz="3300" spc="-1" strike="noStrike">
              <a:solidFill>
                <a:srgbClr val="000000"/>
              </a:solidFill>
              <a:latin typeface="Bodoni SvtyTwo ITC TT-Book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Bodoni SvtyTwo ITC TT-Book"/>
              </a:rPr>
              <a:t>Law of Syllogism </a:t>
            </a:r>
            <a:endParaRPr b="0" lang="en-US" sz="3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615960" y="3583080"/>
            <a:ext cx="296532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C</a:t>
            </a: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ontrapositive: 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2819520" y="2082960"/>
            <a:ext cx="506736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Bodoni SvtyTwo ITC TT-Book"/>
              </a:rPr>
              <a:t>“ </a:t>
            </a:r>
            <a:r>
              <a:rPr b="0" lang="en-US" sz="4500" spc="-1" strike="noStrike">
                <a:solidFill>
                  <a:srgbClr val="000000"/>
                </a:solidFill>
                <a:latin typeface="Bodoni SvtyTwo ITC TT-Book"/>
              </a:rPr>
              <a:t>If    </a:t>
            </a:r>
            <a:r>
              <a:rPr b="0" lang="en-US" sz="4500" spc="-1" strike="noStrike">
                <a:solidFill>
                  <a:srgbClr val="000000"/>
                </a:solidFill>
                <a:latin typeface="Bradley Hand ITC TT-Bold"/>
              </a:rPr>
              <a:t>q</a:t>
            </a:r>
            <a:r>
              <a:rPr b="0" lang="en-US" sz="4500" spc="-1" strike="noStrike">
                <a:solidFill>
                  <a:srgbClr val="000000"/>
                </a:solidFill>
                <a:latin typeface="Bodoni SvtyTwo ITC TT-Book"/>
              </a:rPr>
              <a:t>    then   </a:t>
            </a:r>
            <a:r>
              <a:rPr b="0" lang="en-US" sz="4500" spc="-1" strike="noStrike">
                <a:solidFill>
                  <a:srgbClr val="000000"/>
                </a:solidFill>
                <a:latin typeface="Bradley Hand ITC TT-Bold"/>
              </a:rPr>
              <a:t>p</a:t>
            </a:r>
            <a:r>
              <a:rPr b="0" lang="en-US" sz="4500" spc="-1" strike="noStrike">
                <a:solidFill>
                  <a:srgbClr val="000000"/>
                </a:solidFill>
                <a:latin typeface="Bodoni SvtyTwo ITC TT-Book"/>
              </a:rPr>
              <a:t>. ”</a:t>
            </a:r>
            <a:endParaRPr b="0" lang="en-US" sz="45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3073320" y="2844720"/>
            <a:ext cx="506736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Bodoni SvtyTwo ITC TT-Book"/>
              </a:rPr>
              <a:t>“ </a:t>
            </a:r>
            <a:r>
              <a:rPr b="0" lang="en-US" sz="4500" spc="-1" strike="noStrike">
                <a:solidFill>
                  <a:srgbClr val="000000"/>
                </a:solidFill>
                <a:latin typeface="Bodoni SvtyTwo ITC TT-Book"/>
              </a:rPr>
              <a:t>If    - </a:t>
            </a:r>
            <a:r>
              <a:rPr b="0" lang="en-US" sz="4500" spc="-1" strike="noStrike">
                <a:solidFill>
                  <a:srgbClr val="000000"/>
                </a:solidFill>
                <a:latin typeface="Bradley Hand ITC TT-Bold"/>
              </a:rPr>
              <a:t>p</a:t>
            </a:r>
            <a:r>
              <a:rPr b="0" lang="en-US" sz="4500" spc="-1" strike="noStrike">
                <a:solidFill>
                  <a:srgbClr val="000000"/>
                </a:solidFill>
                <a:latin typeface="Bodoni SvtyTwo ITC TT-Book"/>
              </a:rPr>
              <a:t>    then   - </a:t>
            </a:r>
            <a:r>
              <a:rPr b="0" lang="en-US" sz="4500" spc="-1" strike="noStrike">
                <a:solidFill>
                  <a:srgbClr val="000000"/>
                </a:solidFill>
                <a:latin typeface="Bradley Hand ITC TT-Bold"/>
              </a:rPr>
              <a:t>q</a:t>
            </a:r>
            <a:r>
              <a:rPr b="0" lang="en-US" sz="4500" spc="-1" strike="noStrike">
                <a:solidFill>
                  <a:srgbClr val="000000"/>
                </a:solidFill>
                <a:latin typeface="Bodoni SvtyTwo ITC TT-Book"/>
              </a:rPr>
              <a:t>. ”</a:t>
            </a:r>
            <a:endParaRPr b="0" lang="en-US" sz="45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00" name="Text Box 12"/>
          <p:cNvSpPr/>
          <p:nvPr/>
        </p:nvSpPr>
        <p:spPr>
          <a:xfrm>
            <a:off x="3073320" y="3619440"/>
            <a:ext cx="506736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Bodoni SvtyTwo ITC TT-Book"/>
              </a:rPr>
              <a:t>“ </a:t>
            </a:r>
            <a:r>
              <a:rPr b="0" lang="en-US" sz="4500" spc="-1" strike="noStrike">
                <a:solidFill>
                  <a:srgbClr val="000000"/>
                </a:solidFill>
                <a:latin typeface="Bodoni SvtyTwo ITC TT-Book"/>
              </a:rPr>
              <a:t>If    - </a:t>
            </a:r>
            <a:r>
              <a:rPr b="0" lang="en-US" sz="4500" spc="-1" strike="noStrike">
                <a:solidFill>
                  <a:srgbClr val="000000"/>
                </a:solidFill>
                <a:latin typeface="Bradley Hand ITC TT-Bold"/>
              </a:rPr>
              <a:t>q</a:t>
            </a:r>
            <a:r>
              <a:rPr b="0" lang="en-US" sz="4500" spc="-1" strike="noStrike">
                <a:solidFill>
                  <a:srgbClr val="000000"/>
                </a:solidFill>
                <a:latin typeface="Bodoni SvtyTwo ITC TT-Book"/>
              </a:rPr>
              <a:t>    then   - </a:t>
            </a:r>
            <a:r>
              <a:rPr b="0" lang="en-US" sz="4500" spc="-1" strike="noStrike">
                <a:solidFill>
                  <a:srgbClr val="000000"/>
                </a:solidFill>
                <a:latin typeface="Bradley Hand ITC TT-Bold"/>
              </a:rPr>
              <a:t>p</a:t>
            </a:r>
            <a:r>
              <a:rPr b="0" lang="en-US" sz="4500" spc="-1" strike="noStrike">
                <a:solidFill>
                  <a:srgbClr val="000000"/>
                </a:solidFill>
                <a:latin typeface="Bodoni SvtyTwo ITC TT-Book"/>
              </a:rPr>
              <a:t>. ”</a:t>
            </a:r>
            <a:endParaRPr b="0" lang="en-US" sz="45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4127400" y="4648320"/>
            <a:ext cx="7239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odoni SvtyTwo ITC TT-Book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02" name="Line 14"/>
          <p:cNvSpPr/>
          <p:nvPr/>
        </p:nvSpPr>
        <p:spPr>
          <a:xfrm>
            <a:off x="546120" y="439416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03" name="Line 15"/>
          <p:cNvSpPr/>
          <p:nvPr/>
        </p:nvSpPr>
        <p:spPr>
          <a:xfrm>
            <a:off x="571680" y="1841400"/>
            <a:ext cx="758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transition spd="med"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6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987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988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989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990" name="Text Box 5"/>
          <p:cNvSpPr/>
          <p:nvPr/>
        </p:nvSpPr>
        <p:spPr>
          <a:xfrm>
            <a:off x="511200" y="-6480"/>
            <a:ext cx="7655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Similar Triangle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991" name="Line 6"/>
          <p:cNvSpPr/>
          <p:nvPr/>
        </p:nvSpPr>
        <p:spPr>
          <a:xfrm>
            <a:off x="574560" y="97164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992" name="Picture 7" descr=""/>
          <p:cNvPicPr/>
          <p:nvPr/>
        </p:nvPicPr>
        <p:blipFill>
          <a:blip r:embed="rId1"/>
          <a:stretch/>
        </p:blipFill>
        <p:spPr>
          <a:xfrm>
            <a:off x="1320840" y="1384200"/>
            <a:ext cx="6121440" cy="37846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3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994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995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996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997" name="Text Box 5"/>
          <p:cNvSpPr/>
          <p:nvPr/>
        </p:nvSpPr>
        <p:spPr>
          <a:xfrm>
            <a:off x="511200" y="-6480"/>
            <a:ext cx="7655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Similar Triangle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998" name="Line 6"/>
          <p:cNvSpPr/>
          <p:nvPr/>
        </p:nvSpPr>
        <p:spPr>
          <a:xfrm>
            <a:off x="574560" y="97164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999" name="Picture 7" descr=""/>
          <p:cNvPicPr/>
          <p:nvPr/>
        </p:nvPicPr>
        <p:blipFill>
          <a:blip r:embed="rId1"/>
          <a:stretch/>
        </p:blipFill>
        <p:spPr>
          <a:xfrm>
            <a:off x="1593720" y="1911240"/>
            <a:ext cx="6464520" cy="4152960"/>
          </a:xfrm>
          <a:prstGeom prst="rect">
            <a:avLst/>
          </a:prstGeom>
          <a:ln w="0">
            <a:noFill/>
          </a:ln>
        </p:spPr>
      </p:pic>
      <p:grpSp>
        <p:nvGrpSpPr>
          <p:cNvPr id="1000" name="Group 8"/>
          <p:cNvGrpSpPr/>
          <p:nvPr/>
        </p:nvGrpSpPr>
        <p:grpSpPr>
          <a:xfrm>
            <a:off x="762120" y="1257480"/>
            <a:ext cx="4025880" cy="1950120"/>
            <a:chOff x="762120" y="1257480"/>
            <a:chExt cx="4025880" cy="1950120"/>
          </a:xfrm>
        </p:grpSpPr>
        <p:sp>
          <p:nvSpPr>
            <p:cNvPr id="1001" name="Text Box 9"/>
            <p:cNvSpPr/>
            <p:nvPr/>
          </p:nvSpPr>
          <p:spPr>
            <a:xfrm>
              <a:off x="762120" y="1257480"/>
              <a:ext cx="4025880" cy="195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Bodoni SvtyTwo ITC TT-Book"/>
                </a:rPr>
                <a:t>Since ∆ABC       ∆EFG, </a:t>
              </a:r>
              <a:endParaRPr b="0" lang="en-US" sz="3200" spc="-1" strike="noStrike">
                <a:solidFill>
                  <a:srgbClr val="000000"/>
                </a:solidFill>
                <a:latin typeface="Bodoni SvtyTwo ITC TT-Book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Bodoni SvtyTwo ITC TT-Book"/>
                </a:rPr>
                <a:t>then the scale factor of </a:t>
              </a:r>
              <a:endParaRPr b="0" lang="en-US" sz="3200" spc="-1" strike="noStrike">
                <a:solidFill>
                  <a:srgbClr val="000000"/>
                </a:solidFill>
                <a:latin typeface="Bodoni SvtyTwo ITC TT-Book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Bodoni SvtyTwo ITC TT-Book"/>
                </a:rPr>
                <a:t>∆</a:t>
              </a:r>
              <a:r>
                <a:rPr b="0" lang="en-US" sz="3200" spc="-1" strike="noStrike">
                  <a:solidFill>
                    <a:srgbClr val="000000"/>
                  </a:solidFill>
                  <a:latin typeface="Bodoni SvtyTwo ITC TT-Book"/>
                </a:rPr>
                <a:t>ABC to ∆EFG is . . .</a:t>
              </a:r>
              <a:endParaRPr b="0" lang="en-US" sz="3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002" name="Text Box 10"/>
            <p:cNvSpPr/>
            <p:nvPr/>
          </p:nvSpPr>
          <p:spPr>
            <a:xfrm>
              <a:off x="2789640" y="1346400"/>
              <a:ext cx="415080" cy="86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5700" spc="-1" strike="noStrike">
                  <a:solidFill>
                    <a:srgbClr val="000000"/>
                  </a:solidFill>
                  <a:latin typeface="Bodoni SvtyTwo ITC TT-Book"/>
                </a:rPr>
                <a:t>~</a:t>
              </a:r>
              <a:endParaRPr b="0" lang="en-US" sz="57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</p:grpSp>
    </p:spTree>
  </p:cSld>
  <p:transition spd="med">
    <p:wipe dir="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3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004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005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006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007" name="Text Box 5"/>
          <p:cNvSpPr/>
          <p:nvPr/>
        </p:nvSpPr>
        <p:spPr>
          <a:xfrm>
            <a:off x="511200" y="-6480"/>
            <a:ext cx="7655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Similar Triangle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008" name="Line 6"/>
          <p:cNvSpPr/>
          <p:nvPr/>
        </p:nvSpPr>
        <p:spPr>
          <a:xfrm>
            <a:off x="574560" y="97164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1009" name="Picture 7" descr=""/>
          <p:cNvPicPr/>
          <p:nvPr/>
        </p:nvPicPr>
        <p:blipFill>
          <a:blip r:embed="rId1"/>
          <a:stretch/>
        </p:blipFill>
        <p:spPr>
          <a:xfrm>
            <a:off x="1593720" y="1911240"/>
            <a:ext cx="6464520" cy="4152960"/>
          </a:xfrm>
          <a:prstGeom prst="rect">
            <a:avLst/>
          </a:prstGeom>
          <a:ln w="0">
            <a:noFill/>
          </a:ln>
        </p:spPr>
      </p:pic>
      <p:grpSp>
        <p:nvGrpSpPr>
          <p:cNvPr id="1010" name="Group 8"/>
          <p:cNvGrpSpPr/>
          <p:nvPr/>
        </p:nvGrpSpPr>
        <p:grpSpPr>
          <a:xfrm>
            <a:off x="762120" y="1257480"/>
            <a:ext cx="4025880" cy="1950120"/>
            <a:chOff x="762120" y="1257480"/>
            <a:chExt cx="4025880" cy="1950120"/>
          </a:xfrm>
        </p:grpSpPr>
        <p:sp>
          <p:nvSpPr>
            <p:cNvPr id="1011" name="Text Box 9"/>
            <p:cNvSpPr/>
            <p:nvPr/>
          </p:nvSpPr>
          <p:spPr>
            <a:xfrm>
              <a:off x="762120" y="1257480"/>
              <a:ext cx="4025880" cy="195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Bodoni SvtyTwo ITC TT-Book"/>
                </a:rPr>
                <a:t>Since ∆ABC       ∆EFG, </a:t>
              </a:r>
              <a:endParaRPr b="0" lang="en-US" sz="3200" spc="-1" strike="noStrike">
                <a:solidFill>
                  <a:srgbClr val="000000"/>
                </a:solidFill>
                <a:latin typeface="Bodoni SvtyTwo ITC TT-Book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Bodoni SvtyTwo ITC TT-Book"/>
                </a:rPr>
                <a:t>then the scale factor of </a:t>
              </a:r>
              <a:endParaRPr b="0" lang="en-US" sz="3200" spc="-1" strike="noStrike">
                <a:solidFill>
                  <a:srgbClr val="000000"/>
                </a:solidFill>
                <a:latin typeface="Bodoni SvtyTwo ITC TT-Book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Bodoni SvtyTwo ITC TT-Book"/>
                </a:rPr>
                <a:t>∆</a:t>
              </a:r>
              <a:r>
                <a:rPr b="0" lang="en-US" sz="3200" spc="-1" strike="noStrike">
                  <a:solidFill>
                    <a:srgbClr val="000000"/>
                  </a:solidFill>
                  <a:latin typeface="Bodoni SvtyTwo ITC TT-Book"/>
                </a:rPr>
                <a:t>ABC to ∆EFG is . . .</a:t>
              </a:r>
              <a:endParaRPr b="0" lang="en-US" sz="3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012" name="Text Box 10"/>
            <p:cNvSpPr/>
            <p:nvPr/>
          </p:nvSpPr>
          <p:spPr>
            <a:xfrm>
              <a:off x="2789640" y="1346400"/>
              <a:ext cx="415080" cy="86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5700" spc="-1" strike="noStrike">
                  <a:solidFill>
                    <a:srgbClr val="000000"/>
                  </a:solidFill>
                  <a:latin typeface="Bodoni SvtyTwo ITC TT-Book"/>
                </a:rPr>
                <a:t>~</a:t>
              </a:r>
              <a:endParaRPr b="0" lang="en-US" sz="57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</p:grpSp>
      <p:grpSp>
        <p:nvGrpSpPr>
          <p:cNvPr id="1013" name="Group 11"/>
          <p:cNvGrpSpPr/>
          <p:nvPr/>
        </p:nvGrpSpPr>
        <p:grpSpPr>
          <a:xfrm>
            <a:off x="5257800" y="1041480"/>
            <a:ext cx="571680" cy="1366560"/>
            <a:chOff x="5257800" y="1041480"/>
            <a:chExt cx="571680" cy="1366560"/>
          </a:xfrm>
        </p:grpSpPr>
        <p:sp>
          <p:nvSpPr>
            <p:cNvPr id="1014" name="Text Box 12"/>
            <p:cNvSpPr/>
            <p:nvPr/>
          </p:nvSpPr>
          <p:spPr>
            <a:xfrm>
              <a:off x="5358600" y="1041480"/>
              <a:ext cx="34956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ee0000"/>
                  </a:solidFill>
                  <a:latin typeface="Bodoni SvtyTwo ITC TT-Book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015" name="Text Box 13"/>
            <p:cNvSpPr/>
            <p:nvPr/>
          </p:nvSpPr>
          <p:spPr>
            <a:xfrm>
              <a:off x="5357880" y="1676520"/>
              <a:ext cx="44172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ee0000"/>
                  </a:solidFill>
                  <a:latin typeface="Bodoni SvtyTwo ITC TT-Book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016" name="Line 14"/>
            <p:cNvSpPr/>
            <p:nvPr/>
          </p:nvSpPr>
          <p:spPr>
            <a:xfrm>
              <a:off x="5257800" y="1714680"/>
              <a:ext cx="57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</p:grpSp>
      <p:sp>
        <p:nvSpPr>
          <p:cNvPr id="1017" name="Text Box 15"/>
          <p:cNvSpPr/>
          <p:nvPr/>
        </p:nvSpPr>
        <p:spPr>
          <a:xfrm>
            <a:off x="6001200" y="1308240"/>
            <a:ext cx="19040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Bodoni SvtyTwo ITC TT-Book"/>
              </a:rPr>
              <a:t>or  </a:t>
            </a: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 </a:t>
            </a:r>
            <a:r>
              <a:rPr b="1" lang="en-US" sz="4800" spc="-1" strike="noStrike">
                <a:solidFill>
                  <a:srgbClr val="ee0000"/>
                </a:solidFill>
                <a:latin typeface="Bodoni SvtyTwo ITC TT-Book"/>
              </a:rPr>
              <a:t>2:1</a:t>
            </a:r>
            <a:r>
              <a:rPr b="0" lang="en-US" sz="1200" spc="-1" strike="noStrike">
                <a:solidFill>
                  <a:srgbClr val="000000"/>
                </a:solidFill>
                <a:latin typeface="Bodoni SvtyTwo ITC TT-Book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grpSp>
        <p:nvGrpSpPr>
          <p:cNvPr id="1018" name="Group 16"/>
          <p:cNvGrpSpPr/>
          <p:nvPr/>
        </p:nvGrpSpPr>
        <p:grpSpPr>
          <a:xfrm>
            <a:off x="2247840" y="2901960"/>
            <a:ext cx="2895480" cy="1911240"/>
            <a:chOff x="2247840" y="2901960"/>
            <a:chExt cx="2895480" cy="1911240"/>
          </a:xfrm>
        </p:grpSpPr>
        <p:pic>
          <p:nvPicPr>
            <p:cNvPr id="1019" name="Picture 17" descr=""/>
            <p:cNvPicPr/>
            <p:nvPr/>
          </p:nvPicPr>
          <p:blipFill>
            <a:blip r:embed="rId2"/>
            <a:stretch/>
          </p:blipFill>
          <p:spPr>
            <a:xfrm>
              <a:off x="2247840" y="2901960"/>
              <a:ext cx="863640" cy="1409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20" name="Group 18"/>
            <p:cNvGrpSpPr/>
            <p:nvPr/>
          </p:nvGrpSpPr>
          <p:grpSpPr>
            <a:xfrm>
              <a:off x="3161880" y="3238560"/>
              <a:ext cx="1981440" cy="584280"/>
              <a:chOff x="3161880" y="3238560"/>
              <a:chExt cx="1981440" cy="584280"/>
            </a:xfrm>
          </p:grpSpPr>
          <p:sp>
            <p:nvSpPr>
              <p:cNvPr id="1021" name="Freeform 19"/>
              <p:cNvSpPr/>
              <p:nvPr/>
            </p:nvSpPr>
            <p:spPr>
              <a:xfrm>
                <a:off x="4559400" y="3238560"/>
                <a:ext cx="583920" cy="584280"/>
              </a:xfrm>
              <a:custGeom>
                <a:avLst/>
                <a:gdLst/>
                <a:ahLst/>
                <a:rect l="l" t="t" r="r" b="b"/>
                <a:pathLst>
                  <a:path w="9111" h="9111">
                    <a:moveTo>
                      <a:pt x="7777" y="1334"/>
                    </a:moveTo>
                    <a:cubicBezTo>
                      <a:pt x="9556" y="3113"/>
                      <a:pt x="9556" y="5998"/>
                      <a:pt x="7777" y="7777"/>
                    </a:cubicBezTo>
                    <a:cubicBezTo>
                      <a:pt x="5998" y="9556"/>
                      <a:pt x="3113" y="9556"/>
                      <a:pt x="1334" y="7777"/>
                    </a:cubicBezTo>
                    <a:cubicBezTo>
                      <a:pt x="-444" y="5998"/>
                      <a:pt x="-444" y="3113"/>
                      <a:pt x="1334" y="1334"/>
                    </a:cubicBezTo>
                    <a:cubicBezTo>
                      <a:pt x="3113" y="-444"/>
                      <a:pt x="5998" y="-444"/>
                      <a:pt x="7777" y="1334"/>
                    </a:cubicBezTo>
                  </a:path>
                </a:pathLst>
              </a:custGeom>
              <a:noFill/>
              <a:ln w="50760">
                <a:solidFill>
                  <a:srgbClr val="ee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022" name="Line 20"/>
              <p:cNvSpPr/>
              <p:nvPr/>
            </p:nvSpPr>
            <p:spPr>
              <a:xfrm flipH="1" flipV="1">
                <a:off x="3161880" y="3340080"/>
                <a:ext cx="1384200" cy="152280"/>
              </a:xfrm>
              <a:prstGeom prst="line">
                <a:avLst/>
              </a:prstGeom>
              <a:ln w="38160">
                <a:solidFill>
                  <a:srgbClr val="ee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  <p:grpSp>
          <p:nvGrpSpPr>
            <p:cNvPr id="1023" name="Group 21"/>
            <p:cNvGrpSpPr/>
            <p:nvPr/>
          </p:nvGrpSpPr>
          <p:grpSpPr>
            <a:xfrm>
              <a:off x="2869920" y="4076640"/>
              <a:ext cx="812880" cy="736560"/>
              <a:chOff x="2869920" y="4076640"/>
              <a:chExt cx="812880" cy="736560"/>
            </a:xfrm>
          </p:grpSpPr>
          <p:sp>
            <p:nvSpPr>
              <p:cNvPr id="1024" name="Freeform 22"/>
              <p:cNvSpPr/>
              <p:nvPr/>
            </p:nvSpPr>
            <p:spPr>
              <a:xfrm>
                <a:off x="3098520" y="4228920"/>
                <a:ext cx="584280" cy="584280"/>
              </a:xfrm>
              <a:custGeom>
                <a:avLst/>
                <a:gdLst/>
                <a:ahLst/>
                <a:rect l="l" t="t" r="r" b="b"/>
                <a:pathLst>
                  <a:path w="9111" h="9111">
                    <a:moveTo>
                      <a:pt x="7777" y="1334"/>
                    </a:moveTo>
                    <a:cubicBezTo>
                      <a:pt x="9556" y="3113"/>
                      <a:pt x="9556" y="5998"/>
                      <a:pt x="7777" y="7777"/>
                    </a:cubicBezTo>
                    <a:cubicBezTo>
                      <a:pt x="5998" y="9556"/>
                      <a:pt x="3113" y="9556"/>
                      <a:pt x="1334" y="7777"/>
                    </a:cubicBezTo>
                    <a:cubicBezTo>
                      <a:pt x="-444" y="5998"/>
                      <a:pt x="-444" y="3113"/>
                      <a:pt x="1334" y="1334"/>
                    </a:cubicBezTo>
                    <a:cubicBezTo>
                      <a:pt x="3113" y="-444"/>
                      <a:pt x="5998" y="-444"/>
                      <a:pt x="7777" y="1334"/>
                    </a:cubicBezTo>
                  </a:path>
                </a:pathLst>
              </a:custGeom>
              <a:noFill/>
              <a:ln w="50760">
                <a:solidFill>
                  <a:srgbClr val="ee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025" name="Line 23"/>
              <p:cNvSpPr/>
              <p:nvPr/>
            </p:nvSpPr>
            <p:spPr>
              <a:xfrm flipH="1" flipV="1">
                <a:off x="2869920" y="4076640"/>
                <a:ext cx="279360" cy="279360"/>
              </a:xfrm>
              <a:prstGeom prst="line">
                <a:avLst/>
              </a:prstGeom>
              <a:ln w="38160">
                <a:solidFill>
                  <a:srgbClr val="ee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grpSp>
        <p:nvGrpSpPr>
          <p:cNvPr id="1026" name="Group 24"/>
          <p:cNvGrpSpPr/>
          <p:nvPr/>
        </p:nvGrpSpPr>
        <p:grpSpPr>
          <a:xfrm>
            <a:off x="3606840" y="4140360"/>
            <a:ext cx="2984400" cy="1898640"/>
            <a:chOff x="3606840" y="4140360"/>
            <a:chExt cx="2984400" cy="1898640"/>
          </a:xfrm>
        </p:grpSpPr>
        <p:pic>
          <p:nvPicPr>
            <p:cNvPr id="1027" name="Picture 25" descr=""/>
            <p:cNvPicPr/>
            <p:nvPr/>
          </p:nvPicPr>
          <p:blipFill>
            <a:blip r:embed="rId3"/>
            <a:stretch/>
          </p:blipFill>
          <p:spPr>
            <a:xfrm>
              <a:off x="5727600" y="4629240"/>
              <a:ext cx="863640" cy="1409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28" name="Group 26"/>
            <p:cNvGrpSpPr/>
            <p:nvPr/>
          </p:nvGrpSpPr>
          <p:grpSpPr>
            <a:xfrm>
              <a:off x="3606840" y="4775400"/>
              <a:ext cx="2247840" cy="812880"/>
              <a:chOff x="3606840" y="4775400"/>
              <a:chExt cx="2247840" cy="812880"/>
            </a:xfrm>
          </p:grpSpPr>
          <p:sp>
            <p:nvSpPr>
              <p:cNvPr id="1029" name="Freeform 27"/>
              <p:cNvSpPr/>
              <p:nvPr/>
            </p:nvSpPr>
            <p:spPr>
              <a:xfrm>
                <a:off x="3606840" y="4775400"/>
                <a:ext cx="583920" cy="584280"/>
              </a:xfrm>
              <a:custGeom>
                <a:avLst/>
                <a:gdLst/>
                <a:ahLst/>
                <a:rect l="l" t="t" r="r" b="b"/>
                <a:pathLst>
                  <a:path w="9111" h="9111">
                    <a:moveTo>
                      <a:pt x="7777" y="1334"/>
                    </a:moveTo>
                    <a:cubicBezTo>
                      <a:pt x="9556" y="3113"/>
                      <a:pt x="9556" y="5998"/>
                      <a:pt x="7777" y="7777"/>
                    </a:cubicBezTo>
                    <a:cubicBezTo>
                      <a:pt x="5998" y="9556"/>
                      <a:pt x="3113" y="9556"/>
                      <a:pt x="1334" y="7777"/>
                    </a:cubicBezTo>
                    <a:cubicBezTo>
                      <a:pt x="-444" y="5998"/>
                      <a:pt x="-444" y="3113"/>
                      <a:pt x="1334" y="1334"/>
                    </a:cubicBezTo>
                    <a:cubicBezTo>
                      <a:pt x="3113" y="-444"/>
                      <a:pt x="5998" y="-444"/>
                      <a:pt x="7777" y="1334"/>
                    </a:cubicBezTo>
                  </a:path>
                </a:pathLst>
              </a:custGeom>
              <a:noFill/>
              <a:ln w="50760">
                <a:solidFill>
                  <a:srgbClr val="0000e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030" name="Line 28"/>
              <p:cNvSpPr/>
              <p:nvPr/>
            </p:nvSpPr>
            <p:spPr>
              <a:xfrm>
                <a:off x="4127400" y="5270760"/>
                <a:ext cx="1727280" cy="317520"/>
              </a:xfrm>
              <a:prstGeom prst="line">
                <a:avLst/>
              </a:prstGeom>
              <a:ln w="38160">
                <a:solidFill>
                  <a:srgbClr val="0000e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  <p:grpSp>
          <p:nvGrpSpPr>
            <p:cNvPr id="1031" name="Group 29"/>
            <p:cNvGrpSpPr/>
            <p:nvPr/>
          </p:nvGrpSpPr>
          <p:grpSpPr>
            <a:xfrm>
              <a:off x="5397480" y="4140360"/>
              <a:ext cx="583920" cy="812880"/>
              <a:chOff x="5397480" y="4140360"/>
              <a:chExt cx="583920" cy="812880"/>
            </a:xfrm>
          </p:grpSpPr>
          <p:sp>
            <p:nvSpPr>
              <p:cNvPr id="1032" name="Freeform 30"/>
              <p:cNvSpPr/>
              <p:nvPr/>
            </p:nvSpPr>
            <p:spPr>
              <a:xfrm>
                <a:off x="5397480" y="4140360"/>
                <a:ext cx="583920" cy="584280"/>
              </a:xfrm>
              <a:custGeom>
                <a:avLst/>
                <a:gdLst/>
                <a:ahLst/>
                <a:rect l="l" t="t" r="r" b="b"/>
                <a:pathLst>
                  <a:path w="9111" h="9111">
                    <a:moveTo>
                      <a:pt x="7777" y="1334"/>
                    </a:moveTo>
                    <a:cubicBezTo>
                      <a:pt x="9556" y="3113"/>
                      <a:pt x="9556" y="5998"/>
                      <a:pt x="7777" y="7777"/>
                    </a:cubicBezTo>
                    <a:cubicBezTo>
                      <a:pt x="5998" y="9556"/>
                      <a:pt x="3113" y="9556"/>
                      <a:pt x="1334" y="7777"/>
                    </a:cubicBezTo>
                    <a:cubicBezTo>
                      <a:pt x="-444" y="5998"/>
                      <a:pt x="-444" y="3113"/>
                      <a:pt x="1334" y="1334"/>
                    </a:cubicBezTo>
                    <a:cubicBezTo>
                      <a:pt x="3113" y="-444"/>
                      <a:pt x="5998" y="-444"/>
                      <a:pt x="7777" y="1334"/>
                    </a:cubicBezTo>
                  </a:path>
                </a:pathLst>
              </a:custGeom>
              <a:noFill/>
              <a:ln w="50760">
                <a:solidFill>
                  <a:srgbClr val="0000e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033" name="Line 31"/>
              <p:cNvSpPr/>
              <p:nvPr/>
            </p:nvSpPr>
            <p:spPr>
              <a:xfrm>
                <a:off x="5841720" y="4724640"/>
                <a:ext cx="126360" cy="228600"/>
              </a:xfrm>
              <a:prstGeom prst="line">
                <a:avLst/>
              </a:prstGeom>
              <a:ln w="38160">
                <a:solidFill>
                  <a:srgbClr val="0000e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</p:spTree>
  </p:cSld>
  <p:transition spd="med"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4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035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036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037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038" name="Text Box 5"/>
          <p:cNvSpPr/>
          <p:nvPr/>
        </p:nvSpPr>
        <p:spPr>
          <a:xfrm>
            <a:off x="511200" y="-6480"/>
            <a:ext cx="7655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Similar Triangle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039" name="Line 6"/>
          <p:cNvSpPr/>
          <p:nvPr/>
        </p:nvSpPr>
        <p:spPr>
          <a:xfrm>
            <a:off x="574560" y="97164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040" name="Text Box 7"/>
          <p:cNvSpPr/>
          <p:nvPr/>
        </p:nvSpPr>
        <p:spPr>
          <a:xfrm>
            <a:off x="723960" y="1257480"/>
            <a:ext cx="328932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∆</a:t>
            </a: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ABC       ∆  </a:t>
            </a:r>
            <a:r>
              <a:rPr b="1" lang="en-US" sz="3200" spc="-1" strike="noStrike">
                <a:solidFill>
                  <a:srgbClr val="000000"/>
                </a:solidFill>
                <a:latin typeface="Bodoni SvtyTwo ITC TT-Book"/>
              </a:rPr>
              <a:t>_   _   _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041" name="Text Box 8"/>
          <p:cNvSpPr/>
          <p:nvPr/>
        </p:nvSpPr>
        <p:spPr>
          <a:xfrm>
            <a:off x="1862640" y="1333440"/>
            <a:ext cx="41508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000000"/>
                </a:solidFill>
                <a:latin typeface="Bodoni SvtyTwo ITC TT-Book"/>
              </a:rPr>
              <a:t>~</a:t>
            </a:r>
            <a:endParaRPr b="0" lang="en-US" sz="57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1042" name="Picture 9" descr=""/>
          <p:cNvPicPr/>
          <p:nvPr/>
        </p:nvPicPr>
        <p:blipFill>
          <a:blip r:embed="rId1"/>
          <a:stretch/>
        </p:blipFill>
        <p:spPr>
          <a:xfrm>
            <a:off x="4813200" y="1962000"/>
            <a:ext cx="3302280" cy="339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3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044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045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046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047" name="Text Box 5"/>
          <p:cNvSpPr/>
          <p:nvPr/>
        </p:nvSpPr>
        <p:spPr>
          <a:xfrm>
            <a:off x="511200" y="-6480"/>
            <a:ext cx="7655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Similar Triangle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048" name="Line 6"/>
          <p:cNvSpPr/>
          <p:nvPr/>
        </p:nvSpPr>
        <p:spPr>
          <a:xfrm>
            <a:off x="574560" y="97164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049" name="Text Box 7"/>
          <p:cNvSpPr/>
          <p:nvPr/>
        </p:nvSpPr>
        <p:spPr>
          <a:xfrm>
            <a:off x="723960" y="1257480"/>
            <a:ext cx="328932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∆</a:t>
            </a: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ABC       ∆  </a:t>
            </a:r>
            <a:r>
              <a:rPr b="1" lang="en-US" sz="3200" spc="-1" strike="noStrike">
                <a:solidFill>
                  <a:srgbClr val="000000"/>
                </a:solidFill>
                <a:latin typeface="Bodoni SvtyTwo ITC TT-Book"/>
              </a:rPr>
              <a:t>_   _   _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050" name="Text Box 8"/>
          <p:cNvSpPr/>
          <p:nvPr/>
        </p:nvSpPr>
        <p:spPr>
          <a:xfrm>
            <a:off x="1862640" y="1333440"/>
            <a:ext cx="41508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000000"/>
                </a:solidFill>
                <a:latin typeface="Bodoni SvtyTwo ITC TT-Book"/>
              </a:rPr>
              <a:t>~</a:t>
            </a:r>
            <a:endParaRPr b="0" lang="en-US" sz="57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1051" name="Picture 9" descr=""/>
          <p:cNvPicPr/>
          <p:nvPr/>
        </p:nvPicPr>
        <p:blipFill>
          <a:blip r:embed="rId1"/>
          <a:stretch/>
        </p:blipFill>
        <p:spPr>
          <a:xfrm>
            <a:off x="4813200" y="1962000"/>
            <a:ext cx="3302280" cy="3391200"/>
          </a:xfrm>
          <a:prstGeom prst="rect">
            <a:avLst/>
          </a:prstGeom>
          <a:ln w="0">
            <a:noFill/>
          </a:ln>
        </p:spPr>
      </p:pic>
      <p:grpSp>
        <p:nvGrpSpPr>
          <p:cNvPr id="1052" name="Group 10"/>
          <p:cNvGrpSpPr/>
          <p:nvPr/>
        </p:nvGrpSpPr>
        <p:grpSpPr>
          <a:xfrm>
            <a:off x="5364360" y="3882240"/>
            <a:ext cx="2250720" cy="685080"/>
            <a:chOff x="5364360" y="3882240"/>
            <a:chExt cx="2250720" cy="685080"/>
          </a:xfrm>
        </p:grpSpPr>
        <p:sp>
          <p:nvSpPr>
            <p:cNvPr id="1053" name="Freeform 11"/>
            <p:cNvSpPr/>
            <p:nvPr/>
          </p:nvSpPr>
          <p:spPr>
            <a:xfrm rot="16680000">
              <a:off x="5395680" y="3896640"/>
              <a:ext cx="228600" cy="2541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0"/>
                  </a:moveTo>
                  <a:lnTo>
                    <a:pt x="10000" y="10000"/>
                  </a:lnTo>
                  <a:lnTo>
                    <a:pt x="10000" y="10000"/>
                  </a:lnTo>
                  <a:cubicBezTo>
                    <a:pt x="4477" y="10000"/>
                    <a:pt x="0" y="5522"/>
                    <a:pt x="0" y="0"/>
                  </a:cubicBezTo>
                  <a:lnTo>
                    <a:pt x="10000" y="0"/>
                  </a:lnTo>
                  <a:close/>
                  <a:moveTo>
                    <a:pt x="10000" y="0"/>
                  </a:moveTo>
                </a:path>
              </a:pathLst>
            </a:custGeom>
            <a:noFill/>
            <a:ln w="38160">
              <a:solidFill>
                <a:srgbClr val="e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054" name="Freeform 12"/>
            <p:cNvSpPr/>
            <p:nvPr/>
          </p:nvSpPr>
          <p:spPr>
            <a:xfrm rot="5700000">
              <a:off x="7364160" y="4290480"/>
              <a:ext cx="228600" cy="2541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0"/>
                  </a:moveTo>
                  <a:lnTo>
                    <a:pt x="10000" y="10000"/>
                  </a:lnTo>
                  <a:lnTo>
                    <a:pt x="10000" y="10000"/>
                  </a:lnTo>
                  <a:cubicBezTo>
                    <a:pt x="4477" y="10000"/>
                    <a:pt x="0" y="5522"/>
                    <a:pt x="0" y="0"/>
                  </a:cubicBezTo>
                  <a:lnTo>
                    <a:pt x="10000" y="0"/>
                  </a:lnTo>
                  <a:close/>
                  <a:moveTo>
                    <a:pt x="10000" y="0"/>
                  </a:moveTo>
                </a:path>
              </a:pathLst>
            </a:custGeom>
            <a:noFill/>
            <a:ln w="38160">
              <a:solidFill>
                <a:srgbClr val="e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055" name="Freeform 13"/>
            <p:cNvSpPr/>
            <p:nvPr/>
          </p:nvSpPr>
          <p:spPr>
            <a:xfrm rot="16680000">
              <a:off x="5383080" y="3886200"/>
              <a:ext cx="169920" cy="185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0"/>
                  </a:moveTo>
                  <a:lnTo>
                    <a:pt x="10000" y="10000"/>
                  </a:lnTo>
                  <a:lnTo>
                    <a:pt x="10000" y="10000"/>
                  </a:lnTo>
                  <a:cubicBezTo>
                    <a:pt x="4477" y="10000"/>
                    <a:pt x="0" y="5522"/>
                    <a:pt x="0" y="0"/>
                  </a:cubicBezTo>
                  <a:lnTo>
                    <a:pt x="10000" y="0"/>
                  </a:lnTo>
                  <a:close/>
                  <a:moveTo>
                    <a:pt x="10000" y="0"/>
                  </a:moveTo>
                </a:path>
              </a:pathLst>
            </a:custGeom>
            <a:noFill/>
            <a:ln w="38160">
              <a:solidFill>
                <a:srgbClr val="e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056" name="Freeform 14"/>
            <p:cNvSpPr/>
            <p:nvPr/>
          </p:nvSpPr>
          <p:spPr>
            <a:xfrm rot="5700000">
              <a:off x="7442280" y="4401000"/>
              <a:ext cx="162000" cy="1573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0"/>
                  </a:moveTo>
                  <a:lnTo>
                    <a:pt x="10000" y="10000"/>
                  </a:lnTo>
                  <a:lnTo>
                    <a:pt x="10000" y="10000"/>
                  </a:lnTo>
                  <a:cubicBezTo>
                    <a:pt x="4477" y="10000"/>
                    <a:pt x="0" y="5522"/>
                    <a:pt x="0" y="0"/>
                  </a:cubicBezTo>
                  <a:lnTo>
                    <a:pt x="10000" y="0"/>
                  </a:lnTo>
                  <a:close/>
                  <a:moveTo>
                    <a:pt x="10000" y="0"/>
                  </a:moveTo>
                </a:path>
              </a:pathLst>
            </a:custGeom>
            <a:noFill/>
            <a:ln w="38160">
              <a:solidFill>
                <a:srgbClr val="e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057" name="Freeform 15"/>
            <p:cNvSpPr/>
            <p:nvPr/>
          </p:nvSpPr>
          <p:spPr>
            <a:xfrm rot="12240000">
              <a:off x="6234120" y="3949560"/>
              <a:ext cx="169920" cy="185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0"/>
                  </a:moveTo>
                  <a:lnTo>
                    <a:pt x="10000" y="10000"/>
                  </a:lnTo>
                  <a:lnTo>
                    <a:pt x="10000" y="10000"/>
                  </a:lnTo>
                  <a:cubicBezTo>
                    <a:pt x="4477" y="10000"/>
                    <a:pt x="0" y="5522"/>
                    <a:pt x="0" y="0"/>
                  </a:cubicBezTo>
                  <a:lnTo>
                    <a:pt x="10000" y="0"/>
                  </a:lnTo>
                  <a:close/>
                  <a:moveTo>
                    <a:pt x="10000" y="0"/>
                  </a:moveTo>
                </a:path>
              </a:pathLst>
            </a:custGeom>
            <a:noFill/>
            <a:ln w="38160">
              <a:solidFill>
                <a:srgbClr val="e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058" name="Freeform 16"/>
            <p:cNvSpPr/>
            <p:nvPr/>
          </p:nvSpPr>
          <p:spPr>
            <a:xfrm rot="1980000">
              <a:off x="5776920" y="4038120"/>
              <a:ext cx="169920" cy="185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0"/>
                  </a:moveTo>
                  <a:lnTo>
                    <a:pt x="10000" y="10000"/>
                  </a:lnTo>
                  <a:lnTo>
                    <a:pt x="10000" y="10000"/>
                  </a:lnTo>
                  <a:cubicBezTo>
                    <a:pt x="4477" y="10000"/>
                    <a:pt x="0" y="5522"/>
                    <a:pt x="0" y="0"/>
                  </a:cubicBezTo>
                  <a:lnTo>
                    <a:pt x="10000" y="0"/>
                  </a:lnTo>
                  <a:close/>
                  <a:moveTo>
                    <a:pt x="10000" y="0"/>
                  </a:moveTo>
                </a:path>
              </a:pathLst>
            </a:custGeom>
            <a:noFill/>
            <a:ln w="38160">
              <a:solidFill>
                <a:srgbClr val="e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</p:grpSp>
      <p:sp>
        <p:nvSpPr>
          <p:cNvPr id="1059" name="Text Box 17"/>
          <p:cNvSpPr/>
          <p:nvPr/>
        </p:nvSpPr>
        <p:spPr>
          <a:xfrm>
            <a:off x="2629080" y="1251000"/>
            <a:ext cx="14349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0000"/>
                </a:solidFill>
                <a:latin typeface="Bodoni SvtyTwo ITC TT-Book"/>
              </a:rPr>
              <a:t>E D C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0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061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062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063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064" name="Text Box 5"/>
          <p:cNvSpPr/>
          <p:nvPr/>
        </p:nvSpPr>
        <p:spPr>
          <a:xfrm>
            <a:off x="511200" y="-6480"/>
            <a:ext cx="7655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Similar Triangle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065" name="Line 6"/>
          <p:cNvSpPr/>
          <p:nvPr/>
        </p:nvSpPr>
        <p:spPr>
          <a:xfrm>
            <a:off x="574560" y="97164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066" name="Text Box 7"/>
          <p:cNvSpPr/>
          <p:nvPr/>
        </p:nvSpPr>
        <p:spPr>
          <a:xfrm>
            <a:off x="723960" y="1257480"/>
            <a:ext cx="328932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∆</a:t>
            </a: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ABC       ∆  </a:t>
            </a:r>
            <a:r>
              <a:rPr b="1" lang="en-US" sz="3200" spc="-1" strike="noStrike">
                <a:solidFill>
                  <a:srgbClr val="000000"/>
                </a:solidFill>
                <a:latin typeface="Bodoni SvtyTwo ITC TT-Book"/>
              </a:rPr>
              <a:t>_   _   _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067" name="Text Box 8"/>
          <p:cNvSpPr/>
          <p:nvPr/>
        </p:nvSpPr>
        <p:spPr>
          <a:xfrm>
            <a:off x="1862640" y="1333440"/>
            <a:ext cx="41508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000000"/>
                </a:solidFill>
                <a:latin typeface="Bodoni SvtyTwo ITC TT-Book"/>
              </a:rPr>
              <a:t>~</a:t>
            </a:r>
            <a:endParaRPr b="0" lang="en-US" sz="57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1068" name="Picture 9" descr=""/>
          <p:cNvPicPr/>
          <p:nvPr/>
        </p:nvPicPr>
        <p:blipFill>
          <a:blip r:embed="rId1"/>
          <a:stretch/>
        </p:blipFill>
        <p:spPr>
          <a:xfrm>
            <a:off x="4813200" y="1962000"/>
            <a:ext cx="3302280" cy="3391200"/>
          </a:xfrm>
          <a:prstGeom prst="rect">
            <a:avLst/>
          </a:prstGeom>
          <a:ln w="0">
            <a:noFill/>
          </a:ln>
        </p:spPr>
      </p:pic>
      <p:sp>
        <p:nvSpPr>
          <p:cNvPr id="1069" name="Text Box 10"/>
          <p:cNvSpPr/>
          <p:nvPr/>
        </p:nvSpPr>
        <p:spPr>
          <a:xfrm>
            <a:off x="723960" y="1955880"/>
            <a:ext cx="510552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Why are the triangles similar?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grpSp>
        <p:nvGrpSpPr>
          <p:cNvPr id="1070" name="Group 11"/>
          <p:cNvGrpSpPr/>
          <p:nvPr/>
        </p:nvGrpSpPr>
        <p:grpSpPr>
          <a:xfrm>
            <a:off x="5364360" y="3882240"/>
            <a:ext cx="2250720" cy="685080"/>
            <a:chOff x="5364360" y="3882240"/>
            <a:chExt cx="2250720" cy="685080"/>
          </a:xfrm>
        </p:grpSpPr>
        <p:sp>
          <p:nvSpPr>
            <p:cNvPr id="1071" name="Freeform 12"/>
            <p:cNvSpPr/>
            <p:nvPr/>
          </p:nvSpPr>
          <p:spPr>
            <a:xfrm rot="16680000">
              <a:off x="5395680" y="3896640"/>
              <a:ext cx="228600" cy="2541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0"/>
                  </a:moveTo>
                  <a:lnTo>
                    <a:pt x="10000" y="10000"/>
                  </a:lnTo>
                  <a:lnTo>
                    <a:pt x="10000" y="10000"/>
                  </a:lnTo>
                  <a:cubicBezTo>
                    <a:pt x="4477" y="10000"/>
                    <a:pt x="0" y="5522"/>
                    <a:pt x="0" y="0"/>
                  </a:cubicBezTo>
                  <a:lnTo>
                    <a:pt x="10000" y="0"/>
                  </a:lnTo>
                  <a:close/>
                  <a:moveTo>
                    <a:pt x="10000" y="0"/>
                  </a:moveTo>
                </a:path>
              </a:pathLst>
            </a:custGeom>
            <a:noFill/>
            <a:ln w="38160">
              <a:solidFill>
                <a:srgbClr val="e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072" name="Freeform 13"/>
            <p:cNvSpPr/>
            <p:nvPr/>
          </p:nvSpPr>
          <p:spPr>
            <a:xfrm rot="5700000">
              <a:off x="7364160" y="4290480"/>
              <a:ext cx="228600" cy="2541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0"/>
                  </a:moveTo>
                  <a:lnTo>
                    <a:pt x="10000" y="10000"/>
                  </a:lnTo>
                  <a:lnTo>
                    <a:pt x="10000" y="10000"/>
                  </a:lnTo>
                  <a:cubicBezTo>
                    <a:pt x="4477" y="10000"/>
                    <a:pt x="0" y="5522"/>
                    <a:pt x="0" y="0"/>
                  </a:cubicBezTo>
                  <a:lnTo>
                    <a:pt x="10000" y="0"/>
                  </a:lnTo>
                  <a:close/>
                  <a:moveTo>
                    <a:pt x="10000" y="0"/>
                  </a:moveTo>
                </a:path>
              </a:pathLst>
            </a:custGeom>
            <a:noFill/>
            <a:ln w="38160">
              <a:solidFill>
                <a:srgbClr val="e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073" name="Freeform 14"/>
            <p:cNvSpPr/>
            <p:nvPr/>
          </p:nvSpPr>
          <p:spPr>
            <a:xfrm rot="16680000">
              <a:off x="5383080" y="3886200"/>
              <a:ext cx="169920" cy="185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0"/>
                  </a:moveTo>
                  <a:lnTo>
                    <a:pt x="10000" y="10000"/>
                  </a:lnTo>
                  <a:lnTo>
                    <a:pt x="10000" y="10000"/>
                  </a:lnTo>
                  <a:cubicBezTo>
                    <a:pt x="4477" y="10000"/>
                    <a:pt x="0" y="5522"/>
                    <a:pt x="0" y="0"/>
                  </a:cubicBezTo>
                  <a:lnTo>
                    <a:pt x="10000" y="0"/>
                  </a:lnTo>
                  <a:close/>
                  <a:moveTo>
                    <a:pt x="10000" y="0"/>
                  </a:moveTo>
                </a:path>
              </a:pathLst>
            </a:custGeom>
            <a:noFill/>
            <a:ln w="38160">
              <a:solidFill>
                <a:srgbClr val="e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074" name="Freeform 15"/>
            <p:cNvSpPr/>
            <p:nvPr/>
          </p:nvSpPr>
          <p:spPr>
            <a:xfrm rot="5700000">
              <a:off x="7442280" y="4401000"/>
              <a:ext cx="162000" cy="1573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0"/>
                  </a:moveTo>
                  <a:lnTo>
                    <a:pt x="10000" y="10000"/>
                  </a:lnTo>
                  <a:lnTo>
                    <a:pt x="10000" y="10000"/>
                  </a:lnTo>
                  <a:cubicBezTo>
                    <a:pt x="4477" y="10000"/>
                    <a:pt x="0" y="5522"/>
                    <a:pt x="0" y="0"/>
                  </a:cubicBezTo>
                  <a:lnTo>
                    <a:pt x="10000" y="0"/>
                  </a:lnTo>
                  <a:close/>
                  <a:moveTo>
                    <a:pt x="10000" y="0"/>
                  </a:moveTo>
                </a:path>
              </a:pathLst>
            </a:custGeom>
            <a:noFill/>
            <a:ln w="38160">
              <a:solidFill>
                <a:srgbClr val="e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075" name="Freeform 16"/>
            <p:cNvSpPr/>
            <p:nvPr/>
          </p:nvSpPr>
          <p:spPr>
            <a:xfrm rot="12240000">
              <a:off x="6234120" y="3949560"/>
              <a:ext cx="169920" cy="185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0"/>
                  </a:moveTo>
                  <a:lnTo>
                    <a:pt x="10000" y="10000"/>
                  </a:lnTo>
                  <a:lnTo>
                    <a:pt x="10000" y="10000"/>
                  </a:lnTo>
                  <a:cubicBezTo>
                    <a:pt x="4477" y="10000"/>
                    <a:pt x="0" y="5522"/>
                    <a:pt x="0" y="0"/>
                  </a:cubicBezTo>
                  <a:lnTo>
                    <a:pt x="10000" y="0"/>
                  </a:lnTo>
                  <a:close/>
                  <a:moveTo>
                    <a:pt x="10000" y="0"/>
                  </a:moveTo>
                </a:path>
              </a:pathLst>
            </a:custGeom>
            <a:noFill/>
            <a:ln w="38160">
              <a:solidFill>
                <a:srgbClr val="e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076" name="Freeform 17"/>
            <p:cNvSpPr/>
            <p:nvPr/>
          </p:nvSpPr>
          <p:spPr>
            <a:xfrm rot="1980000">
              <a:off x="5776920" y="4038120"/>
              <a:ext cx="169920" cy="185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0"/>
                  </a:moveTo>
                  <a:lnTo>
                    <a:pt x="10000" y="10000"/>
                  </a:lnTo>
                  <a:lnTo>
                    <a:pt x="10000" y="10000"/>
                  </a:lnTo>
                  <a:cubicBezTo>
                    <a:pt x="4477" y="10000"/>
                    <a:pt x="0" y="5522"/>
                    <a:pt x="0" y="0"/>
                  </a:cubicBezTo>
                  <a:lnTo>
                    <a:pt x="10000" y="0"/>
                  </a:lnTo>
                  <a:close/>
                  <a:moveTo>
                    <a:pt x="10000" y="0"/>
                  </a:moveTo>
                </a:path>
              </a:pathLst>
            </a:custGeom>
            <a:noFill/>
            <a:ln w="38160">
              <a:solidFill>
                <a:srgbClr val="e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</p:grpSp>
      <p:sp>
        <p:nvSpPr>
          <p:cNvPr id="1077" name="Text Box 18"/>
          <p:cNvSpPr/>
          <p:nvPr/>
        </p:nvSpPr>
        <p:spPr>
          <a:xfrm>
            <a:off x="2629080" y="1251000"/>
            <a:ext cx="14349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0000"/>
                </a:solidFill>
                <a:latin typeface="Bodoni SvtyTwo ITC TT-Book"/>
              </a:rPr>
              <a:t>E D C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8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079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080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081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082" name="Text Box 5"/>
          <p:cNvSpPr/>
          <p:nvPr/>
        </p:nvSpPr>
        <p:spPr>
          <a:xfrm>
            <a:off x="511200" y="-6480"/>
            <a:ext cx="7655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Similar Triangle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083" name="Line 6"/>
          <p:cNvSpPr/>
          <p:nvPr/>
        </p:nvSpPr>
        <p:spPr>
          <a:xfrm>
            <a:off x="574560" y="97164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084" name="Text Box 7"/>
          <p:cNvSpPr/>
          <p:nvPr/>
        </p:nvSpPr>
        <p:spPr>
          <a:xfrm>
            <a:off x="723960" y="1257480"/>
            <a:ext cx="328932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∆</a:t>
            </a: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ABC       ∆  </a:t>
            </a:r>
            <a:r>
              <a:rPr b="1" lang="en-US" sz="3200" spc="-1" strike="noStrike">
                <a:solidFill>
                  <a:srgbClr val="000000"/>
                </a:solidFill>
                <a:latin typeface="Bodoni SvtyTwo ITC TT-Book"/>
              </a:rPr>
              <a:t>_   _   _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085" name="Text Box 8"/>
          <p:cNvSpPr/>
          <p:nvPr/>
        </p:nvSpPr>
        <p:spPr>
          <a:xfrm>
            <a:off x="1862640" y="1333440"/>
            <a:ext cx="41508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000000"/>
                </a:solidFill>
                <a:latin typeface="Bodoni SvtyTwo ITC TT-Book"/>
              </a:rPr>
              <a:t>~</a:t>
            </a:r>
            <a:endParaRPr b="0" lang="en-US" sz="57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1086" name="Picture 9" descr=""/>
          <p:cNvPicPr/>
          <p:nvPr/>
        </p:nvPicPr>
        <p:blipFill>
          <a:blip r:embed="rId1"/>
          <a:stretch/>
        </p:blipFill>
        <p:spPr>
          <a:xfrm>
            <a:off x="4813200" y="1962000"/>
            <a:ext cx="3302280" cy="3391200"/>
          </a:xfrm>
          <a:prstGeom prst="rect">
            <a:avLst/>
          </a:prstGeom>
          <a:ln w="0">
            <a:noFill/>
          </a:ln>
        </p:spPr>
      </p:pic>
      <p:sp>
        <p:nvSpPr>
          <p:cNvPr id="1087" name="Text Box 10"/>
          <p:cNvSpPr/>
          <p:nvPr/>
        </p:nvSpPr>
        <p:spPr>
          <a:xfrm>
            <a:off x="1120320" y="2374920"/>
            <a:ext cx="2954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0000"/>
                </a:solidFill>
                <a:latin typeface="Bodoni SvtyTwo ITC TT-Book"/>
              </a:rPr>
              <a:t>AA Similarity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088" name="Text Box 11"/>
          <p:cNvSpPr/>
          <p:nvPr/>
        </p:nvSpPr>
        <p:spPr>
          <a:xfrm>
            <a:off x="723960" y="1955880"/>
            <a:ext cx="510552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Why are the triangles similar?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grpSp>
        <p:nvGrpSpPr>
          <p:cNvPr id="1089" name="Group 12"/>
          <p:cNvGrpSpPr/>
          <p:nvPr/>
        </p:nvGrpSpPr>
        <p:grpSpPr>
          <a:xfrm>
            <a:off x="5364360" y="3882240"/>
            <a:ext cx="2250720" cy="685080"/>
            <a:chOff x="5364360" y="3882240"/>
            <a:chExt cx="2250720" cy="685080"/>
          </a:xfrm>
        </p:grpSpPr>
        <p:sp>
          <p:nvSpPr>
            <p:cNvPr id="1090" name="Freeform 13"/>
            <p:cNvSpPr/>
            <p:nvPr/>
          </p:nvSpPr>
          <p:spPr>
            <a:xfrm rot="16680000">
              <a:off x="5395680" y="3896640"/>
              <a:ext cx="228600" cy="2541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0"/>
                  </a:moveTo>
                  <a:lnTo>
                    <a:pt x="10000" y="10000"/>
                  </a:lnTo>
                  <a:lnTo>
                    <a:pt x="10000" y="10000"/>
                  </a:lnTo>
                  <a:cubicBezTo>
                    <a:pt x="4477" y="10000"/>
                    <a:pt x="0" y="5522"/>
                    <a:pt x="0" y="0"/>
                  </a:cubicBezTo>
                  <a:lnTo>
                    <a:pt x="10000" y="0"/>
                  </a:lnTo>
                  <a:close/>
                  <a:moveTo>
                    <a:pt x="10000" y="0"/>
                  </a:moveTo>
                </a:path>
              </a:pathLst>
            </a:custGeom>
            <a:noFill/>
            <a:ln w="38160">
              <a:solidFill>
                <a:srgbClr val="e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091" name="Freeform 14"/>
            <p:cNvSpPr/>
            <p:nvPr/>
          </p:nvSpPr>
          <p:spPr>
            <a:xfrm rot="5700000">
              <a:off x="7364160" y="4290480"/>
              <a:ext cx="228600" cy="2541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0"/>
                  </a:moveTo>
                  <a:lnTo>
                    <a:pt x="10000" y="10000"/>
                  </a:lnTo>
                  <a:lnTo>
                    <a:pt x="10000" y="10000"/>
                  </a:lnTo>
                  <a:cubicBezTo>
                    <a:pt x="4477" y="10000"/>
                    <a:pt x="0" y="5522"/>
                    <a:pt x="0" y="0"/>
                  </a:cubicBezTo>
                  <a:lnTo>
                    <a:pt x="10000" y="0"/>
                  </a:lnTo>
                  <a:close/>
                  <a:moveTo>
                    <a:pt x="10000" y="0"/>
                  </a:moveTo>
                </a:path>
              </a:pathLst>
            </a:custGeom>
            <a:noFill/>
            <a:ln w="38160">
              <a:solidFill>
                <a:srgbClr val="e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092" name="Freeform 15"/>
            <p:cNvSpPr/>
            <p:nvPr/>
          </p:nvSpPr>
          <p:spPr>
            <a:xfrm rot="16680000">
              <a:off x="5383080" y="3886200"/>
              <a:ext cx="169920" cy="185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0"/>
                  </a:moveTo>
                  <a:lnTo>
                    <a:pt x="10000" y="10000"/>
                  </a:lnTo>
                  <a:lnTo>
                    <a:pt x="10000" y="10000"/>
                  </a:lnTo>
                  <a:cubicBezTo>
                    <a:pt x="4477" y="10000"/>
                    <a:pt x="0" y="5522"/>
                    <a:pt x="0" y="0"/>
                  </a:cubicBezTo>
                  <a:lnTo>
                    <a:pt x="10000" y="0"/>
                  </a:lnTo>
                  <a:close/>
                  <a:moveTo>
                    <a:pt x="10000" y="0"/>
                  </a:moveTo>
                </a:path>
              </a:pathLst>
            </a:custGeom>
            <a:noFill/>
            <a:ln w="38160">
              <a:solidFill>
                <a:srgbClr val="e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093" name="Freeform 16"/>
            <p:cNvSpPr/>
            <p:nvPr/>
          </p:nvSpPr>
          <p:spPr>
            <a:xfrm rot="5700000">
              <a:off x="7442280" y="4401000"/>
              <a:ext cx="162000" cy="1573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0"/>
                  </a:moveTo>
                  <a:lnTo>
                    <a:pt x="10000" y="10000"/>
                  </a:lnTo>
                  <a:lnTo>
                    <a:pt x="10000" y="10000"/>
                  </a:lnTo>
                  <a:cubicBezTo>
                    <a:pt x="4477" y="10000"/>
                    <a:pt x="0" y="5522"/>
                    <a:pt x="0" y="0"/>
                  </a:cubicBezTo>
                  <a:lnTo>
                    <a:pt x="10000" y="0"/>
                  </a:lnTo>
                  <a:close/>
                  <a:moveTo>
                    <a:pt x="10000" y="0"/>
                  </a:moveTo>
                </a:path>
              </a:pathLst>
            </a:custGeom>
            <a:noFill/>
            <a:ln w="38160">
              <a:solidFill>
                <a:srgbClr val="e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094" name="Freeform 17"/>
            <p:cNvSpPr/>
            <p:nvPr/>
          </p:nvSpPr>
          <p:spPr>
            <a:xfrm rot="12240000">
              <a:off x="6234120" y="3949560"/>
              <a:ext cx="169920" cy="185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0"/>
                  </a:moveTo>
                  <a:lnTo>
                    <a:pt x="10000" y="10000"/>
                  </a:lnTo>
                  <a:lnTo>
                    <a:pt x="10000" y="10000"/>
                  </a:lnTo>
                  <a:cubicBezTo>
                    <a:pt x="4477" y="10000"/>
                    <a:pt x="0" y="5522"/>
                    <a:pt x="0" y="0"/>
                  </a:cubicBezTo>
                  <a:lnTo>
                    <a:pt x="10000" y="0"/>
                  </a:lnTo>
                  <a:close/>
                  <a:moveTo>
                    <a:pt x="10000" y="0"/>
                  </a:moveTo>
                </a:path>
              </a:pathLst>
            </a:custGeom>
            <a:noFill/>
            <a:ln w="38160">
              <a:solidFill>
                <a:srgbClr val="e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095" name="Freeform 18"/>
            <p:cNvSpPr/>
            <p:nvPr/>
          </p:nvSpPr>
          <p:spPr>
            <a:xfrm rot="1980000">
              <a:off x="5776920" y="4038120"/>
              <a:ext cx="169920" cy="185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0"/>
                  </a:moveTo>
                  <a:lnTo>
                    <a:pt x="10000" y="10000"/>
                  </a:lnTo>
                  <a:lnTo>
                    <a:pt x="10000" y="10000"/>
                  </a:lnTo>
                  <a:cubicBezTo>
                    <a:pt x="4477" y="10000"/>
                    <a:pt x="0" y="5522"/>
                    <a:pt x="0" y="0"/>
                  </a:cubicBezTo>
                  <a:lnTo>
                    <a:pt x="10000" y="0"/>
                  </a:lnTo>
                  <a:close/>
                  <a:moveTo>
                    <a:pt x="10000" y="0"/>
                  </a:moveTo>
                </a:path>
              </a:pathLst>
            </a:custGeom>
            <a:noFill/>
            <a:ln w="38160">
              <a:solidFill>
                <a:srgbClr val="e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</p:grpSp>
      <p:sp>
        <p:nvSpPr>
          <p:cNvPr id="1096" name="Text Box 19"/>
          <p:cNvSpPr/>
          <p:nvPr/>
        </p:nvSpPr>
        <p:spPr>
          <a:xfrm>
            <a:off x="2629080" y="1251000"/>
            <a:ext cx="14349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0000"/>
                </a:solidFill>
                <a:latin typeface="Bodoni SvtyTwo ITC TT-Book"/>
              </a:rPr>
              <a:t>E D C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7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098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099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100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101" name="Text Box 5"/>
          <p:cNvSpPr/>
          <p:nvPr/>
        </p:nvSpPr>
        <p:spPr>
          <a:xfrm>
            <a:off x="511200" y="-6480"/>
            <a:ext cx="7655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Similar Triangle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02" name="Line 6"/>
          <p:cNvSpPr/>
          <p:nvPr/>
        </p:nvSpPr>
        <p:spPr>
          <a:xfrm>
            <a:off x="574560" y="97164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03" name="Text Box 7"/>
          <p:cNvSpPr/>
          <p:nvPr/>
        </p:nvSpPr>
        <p:spPr>
          <a:xfrm>
            <a:off x="723960" y="1257480"/>
            <a:ext cx="328932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∆</a:t>
            </a: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ABC       ∆  </a:t>
            </a:r>
            <a:r>
              <a:rPr b="1" lang="en-US" sz="3200" spc="-1" strike="noStrike">
                <a:solidFill>
                  <a:srgbClr val="000000"/>
                </a:solidFill>
                <a:latin typeface="Bodoni SvtyTwo ITC TT-Book"/>
              </a:rPr>
              <a:t>_   _   _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04" name="Text Box 8"/>
          <p:cNvSpPr/>
          <p:nvPr/>
        </p:nvSpPr>
        <p:spPr>
          <a:xfrm>
            <a:off x="1862640" y="1333440"/>
            <a:ext cx="41508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000000"/>
                </a:solidFill>
                <a:latin typeface="Bodoni SvtyTwo ITC TT-Book"/>
              </a:rPr>
              <a:t>~</a:t>
            </a:r>
            <a:endParaRPr b="0" lang="en-US" sz="57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1105" name="Picture 9" descr=""/>
          <p:cNvPicPr/>
          <p:nvPr/>
        </p:nvPicPr>
        <p:blipFill>
          <a:blip r:embed="rId1"/>
          <a:stretch/>
        </p:blipFill>
        <p:spPr>
          <a:xfrm>
            <a:off x="4813200" y="1962000"/>
            <a:ext cx="3302280" cy="3391200"/>
          </a:xfrm>
          <a:prstGeom prst="rect">
            <a:avLst/>
          </a:prstGeom>
          <a:ln w="0">
            <a:noFill/>
          </a:ln>
        </p:spPr>
      </p:pic>
      <p:sp>
        <p:nvSpPr>
          <p:cNvPr id="1106" name="Text Box 10"/>
          <p:cNvSpPr/>
          <p:nvPr/>
        </p:nvSpPr>
        <p:spPr>
          <a:xfrm>
            <a:off x="749160" y="1866960"/>
            <a:ext cx="584208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If AB = 8, AC = 5, BC = 7, CD = 18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then find DE.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grpSp>
        <p:nvGrpSpPr>
          <p:cNvPr id="1107" name="Group 11"/>
          <p:cNvGrpSpPr/>
          <p:nvPr/>
        </p:nvGrpSpPr>
        <p:grpSpPr>
          <a:xfrm>
            <a:off x="5364360" y="3882240"/>
            <a:ext cx="2250720" cy="685080"/>
            <a:chOff x="5364360" y="3882240"/>
            <a:chExt cx="2250720" cy="685080"/>
          </a:xfrm>
        </p:grpSpPr>
        <p:sp>
          <p:nvSpPr>
            <p:cNvPr id="1108" name="Freeform 12"/>
            <p:cNvSpPr/>
            <p:nvPr/>
          </p:nvSpPr>
          <p:spPr>
            <a:xfrm rot="16680000">
              <a:off x="5395680" y="3896640"/>
              <a:ext cx="228600" cy="2541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0"/>
                  </a:moveTo>
                  <a:lnTo>
                    <a:pt x="10000" y="10000"/>
                  </a:lnTo>
                  <a:lnTo>
                    <a:pt x="10000" y="10000"/>
                  </a:lnTo>
                  <a:cubicBezTo>
                    <a:pt x="4477" y="10000"/>
                    <a:pt x="0" y="5522"/>
                    <a:pt x="0" y="0"/>
                  </a:cubicBezTo>
                  <a:lnTo>
                    <a:pt x="10000" y="0"/>
                  </a:lnTo>
                  <a:close/>
                  <a:moveTo>
                    <a:pt x="10000" y="0"/>
                  </a:moveTo>
                </a:path>
              </a:pathLst>
            </a:custGeom>
            <a:noFill/>
            <a:ln w="38160">
              <a:solidFill>
                <a:srgbClr val="e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109" name="Freeform 13"/>
            <p:cNvSpPr/>
            <p:nvPr/>
          </p:nvSpPr>
          <p:spPr>
            <a:xfrm rot="5700000">
              <a:off x="7364160" y="4290480"/>
              <a:ext cx="228600" cy="2541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0"/>
                  </a:moveTo>
                  <a:lnTo>
                    <a:pt x="10000" y="10000"/>
                  </a:lnTo>
                  <a:lnTo>
                    <a:pt x="10000" y="10000"/>
                  </a:lnTo>
                  <a:cubicBezTo>
                    <a:pt x="4477" y="10000"/>
                    <a:pt x="0" y="5522"/>
                    <a:pt x="0" y="0"/>
                  </a:cubicBezTo>
                  <a:lnTo>
                    <a:pt x="10000" y="0"/>
                  </a:lnTo>
                  <a:close/>
                  <a:moveTo>
                    <a:pt x="10000" y="0"/>
                  </a:moveTo>
                </a:path>
              </a:pathLst>
            </a:custGeom>
            <a:noFill/>
            <a:ln w="38160">
              <a:solidFill>
                <a:srgbClr val="e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110" name="Freeform 14"/>
            <p:cNvSpPr/>
            <p:nvPr/>
          </p:nvSpPr>
          <p:spPr>
            <a:xfrm rot="16680000">
              <a:off x="5383080" y="3886200"/>
              <a:ext cx="169920" cy="185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0"/>
                  </a:moveTo>
                  <a:lnTo>
                    <a:pt x="10000" y="10000"/>
                  </a:lnTo>
                  <a:lnTo>
                    <a:pt x="10000" y="10000"/>
                  </a:lnTo>
                  <a:cubicBezTo>
                    <a:pt x="4477" y="10000"/>
                    <a:pt x="0" y="5522"/>
                    <a:pt x="0" y="0"/>
                  </a:cubicBezTo>
                  <a:lnTo>
                    <a:pt x="10000" y="0"/>
                  </a:lnTo>
                  <a:close/>
                  <a:moveTo>
                    <a:pt x="10000" y="0"/>
                  </a:moveTo>
                </a:path>
              </a:pathLst>
            </a:custGeom>
            <a:noFill/>
            <a:ln w="38160">
              <a:solidFill>
                <a:srgbClr val="e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111" name="Freeform 15"/>
            <p:cNvSpPr/>
            <p:nvPr/>
          </p:nvSpPr>
          <p:spPr>
            <a:xfrm rot="5700000">
              <a:off x="7442280" y="4401000"/>
              <a:ext cx="162000" cy="1573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0"/>
                  </a:moveTo>
                  <a:lnTo>
                    <a:pt x="10000" y="10000"/>
                  </a:lnTo>
                  <a:lnTo>
                    <a:pt x="10000" y="10000"/>
                  </a:lnTo>
                  <a:cubicBezTo>
                    <a:pt x="4477" y="10000"/>
                    <a:pt x="0" y="5522"/>
                    <a:pt x="0" y="0"/>
                  </a:cubicBezTo>
                  <a:lnTo>
                    <a:pt x="10000" y="0"/>
                  </a:lnTo>
                  <a:close/>
                  <a:moveTo>
                    <a:pt x="10000" y="0"/>
                  </a:moveTo>
                </a:path>
              </a:pathLst>
            </a:custGeom>
            <a:noFill/>
            <a:ln w="38160">
              <a:solidFill>
                <a:srgbClr val="e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112" name="Freeform 16"/>
            <p:cNvSpPr/>
            <p:nvPr/>
          </p:nvSpPr>
          <p:spPr>
            <a:xfrm rot="12240000">
              <a:off x="6234120" y="3949560"/>
              <a:ext cx="169920" cy="185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0"/>
                  </a:moveTo>
                  <a:lnTo>
                    <a:pt x="10000" y="10000"/>
                  </a:lnTo>
                  <a:lnTo>
                    <a:pt x="10000" y="10000"/>
                  </a:lnTo>
                  <a:cubicBezTo>
                    <a:pt x="4477" y="10000"/>
                    <a:pt x="0" y="5522"/>
                    <a:pt x="0" y="0"/>
                  </a:cubicBezTo>
                  <a:lnTo>
                    <a:pt x="10000" y="0"/>
                  </a:lnTo>
                  <a:close/>
                  <a:moveTo>
                    <a:pt x="10000" y="0"/>
                  </a:moveTo>
                </a:path>
              </a:pathLst>
            </a:custGeom>
            <a:noFill/>
            <a:ln w="38160">
              <a:solidFill>
                <a:srgbClr val="e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113" name="Freeform 17"/>
            <p:cNvSpPr/>
            <p:nvPr/>
          </p:nvSpPr>
          <p:spPr>
            <a:xfrm rot="1980000">
              <a:off x="5776920" y="4038120"/>
              <a:ext cx="169920" cy="185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0"/>
                  </a:moveTo>
                  <a:lnTo>
                    <a:pt x="10000" y="10000"/>
                  </a:lnTo>
                  <a:lnTo>
                    <a:pt x="10000" y="10000"/>
                  </a:lnTo>
                  <a:cubicBezTo>
                    <a:pt x="4477" y="10000"/>
                    <a:pt x="0" y="5522"/>
                    <a:pt x="0" y="0"/>
                  </a:cubicBezTo>
                  <a:lnTo>
                    <a:pt x="10000" y="0"/>
                  </a:lnTo>
                  <a:close/>
                  <a:moveTo>
                    <a:pt x="10000" y="0"/>
                  </a:moveTo>
                </a:path>
              </a:pathLst>
            </a:custGeom>
            <a:noFill/>
            <a:ln w="38160">
              <a:solidFill>
                <a:srgbClr val="e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</p:grpSp>
      <p:sp>
        <p:nvSpPr>
          <p:cNvPr id="1114" name="Text Box 18"/>
          <p:cNvSpPr/>
          <p:nvPr/>
        </p:nvSpPr>
        <p:spPr>
          <a:xfrm>
            <a:off x="2629080" y="1251000"/>
            <a:ext cx="14349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0000"/>
                </a:solidFill>
                <a:latin typeface="Bodoni SvtyTwo ITC TT-Book"/>
              </a:rPr>
              <a:t>E D C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15" name="Text Box 19"/>
          <p:cNvSpPr/>
          <p:nvPr/>
        </p:nvSpPr>
        <p:spPr>
          <a:xfrm>
            <a:off x="4762440" y="4121280"/>
            <a:ext cx="4698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ee"/>
                </a:solidFill>
                <a:latin typeface="Bodoni SvtyTwo ITC TT-Book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16" name="Text Box 20"/>
          <p:cNvSpPr/>
          <p:nvPr/>
        </p:nvSpPr>
        <p:spPr>
          <a:xfrm>
            <a:off x="5435640" y="3397320"/>
            <a:ext cx="4698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ee"/>
                </a:solidFill>
                <a:latin typeface="Bodoni SvtyTwo ITC TT-Book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17" name="Text Box 21"/>
          <p:cNvSpPr/>
          <p:nvPr/>
        </p:nvSpPr>
        <p:spPr>
          <a:xfrm>
            <a:off x="5626080" y="4400640"/>
            <a:ext cx="4698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ee"/>
                </a:solidFill>
                <a:latin typeface="Bodoni SvtyTwo ITC TT-Book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18" name="Text Box 22"/>
          <p:cNvSpPr/>
          <p:nvPr/>
        </p:nvSpPr>
        <p:spPr>
          <a:xfrm>
            <a:off x="6350040" y="2736720"/>
            <a:ext cx="647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ee"/>
                </a:solidFill>
                <a:latin typeface="Bodoni SvtyTwo ITC TT-Book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19" name="Text Box 23"/>
          <p:cNvSpPr/>
          <p:nvPr/>
        </p:nvSpPr>
        <p:spPr>
          <a:xfrm>
            <a:off x="7734240" y="3257640"/>
            <a:ext cx="647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ee"/>
                </a:solidFill>
                <a:latin typeface="Bodoni SvtyTwo ITC TT-Book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0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121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122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123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124" name="Text Box 5"/>
          <p:cNvSpPr/>
          <p:nvPr/>
        </p:nvSpPr>
        <p:spPr>
          <a:xfrm>
            <a:off x="514440" y="-6480"/>
            <a:ext cx="7654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Similar Triangle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25" name="Line 6"/>
          <p:cNvSpPr/>
          <p:nvPr/>
        </p:nvSpPr>
        <p:spPr>
          <a:xfrm>
            <a:off x="577800" y="97164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26" name="Text Box 7"/>
          <p:cNvSpPr/>
          <p:nvPr/>
        </p:nvSpPr>
        <p:spPr>
          <a:xfrm>
            <a:off x="727200" y="1257480"/>
            <a:ext cx="328932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∆</a:t>
            </a: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ABC       ∆  </a:t>
            </a:r>
            <a:r>
              <a:rPr b="1" lang="en-US" sz="3200" spc="-1" strike="noStrike">
                <a:solidFill>
                  <a:srgbClr val="000000"/>
                </a:solidFill>
                <a:latin typeface="Bodoni SvtyTwo ITC TT-Book"/>
              </a:rPr>
              <a:t>_   _   _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27" name="Text Box 8"/>
          <p:cNvSpPr/>
          <p:nvPr/>
        </p:nvSpPr>
        <p:spPr>
          <a:xfrm>
            <a:off x="1865520" y="1333440"/>
            <a:ext cx="41508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000000"/>
                </a:solidFill>
                <a:latin typeface="Bodoni SvtyTwo ITC TT-Book"/>
              </a:rPr>
              <a:t>~</a:t>
            </a:r>
            <a:endParaRPr b="0" lang="en-US" sz="57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1128" name="Picture 9" descr=""/>
          <p:cNvPicPr/>
          <p:nvPr/>
        </p:nvPicPr>
        <p:blipFill>
          <a:blip r:embed="rId1"/>
          <a:stretch/>
        </p:blipFill>
        <p:spPr>
          <a:xfrm>
            <a:off x="4816440" y="1962000"/>
            <a:ext cx="3301920" cy="3391200"/>
          </a:xfrm>
          <a:prstGeom prst="rect">
            <a:avLst/>
          </a:prstGeom>
          <a:ln w="0">
            <a:noFill/>
          </a:ln>
        </p:spPr>
      </p:pic>
      <p:sp>
        <p:nvSpPr>
          <p:cNvPr id="1129" name="Text Box 10"/>
          <p:cNvSpPr/>
          <p:nvPr/>
        </p:nvSpPr>
        <p:spPr>
          <a:xfrm>
            <a:off x="752400" y="1866960"/>
            <a:ext cx="584208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If AB = 8, AC = 5, BC = 7, CD = 18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then find DE.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grpSp>
        <p:nvGrpSpPr>
          <p:cNvPr id="1130" name="Group 11"/>
          <p:cNvGrpSpPr/>
          <p:nvPr/>
        </p:nvGrpSpPr>
        <p:grpSpPr>
          <a:xfrm>
            <a:off x="5367600" y="3882240"/>
            <a:ext cx="2250000" cy="685080"/>
            <a:chOff x="5367600" y="3882240"/>
            <a:chExt cx="2250000" cy="685080"/>
          </a:xfrm>
        </p:grpSpPr>
        <p:sp>
          <p:nvSpPr>
            <p:cNvPr id="1131" name="Freeform 12"/>
            <p:cNvSpPr/>
            <p:nvPr/>
          </p:nvSpPr>
          <p:spPr>
            <a:xfrm rot="16680000">
              <a:off x="5398560" y="3897000"/>
              <a:ext cx="228600" cy="2538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0"/>
                  </a:moveTo>
                  <a:lnTo>
                    <a:pt x="10000" y="10000"/>
                  </a:lnTo>
                  <a:lnTo>
                    <a:pt x="10000" y="10000"/>
                  </a:lnTo>
                  <a:cubicBezTo>
                    <a:pt x="4477" y="10000"/>
                    <a:pt x="0" y="5522"/>
                    <a:pt x="0" y="0"/>
                  </a:cubicBezTo>
                  <a:lnTo>
                    <a:pt x="10000" y="0"/>
                  </a:lnTo>
                  <a:close/>
                  <a:moveTo>
                    <a:pt x="10000" y="0"/>
                  </a:moveTo>
                </a:path>
              </a:pathLst>
            </a:custGeom>
            <a:noFill/>
            <a:ln w="38160">
              <a:solidFill>
                <a:srgbClr val="e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132" name="Freeform 13"/>
            <p:cNvSpPr/>
            <p:nvPr/>
          </p:nvSpPr>
          <p:spPr>
            <a:xfrm rot="5700000">
              <a:off x="7366680" y="4290840"/>
              <a:ext cx="228600" cy="2538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0"/>
                  </a:moveTo>
                  <a:lnTo>
                    <a:pt x="10000" y="10000"/>
                  </a:lnTo>
                  <a:lnTo>
                    <a:pt x="10000" y="10000"/>
                  </a:lnTo>
                  <a:cubicBezTo>
                    <a:pt x="4477" y="10000"/>
                    <a:pt x="0" y="5522"/>
                    <a:pt x="0" y="0"/>
                  </a:cubicBezTo>
                  <a:lnTo>
                    <a:pt x="10000" y="0"/>
                  </a:lnTo>
                  <a:close/>
                  <a:moveTo>
                    <a:pt x="10000" y="0"/>
                  </a:moveTo>
                </a:path>
              </a:pathLst>
            </a:custGeom>
            <a:noFill/>
            <a:ln w="38160">
              <a:solidFill>
                <a:srgbClr val="e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133" name="Freeform 14"/>
            <p:cNvSpPr/>
            <p:nvPr/>
          </p:nvSpPr>
          <p:spPr>
            <a:xfrm rot="16680000">
              <a:off x="5386320" y="3886200"/>
              <a:ext cx="169920" cy="185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0"/>
                  </a:moveTo>
                  <a:lnTo>
                    <a:pt x="10000" y="10000"/>
                  </a:lnTo>
                  <a:lnTo>
                    <a:pt x="10000" y="10000"/>
                  </a:lnTo>
                  <a:cubicBezTo>
                    <a:pt x="4477" y="10000"/>
                    <a:pt x="0" y="5522"/>
                    <a:pt x="0" y="0"/>
                  </a:cubicBezTo>
                  <a:lnTo>
                    <a:pt x="10000" y="0"/>
                  </a:lnTo>
                  <a:close/>
                  <a:moveTo>
                    <a:pt x="10000" y="0"/>
                  </a:moveTo>
                </a:path>
              </a:pathLst>
            </a:custGeom>
            <a:noFill/>
            <a:ln w="38160">
              <a:solidFill>
                <a:srgbClr val="e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134" name="Freeform 15"/>
            <p:cNvSpPr/>
            <p:nvPr/>
          </p:nvSpPr>
          <p:spPr>
            <a:xfrm rot="5700000">
              <a:off x="7445520" y="4401000"/>
              <a:ext cx="162000" cy="1573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0"/>
                  </a:moveTo>
                  <a:lnTo>
                    <a:pt x="10000" y="10000"/>
                  </a:lnTo>
                  <a:lnTo>
                    <a:pt x="10000" y="10000"/>
                  </a:lnTo>
                  <a:cubicBezTo>
                    <a:pt x="4477" y="10000"/>
                    <a:pt x="0" y="5522"/>
                    <a:pt x="0" y="0"/>
                  </a:cubicBezTo>
                  <a:lnTo>
                    <a:pt x="10000" y="0"/>
                  </a:lnTo>
                  <a:close/>
                  <a:moveTo>
                    <a:pt x="10000" y="0"/>
                  </a:moveTo>
                </a:path>
              </a:pathLst>
            </a:custGeom>
            <a:noFill/>
            <a:ln w="38160">
              <a:solidFill>
                <a:srgbClr val="e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135" name="Freeform 16"/>
            <p:cNvSpPr/>
            <p:nvPr/>
          </p:nvSpPr>
          <p:spPr>
            <a:xfrm rot="12240000">
              <a:off x="6237000" y="3949560"/>
              <a:ext cx="169920" cy="185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0"/>
                  </a:moveTo>
                  <a:lnTo>
                    <a:pt x="10000" y="10000"/>
                  </a:lnTo>
                  <a:lnTo>
                    <a:pt x="10000" y="10000"/>
                  </a:lnTo>
                  <a:cubicBezTo>
                    <a:pt x="4477" y="10000"/>
                    <a:pt x="0" y="5522"/>
                    <a:pt x="0" y="0"/>
                  </a:cubicBezTo>
                  <a:lnTo>
                    <a:pt x="10000" y="0"/>
                  </a:lnTo>
                  <a:close/>
                  <a:moveTo>
                    <a:pt x="10000" y="0"/>
                  </a:moveTo>
                </a:path>
              </a:pathLst>
            </a:custGeom>
            <a:noFill/>
            <a:ln w="38160">
              <a:solidFill>
                <a:srgbClr val="e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136" name="Freeform 17"/>
            <p:cNvSpPr/>
            <p:nvPr/>
          </p:nvSpPr>
          <p:spPr>
            <a:xfrm rot="1980000">
              <a:off x="5779800" y="4038120"/>
              <a:ext cx="169920" cy="185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0"/>
                  </a:moveTo>
                  <a:lnTo>
                    <a:pt x="10000" y="10000"/>
                  </a:lnTo>
                  <a:lnTo>
                    <a:pt x="10000" y="10000"/>
                  </a:lnTo>
                  <a:cubicBezTo>
                    <a:pt x="4477" y="10000"/>
                    <a:pt x="0" y="5522"/>
                    <a:pt x="0" y="0"/>
                  </a:cubicBezTo>
                  <a:lnTo>
                    <a:pt x="10000" y="0"/>
                  </a:lnTo>
                  <a:close/>
                  <a:moveTo>
                    <a:pt x="10000" y="0"/>
                  </a:moveTo>
                </a:path>
              </a:pathLst>
            </a:custGeom>
            <a:noFill/>
            <a:ln w="38160">
              <a:solidFill>
                <a:srgbClr val="e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</p:grpSp>
      <p:sp>
        <p:nvSpPr>
          <p:cNvPr id="1137" name="Text Box 18"/>
          <p:cNvSpPr/>
          <p:nvPr/>
        </p:nvSpPr>
        <p:spPr>
          <a:xfrm>
            <a:off x="2631960" y="1251000"/>
            <a:ext cx="1435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0000"/>
                </a:solidFill>
                <a:latin typeface="Bodoni SvtyTwo ITC TT-Book"/>
              </a:rPr>
              <a:t>E D C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38" name="Text Box 19"/>
          <p:cNvSpPr/>
          <p:nvPr/>
        </p:nvSpPr>
        <p:spPr>
          <a:xfrm>
            <a:off x="4765680" y="4121280"/>
            <a:ext cx="4698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ee"/>
                </a:solidFill>
                <a:latin typeface="Bodoni SvtyTwo ITC TT-Book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39" name="Text Box 20"/>
          <p:cNvSpPr/>
          <p:nvPr/>
        </p:nvSpPr>
        <p:spPr>
          <a:xfrm>
            <a:off x="5438880" y="3397320"/>
            <a:ext cx="4698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ee"/>
                </a:solidFill>
                <a:latin typeface="Bodoni SvtyTwo ITC TT-Book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40" name="Text Box 21"/>
          <p:cNvSpPr/>
          <p:nvPr/>
        </p:nvSpPr>
        <p:spPr>
          <a:xfrm>
            <a:off x="5629320" y="4400640"/>
            <a:ext cx="4698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ee"/>
                </a:solidFill>
                <a:latin typeface="Bodoni SvtyTwo ITC TT-Book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41" name="Text Box 22"/>
          <p:cNvSpPr/>
          <p:nvPr/>
        </p:nvSpPr>
        <p:spPr>
          <a:xfrm>
            <a:off x="6353280" y="2736720"/>
            <a:ext cx="647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ee"/>
                </a:solidFill>
                <a:latin typeface="Bodoni SvtyTwo ITC TT-Book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42" name="Text Box 23"/>
          <p:cNvSpPr/>
          <p:nvPr/>
        </p:nvSpPr>
        <p:spPr>
          <a:xfrm>
            <a:off x="7737480" y="3257640"/>
            <a:ext cx="647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ee"/>
                </a:solidFill>
                <a:latin typeface="Bodoni SvtyTwo ITC TT-Book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43" name="Line 24"/>
          <p:cNvSpPr/>
          <p:nvPr/>
        </p:nvSpPr>
        <p:spPr>
          <a:xfrm>
            <a:off x="993600" y="3467160"/>
            <a:ext cx="55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44" name="Text Box 25"/>
          <p:cNvSpPr/>
          <p:nvPr/>
        </p:nvSpPr>
        <p:spPr>
          <a:xfrm>
            <a:off x="1654200" y="3105000"/>
            <a:ext cx="49536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Bodoni SvtyTwo ITC TT-Book"/>
              </a:rPr>
              <a:t>=</a:t>
            </a:r>
            <a:endParaRPr b="0" lang="en-US" sz="47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45" name="Line 26"/>
          <p:cNvSpPr/>
          <p:nvPr/>
        </p:nvSpPr>
        <p:spPr>
          <a:xfrm>
            <a:off x="2225520" y="3467160"/>
            <a:ext cx="55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46" name="Text Box 27"/>
          <p:cNvSpPr/>
          <p:nvPr/>
        </p:nvSpPr>
        <p:spPr>
          <a:xfrm>
            <a:off x="968400" y="2952720"/>
            <a:ext cx="711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47" name="Text Box 28"/>
          <p:cNvSpPr/>
          <p:nvPr/>
        </p:nvSpPr>
        <p:spPr>
          <a:xfrm>
            <a:off x="942840" y="3549600"/>
            <a:ext cx="711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DE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48" name="Text Box 29"/>
          <p:cNvSpPr/>
          <p:nvPr/>
        </p:nvSpPr>
        <p:spPr>
          <a:xfrm>
            <a:off x="2124000" y="2965320"/>
            <a:ext cx="711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BC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49" name="Text Box 30"/>
          <p:cNvSpPr/>
          <p:nvPr/>
        </p:nvSpPr>
        <p:spPr>
          <a:xfrm>
            <a:off x="2098800" y="3537000"/>
            <a:ext cx="812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DC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grpSp>
        <p:nvGrpSpPr>
          <p:cNvPr id="1150" name="Group 31"/>
          <p:cNvGrpSpPr/>
          <p:nvPr/>
        </p:nvGrpSpPr>
        <p:grpSpPr>
          <a:xfrm>
            <a:off x="3546360" y="2997360"/>
            <a:ext cx="1422720" cy="1003320"/>
            <a:chOff x="3546360" y="2997360"/>
            <a:chExt cx="1422720" cy="1003320"/>
          </a:xfrm>
        </p:grpSpPr>
        <p:sp>
          <p:nvSpPr>
            <p:cNvPr id="1151" name="Text Box 32"/>
            <p:cNvSpPr/>
            <p:nvPr/>
          </p:nvSpPr>
          <p:spPr>
            <a:xfrm>
              <a:off x="3663720" y="2997360"/>
              <a:ext cx="1305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Bodoni SvtyTwo ITC TT-Book"/>
                </a:rPr>
                <a:t>small ∆</a:t>
              </a:r>
              <a:endParaRPr b="0" lang="en-US" sz="30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152" name="Text Box 33"/>
            <p:cNvSpPr/>
            <p:nvPr/>
          </p:nvSpPr>
          <p:spPr>
            <a:xfrm>
              <a:off x="3786120" y="3543480"/>
              <a:ext cx="922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Bodoni SvtyTwo ITC TT-Book"/>
                </a:rPr>
                <a:t>big ∆</a:t>
              </a:r>
              <a:endParaRPr b="0" lang="en-US" sz="30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153" name="Line 34"/>
            <p:cNvSpPr/>
            <p:nvPr/>
          </p:nvSpPr>
          <p:spPr>
            <a:xfrm flipH="1">
              <a:off x="3546360" y="3276720"/>
              <a:ext cx="36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154" name="Line 35"/>
            <p:cNvSpPr/>
            <p:nvPr/>
          </p:nvSpPr>
          <p:spPr>
            <a:xfrm flipH="1">
              <a:off x="3546360" y="3784680"/>
              <a:ext cx="36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</p:grp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5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156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157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158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159" name="Text Box 5"/>
          <p:cNvSpPr/>
          <p:nvPr/>
        </p:nvSpPr>
        <p:spPr>
          <a:xfrm>
            <a:off x="514440" y="-6480"/>
            <a:ext cx="7654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Similar Triangle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60" name="Line 6"/>
          <p:cNvSpPr/>
          <p:nvPr/>
        </p:nvSpPr>
        <p:spPr>
          <a:xfrm>
            <a:off x="577800" y="97164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61" name="Text Box 7"/>
          <p:cNvSpPr/>
          <p:nvPr/>
        </p:nvSpPr>
        <p:spPr>
          <a:xfrm>
            <a:off x="727200" y="1257480"/>
            <a:ext cx="328932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∆</a:t>
            </a: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ABC       ∆  </a:t>
            </a:r>
            <a:r>
              <a:rPr b="1" lang="en-US" sz="3200" spc="-1" strike="noStrike">
                <a:solidFill>
                  <a:srgbClr val="000000"/>
                </a:solidFill>
                <a:latin typeface="Bodoni SvtyTwo ITC TT-Book"/>
              </a:rPr>
              <a:t>_   _   _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62" name="Text Box 8"/>
          <p:cNvSpPr/>
          <p:nvPr/>
        </p:nvSpPr>
        <p:spPr>
          <a:xfrm>
            <a:off x="1865520" y="1333440"/>
            <a:ext cx="41508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000000"/>
                </a:solidFill>
                <a:latin typeface="Bodoni SvtyTwo ITC TT-Book"/>
              </a:rPr>
              <a:t>~</a:t>
            </a:r>
            <a:endParaRPr b="0" lang="en-US" sz="57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1163" name="Picture 9" descr=""/>
          <p:cNvPicPr/>
          <p:nvPr/>
        </p:nvPicPr>
        <p:blipFill>
          <a:blip r:embed="rId1"/>
          <a:stretch/>
        </p:blipFill>
        <p:spPr>
          <a:xfrm>
            <a:off x="4816440" y="1962000"/>
            <a:ext cx="3301920" cy="3391200"/>
          </a:xfrm>
          <a:prstGeom prst="rect">
            <a:avLst/>
          </a:prstGeom>
          <a:ln w="0">
            <a:noFill/>
          </a:ln>
        </p:spPr>
      </p:pic>
      <p:sp>
        <p:nvSpPr>
          <p:cNvPr id="1164" name="Text Box 10"/>
          <p:cNvSpPr/>
          <p:nvPr/>
        </p:nvSpPr>
        <p:spPr>
          <a:xfrm>
            <a:off x="752400" y="1866960"/>
            <a:ext cx="584208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If AB = 8, AC = 5, BC = 7, CD = 18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then find DE.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grpSp>
        <p:nvGrpSpPr>
          <p:cNvPr id="1165" name="Group 11"/>
          <p:cNvGrpSpPr/>
          <p:nvPr/>
        </p:nvGrpSpPr>
        <p:grpSpPr>
          <a:xfrm>
            <a:off x="5367600" y="3882240"/>
            <a:ext cx="2250000" cy="685080"/>
            <a:chOff x="5367600" y="3882240"/>
            <a:chExt cx="2250000" cy="685080"/>
          </a:xfrm>
        </p:grpSpPr>
        <p:sp>
          <p:nvSpPr>
            <p:cNvPr id="1166" name="Freeform 12"/>
            <p:cNvSpPr/>
            <p:nvPr/>
          </p:nvSpPr>
          <p:spPr>
            <a:xfrm rot="16680000">
              <a:off x="5398560" y="3897000"/>
              <a:ext cx="228600" cy="2538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0"/>
                  </a:moveTo>
                  <a:lnTo>
                    <a:pt x="10000" y="10000"/>
                  </a:lnTo>
                  <a:lnTo>
                    <a:pt x="10000" y="10000"/>
                  </a:lnTo>
                  <a:cubicBezTo>
                    <a:pt x="4477" y="10000"/>
                    <a:pt x="0" y="5522"/>
                    <a:pt x="0" y="0"/>
                  </a:cubicBezTo>
                  <a:lnTo>
                    <a:pt x="10000" y="0"/>
                  </a:lnTo>
                  <a:close/>
                  <a:moveTo>
                    <a:pt x="10000" y="0"/>
                  </a:moveTo>
                </a:path>
              </a:pathLst>
            </a:custGeom>
            <a:noFill/>
            <a:ln w="38160">
              <a:solidFill>
                <a:srgbClr val="e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167" name="Freeform 13"/>
            <p:cNvSpPr/>
            <p:nvPr/>
          </p:nvSpPr>
          <p:spPr>
            <a:xfrm rot="5700000">
              <a:off x="7366680" y="4290840"/>
              <a:ext cx="228600" cy="2538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0"/>
                  </a:moveTo>
                  <a:lnTo>
                    <a:pt x="10000" y="10000"/>
                  </a:lnTo>
                  <a:lnTo>
                    <a:pt x="10000" y="10000"/>
                  </a:lnTo>
                  <a:cubicBezTo>
                    <a:pt x="4477" y="10000"/>
                    <a:pt x="0" y="5522"/>
                    <a:pt x="0" y="0"/>
                  </a:cubicBezTo>
                  <a:lnTo>
                    <a:pt x="10000" y="0"/>
                  </a:lnTo>
                  <a:close/>
                  <a:moveTo>
                    <a:pt x="10000" y="0"/>
                  </a:moveTo>
                </a:path>
              </a:pathLst>
            </a:custGeom>
            <a:noFill/>
            <a:ln w="38160">
              <a:solidFill>
                <a:srgbClr val="e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168" name="Freeform 14"/>
            <p:cNvSpPr/>
            <p:nvPr/>
          </p:nvSpPr>
          <p:spPr>
            <a:xfrm rot="16680000">
              <a:off x="5386320" y="3886200"/>
              <a:ext cx="169920" cy="185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0"/>
                  </a:moveTo>
                  <a:lnTo>
                    <a:pt x="10000" y="10000"/>
                  </a:lnTo>
                  <a:lnTo>
                    <a:pt x="10000" y="10000"/>
                  </a:lnTo>
                  <a:cubicBezTo>
                    <a:pt x="4477" y="10000"/>
                    <a:pt x="0" y="5522"/>
                    <a:pt x="0" y="0"/>
                  </a:cubicBezTo>
                  <a:lnTo>
                    <a:pt x="10000" y="0"/>
                  </a:lnTo>
                  <a:close/>
                  <a:moveTo>
                    <a:pt x="10000" y="0"/>
                  </a:moveTo>
                </a:path>
              </a:pathLst>
            </a:custGeom>
            <a:noFill/>
            <a:ln w="38160">
              <a:solidFill>
                <a:srgbClr val="e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169" name="Freeform 15"/>
            <p:cNvSpPr/>
            <p:nvPr/>
          </p:nvSpPr>
          <p:spPr>
            <a:xfrm rot="5700000">
              <a:off x="7445520" y="4401000"/>
              <a:ext cx="162000" cy="1573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0"/>
                  </a:moveTo>
                  <a:lnTo>
                    <a:pt x="10000" y="10000"/>
                  </a:lnTo>
                  <a:lnTo>
                    <a:pt x="10000" y="10000"/>
                  </a:lnTo>
                  <a:cubicBezTo>
                    <a:pt x="4477" y="10000"/>
                    <a:pt x="0" y="5522"/>
                    <a:pt x="0" y="0"/>
                  </a:cubicBezTo>
                  <a:lnTo>
                    <a:pt x="10000" y="0"/>
                  </a:lnTo>
                  <a:close/>
                  <a:moveTo>
                    <a:pt x="10000" y="0"/>
                  </a:moveTo>
                </a:path>
              </a:pathLst>
            </a:custGeom>
            <a:noFill/>
            <a:ln w="38160">
              <a:solidFill>
                <a:srgbClr val="e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170" name="Freeform 16"/>
            <p:cNvSpPr/>
            <p:nvPr/>
          </p:nvSpPr>
          <p:spPr>
            <a:xfrm rot="12240000">
              <a:off x="6237000" y="3949560"/>
              <a:ext cx="169920" cy="185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0"/>
                  </a:moveTo>
                  <a:lnTo>
                    <a:pt x="10000" y="10000"/>
                  </a:lnTo>
                  <a:lnTo>
                    <a:pt x="10000" y="10000"/>
                  </a:lnTo>
                  <a:cubicBezTo>
                    <a:pt x="4477" y="10000"/>
                    <a:pt x="0" y="5522"/>
                    <a:pt x="0" y="0"/>
                  </a:cubicBezTo>
                  <a:lnTo>
                    <a:pt x="10000" y="0"/>
                  </a:lnTo>
                  <a:close/>
                  <a:moveTo>
                    <a:pt x="10000" y="0"/>
                  </a:moveTo>
                </a:path>
              </a:pathLst>
            </a:custGeom>
            <a:noFill/>
            <a:ln w="38160">
              <a:solidFill>
                <a:srgbClr val="e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171" name="Freeform 17"/>
            <p:cNvSpPr/>
            <p:nvPr/>
          </p:nvSpPr>
          <p:spPr>
            <a:xfrm rot="1980000">
              <a:off x="5779800" y="4038120"/>
              <a:ext cx="169920" cy="185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0"/>
                  </a:moveTo>
                  <a:lnTo>
                    <a:pt x="10000" y="10000"/>
                  </a:lnTo>
                  <a:lnTo>
                    <a:pt x="10000" y="10000"/>
                  </a:lnTo>
                  <a:cubicBezTo>
                    <a:pt x="4477" y="10000"/>
                    <a:pt x="0" y="5522"/>
                    <a:pt x="0" y="0"/>
                  </a:cubicBezTo>
                  <a:lnTo>
                    <a:pt x="10000" y="0"/>
                  </a:lnTo>
                  <a:close/>
                  <a:moveTo>
                    <a:pt x="10000" y="0"/>
                  </a:moveTo>
                </a:path>
              </a:pathLst>
            </a:custGeom>
            <a:noFill/>
            <a:ln w="38160">
              <a:solidFill>
                <a:srgbClr val="e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</p:grpSp>
      <p:sp>
        <p:nvSpPr>
          <p:cNvPr id="1172" name="Text Box 18"/>
          <p:cNvSpPr/>
          <p:nvPr/>
        </p:nvSpPr>
        <p:spPr>
          <a:xfrm>
            <a:off x="2631960" y="1251000"/>
            <a:ext cx="1435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0000"/>
                </a:solidFill>
                <a:latin typeface="Bodoni SvtyTwo ITC TT-Book"/>
              </a:rPr>
              <a:t>E D C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73" name="Text Box 19"/>
          <p:cNvSpPr/>
          <p:nvPr/>
        </p:nvSpPr>
        <p:spPr>
          <a:xfrm>
            <a:off x="4765680" y="4121280"/>
            <a:ext cx="4698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ee"/>
                </a:solidFill>
                <a:latin typeface="Bodoni SvtyTwo ITC TT-Book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74" name="Text Box 20"/>
          <p:cNvSpPr/>
          <p:nvPr/>
        </p:nvSpPr>
        <p:spPr>
          <a:xfrm>
            <a:off x="5438880" y="3397320"/>
            <a:ext cx="4698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ee"/>
                </a:solidFill>
                <a:latin typeface="Bodoni SvtyTwo ITC TT-Book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75" name="Text Box 21"/>
          <p:cNvSpPr/>
          <p:nvPr/>
        </p:nvSpPr>
        <p:spPr>
          <a:xfrm>
            <a:off x="5629320" y="4400640"/>
            <a:ext cx="4698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ee"/>
                </a:solidFill>
                <a:latin typeface="Bodoni SvtyTwo ITC TT-Book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76" name="Text Box 22"/>
          <p:cNvSpPr/>
          <p:nvPr/>
        </p:nvSpPr>
        <p:spPr>
          <a:xfrm>
            <a:off x="6353280" y="2736720"/>
            <a:ext cx="647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ee"/>
                </a:solidFill>
                <a:latin typeface="Bodoni SvtyTwo ITC TT-Book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77" name="Text Box 23"/>
          <p:cNvSpPr/>
          <p:nvPr/>
        </p:nvSpPr>
        <p:spPr>
          <a:xfrm>
            <a:off x="7737480" y="3257640"/>
            <a:ext cx="647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ee"/>
                </a:solidFill>
                <a:latin typeface="Bodoni SvtyTwo ITC TT-Book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78" name="Line 24"/>
          <p:cNvSpPr/>
          <p:nvPr/>
        </p:nvSpPr>
        <p:spPr>
          <a:xfrm>
            <a:off x="993600" y="3467160"/>
            <a:ext cx="55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79" name="Text Box 25"/>
          <p:cNvSpPr/>
          <p:nvPr/>
        </p:nvSpPr>
        <p:spPr>
          <a:xfrm>
            <a:off x="1654200" y="3105000"/>
            <a:ext cx="49536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Bodoni SvtyTwo ITC TT-Book"/>
              </a:rPr>
              <a:t>=</a:t>
            </a:r>
            <a:endParaRPr b="0" lang="en-US" sz="47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80" name="Line 26"/>
          <p:cNvSpPr/>
          <p:nvPr/>
        </p:nvSpPr>
        <p:spPr>
          <a:xfrm>
            <a:off x="2225520" y="3467160"/>
            <a:ext cx="55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81" name="Text Box 27"/>
          <p:cNvSpPr/>
          <p:nvPr/>
        </p:nvSpPr>
        <p:spPr>
          <a:xfrm>
            <a:off x="1082520" y="2952720"/>
            <a:ext cx="711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ee"/>
                </a:solidFill>
                <a:latin typeface="Bodoni SvtyTwo ITC TT-Book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82" name="Text Box 28"/>
          <p:cNvSpPr/>
          <p:nvPr/>
        </p:nvSpPr>
        <p:spPr>
          <a:xfrm>
            <a:off x="1108080" y="3549600"/>
            <a:ext cx="711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ee"/>
                </a:solidFill>
                <a:latin typeface="Bodoni SvtyTwo ITC TT-Book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83" name="Text Box 29"/>
          <p:cNvSpPr/>
          <p:nvPr/>
        </p:nvSpPr>
        <p:spPr>
          <a:xfrm>
            <a:off x="2301840" y="2965320"/>
            <a:ext cx="711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ee"/>
                </a:solidFill>
                <a:latin typeface="Bodoni SvtyTwo ITC TT-Book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84" name="Text Box 30"/>
          <p:cNvSpPr/>
          <p:nvPr/>
        </p:nvSpPr>
        <p:spPr>
          <a:xfrm>
            <a:off x="2098800" y="3537000"/>
            <a:ext cx="812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ee"/>
                </a:solidFill>
                <a:latin typeface="Bodoni SvtyTwo ITC TT-Book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05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06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07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08" name="Text Box 5"/>
          <p:cNvSpPr/>
          <p:nvPr/>
        </p:nvSpPr>
        <p:spPr>
          <a:xfrm>
            <a:off x="1295280" y="165240"/>
            <a:ext cx="6413760" cy="22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Bodoni SvtyTwo ITC TT-Book"/>
              </a:rPr>
              <a:t>Conditional Statements</a:t>
            </a:r>
            <a:endParaRPr b="0" lang="en-US" sz="5000" spc="-1" strike="noStrike">
              <a:solidFill>
                <a:srgbClr val="000000"/>
              </a:solidFill>
              <a:latin typeface="Bodoni SvtyTwo ITC TT-Book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Bodoni SvtyTwo ITC TT-Book"/>
              </a:rPr>
              <a:t>  “ </a:t>
            </a:r>
            <a:r>
              <a:rPr b="0" lang="en-US" sz="5000" spc="-1" strike="noStrike">
                <a:solidFill>
                  <a:srgbClr val="000000"/>
                </a:solidFill>
                <a:latin typeface="Bodoni SvtyTwo ITC TT-Book"/>
              </a:rPr>
              <a:t>If    </a:t>
            </a:r>
            <a:r>
              <a:rPr b="0" lang="en-US" sz="5000" spc="-1" strike="noStrike">
                <a:solidFill>
                  <a:srgbClr val="000000"/>
                </a:solidFill>
                <a:latin typeface="Bradley Hand ITC TT-Bold"/>
              </a:rPr>
              <a:t>p</a:t>
            </a:r>
            <a:r>
              <a:rPr b="0" lang="en-US" sz="5000" spc="-1" strike="noStrike">
                <a:solidFill>
                  <a:srgbClr val="000000"/>
                </a:solidFill>
                <a:latin typeface="Bodoni SvtyTwo ITC TT-Book"/>
              </a:rPr>
              <a:t>    then   </a:t>
            </a:r>
            <a:r>
              <a:rPr b="0" lang="en-US" sz="5000" spc="-1" strike="noStrike">
                <a:solidFill>
                  <a:srgbClr val="000000"/>
                </a:solidFill>
                <a:latin typeface="Bradley Hand ITC TT-Bold"/>
              </a:rPr>
              <a:t>q</a:t>
            </a:r>
            <a:r>
              <a:rPr b="0" lang="en-US" sz="5000" spc="-1" strike="noStrike">
                <a:solidFill>
                  <a:srgbClr val="000000"/>
                </a:solidFill>
                <a:latin typeface="Bodoni SvtyTwo ITC TT-Book"/>
              </a:rPr>
              <a:t>. ”</a:t>
            </a:r>
            <a:endParaRPr b="0" lang="en-US" sz="5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35040" y="2019240"/>
            <a:ext cx="223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C</a:t>
            </a: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onverse: 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674640" y="2798640"/>
            <a:ext cx="22208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I</a:t>
            </a: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nverse: 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714680" y="4457880"/>
            <a:ext cx="1942920" cy="15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Bodoni SvtyTwo ITC TT-Book"/>
              </a:rPr>
              <a:t>The </a:t>
            </a:r>
            <a:endParaRPr b="0" lang="en-US" sz="3300" spc="-1" strike="noStrike">
              <a:solidFill>
                <a:srgbClr val="000000"/>
              </a:solidFill>
              <a:latin typeface="Bodoni SvtyTwo ITC TT-Book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Bodoni SvtyTwo ITC TT-Book"/>
              </a:rPr>
              <a:t>Law of Syllogism </a:t>
            </a:r>
            <a:endParaRPr b="0" lang="en-US" sz="3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615960" y="3583080"/>
            <a:ext cx="296532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C</a:t>
            </a: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ontrapositive: 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2819520" y="2082960"/>
            <a:ext cx="506736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Bodoni SvtyTwo ITC TT-Book"/>
              </a:rPr>
              <a:t>“ </a:t>
            </a:r>
            <a:r>
              <a:rPr b="0" lang="en-US" sz="4500" spc="-1" strike="noStrike">
                <a:solidFill>
                  <a:srgbClr val="000000"/>
                </a:solidFill>
                <a:latin typeface="Bodoni SvtyTwo ITC TT-Book"/>
              </a:rPr>
              <a:t>If    </a:t>
            </a:r>
            <a:r>
              <a:rPr b="0" lang="en-US" sz="4500" spc="-1" strike="noStrike">
                <a:solidFill>
                  <a:srgbClr val="000000"/>
                </a:solidFill>
                <a:latin typeface="Bradley Hand ITC TT-Bold"/>
              </a:rPr>
              <a:t>q</a:t>
            </a:r>
            <a:r>
              <a:rPr b="0" lang="en-US" sz="4500" spc="-1" strike="noStrike">
                <a:solidFill>
                  <a:srgbClr val="000000"/>
                </a:solidFill>
                <a:latin typeface="Bodoni SvtyTwo ITC TT-Book"/>
              </a:rPr>
              <a:t>    then   </a:t>
            </a:r>
            <a:r>
              <a:rPr b="0" lang="en-US" sz="4500" spc="-1" strike="noStrike">
                <a:solidFill>
                  <a:srgbClr val="000000"/>
                </a:solidFill>
                <a:latin typeface="Bradley Hand ITC TT-Bold"/>
              </a:rPr>
              <a:t>p</a:t>
            </a:r>
            <a:r>
              <a:rPr b="0" lang="en-US" sz="4500" spc="-1" strike="noStrike">
                <a:solidFill>
                  <a:srgbClr val="000000"/>
                </a:solidFill>
                <a:latin typeface="Bodoni SvtyTwo ITC TT-Book"/>
              </a:rPr>
              <a:t>. ”</a:t>
            </a:r>
            <a:endParaRPr b="0" lang="en-US" sz="45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3073320" y="2844720"/>
            <a:ext cx="506736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Bodoni SvtyTwo ITC TT-Book"/>
              </a:rPr>
              <a:t>“ </a:t>
            </a:r>
            <a:r>
              <a:rPr b="0" lang="en-US" sz="4500" spc="-1" strike="noStrike">
                <a:solidFill>
                  <a:srgbClr val="000000"/>
                </a:solidFill>
                <a:latin typeface="Bodoni SvtyTwo ITC TT-Book"/>
              </a:rPr>
              <a:t>If    - </a:t>
            </a:r>
            <a:r>
              <a:rPr b="0" lang="en-US" sz="4500" spc="-1" strike="noStrike">
                <a:solidFill>
                  <a:srgbClr val="000000"/>
                </a:solidFill>
                <a:latin typeface="Bradley Hand ITC TT-Bold"/>
              </a:rPr>
              <a:t>p</a:t>
            </a:r>
            <a:r>
              <a:rPr b="0" lang="en-US" sz="4500" spc="-1" strike="noStrike">
                <a:solidFill>
                  <a:srgbClr val="000000"/>
                </a:solidFill>
                <a:latin typeface="Bodoni SvtyTwo ITC TT-Book"/>
              </a:rPr>
              <a:t>    then   - </a:t>
            </a:r>
            <a:r>
              <a:rPr b="0" lang="en-US" sz="4500" spc="-1" strike="noStrike">
                <a:solidFill>
                  <a:srgbClr val="000000"/>
                </a:solidFill>
                <a:latin typeface="Bradley Hand ITC TT-Bold"/>
              </a:rPr>
              <a:t>q</a:t>
            </a:r>
            <a:r>
              <a:rPr b="0" lang="en-US" sz="4500" spc="-1" strike="noStrike">
                <a:solidFill>
                  <a:srgbClr val="000000"/>
                </a:solidFill>
                <a:latin typeface="Bodoni SvtyTwo ITC TT-Book"/>
              </a:rPr>
              <a:t>. ”</a:t>
            </a:r>
            <a:endParaRPr b="0" lang="en-US" sz="45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3073320" y="3619440"/>
            <a:ext cx="506736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Bodoni SvtyTwo ITC TT-Book"/>
              </a:rPr>
              <a:t>“ </a:t>
            </a:r>
            <a:r>
              <a:rPr b="0" lang="en-US" sz="4500" spc="-1" strike="noStrike">
                <a:solidFill>
                  <a:srgbClr val="000000"/>
                </a:solidFill>
                <a:latin typeface="Bodoni SvtyTwo ITC TT-Book"/>
              </a:rPr>
              <a:t>If    - </a:t>
            </a:r>
            <a:r>
              <a:rPr b="0" lang="en-US" sz="4500" spc="-1" strike="noStrike">
                <a:solidFill>
                  <a:srgbClr val="000000"/>
                </a:solidFill>
                <a:latin typeface="Bradley Hand ITC TT-Bold"/>
              </a:rPr>
              <a:t>q</a:t>
            </a:r>
            <a:r>
              <a:rPr b="0" lang="en-US" sz="4500" spc="-1" strike="noStrike">
                <a:solidFill>
                  <a:srgbClr val="000000"/>
                </a:solidFill>
                <a:latin typeface="Bodoni SvtyTwo ITC TT-Book"/>
              </a:rPr>
              <a:t>    then   - </a:t>
            </a:r>
            <a:r>
              <a:rPr b="0" lang="en-US" sz="4500" spc="-1" strike="noStrike">
                <a:solidFill>
                  <a:srgbClr val="000000"/>
                </a:solidFill>
                <a:latin typeface="Bradley Hand ITC TT-Bold"/>
              </a:rPr>
              <a:t>p</a:t>
            </a:r>
            <a:r>
              <a:rPr b="0" lang="en-US" sz="4500" spc="-1" strike="noStrike">
                <a:solidFill>
                  <a:srgbClr val="000000"/>
                </a:solidFill>
                <a:latin typeface="Bodoni SvtyTwo ITC TT-Book"/>
              </a:rPr>
              <a:t>. ”</a:t>
            </a:r>
            <a:endParaRPr b="0" lang="en-US" sz="45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6" name="Text Box 13"/>
          <p:cNvSpPr/>
          <p:nvPr/>
        </p:nvSpPr>
        <p:spPr>
          <a:xfrm>
            <a:off x="4127400" y="4648320"/>
            <a:ext cx="7239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odoni SvtyTwo ITC TT-Book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5423040" y="4495680"/>
            <a:ext cx="1942920" cy="15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Bodoni SvtyTwo ITC TT-Book"/>
              </a:rPr>
              <a:t>The </a:t>
            </a:r>
            <a:endParaRPr b="0" lang="en-US" sz="3300" spc="-1" strike="noStrike">
              <a:solidFill>
                <a:srgbClr val="000000"/>
              </a:solidFill>
              <a:latin typeface="Bodoni SvtyTwo ITC TT-Book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Bodoni SvtyTwo ITC TT-Book"/>
              </a:rPr>
              <a:t>Transitive</a:t>
            </a:r>
            <a:endParaRPr b="0" lang="en-US" sz="3300" spc="-1" strike="noStrike">
              <a:solidFill>
                <a:srgbClr val="000000"/>
              </a:solidFill>
              <a:latin typeface="Bodoni SvtyTwo ITC TT-Book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Bodoni SvtyTwo ITC TT-Book"/>
              </a:rPr>
              <a:t>Property </a:t>
            </a:r>
            <a:endParaRPr b="0" lang="en-US" sz="3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8" name="Line 15"/>
          <p:cNvSpPr/>
          <p:nvPr/>
        </p:nvSpPr>
        <p:spPr>
          <a:xfrm>
            <a:off x="546120" y="439416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9" name="Line 16"/>
          <p:cNvSpPr/>
          <p:nvPr/>
        </p:nvSpPr>
        <p:spPr>
          <a:xfrm>
            <a:off x="571680" y="1841400"/>
            <a:ext cx="758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transition spd="med">
    <p:wipe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5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186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187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188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189" name="Text Box 5"/>
          <p:cNvSpPr/>
          <p:nvPr/>
        </p:nvSpPr>
        <p:spPr>
          <a:xfrm>
            <a:off x="517680" y="-6480"/>
            <a:ext cx="7654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Similar Triangle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90" name="Line 6"/>
          <p:cNvSpPr/>
          <p:nvPr/>
        </p:nvSpPr>
        <p:spPr>
          <a:xfrm>
            <a:off x="581040" y="97164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91" name="Text Box 7"/>
          <p:cNvSpPr/>
          <p:nvPr/>
        </p:nvSpPr>
        <p:spPr>
          <a:xfrm>
            <a:off x="730080" y="1257480"/>
            <a:ext cx="328932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∆</a:t>
            </a: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ABC       ∆  </a:t>
            </a:r>
            <a:r>
              <a:rPr b="1" lang="en-US" sz="3200" spc="-1" strike="noStrike">
                <a:solidFill>
                  <a:srgbClr val="000000"/>
                </a:solidFill>
                <a:latin typeface="Bodoni SvtyTwo ITC TT-Book"/>
              </a:rPr>
              <a:t>_   _   _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192" name="Text Box 8"/>
          <p:cNvSpPr/>
          <p:nvPr/>
        </p:nvSpPr>
        <p:spPr>
          <a:xfrm>
            <a:off x="1868760" y="1333440"/>
            <a:ext cx="41508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000000"/>
                </a:solidFill>
                <a:latin typeface="Bodoni SvtyTwo ITC TT-Book"/>
              </a:rPr>
              <a:t>~</a:t>
            </a:r>
            <a:endParaRPr b="0" lang="en-US" sz="57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1193" name="Picture 9" descr=""/>
          <p:cNvPicPr/>
          <p:nvPr/>
        </p:nvPicPr>
        <p:blipFill>
          <a:blip r:embed="rId1"/>
          <a:stretch/>
        </p:blipFill>
        <p:spPr>
          <a:xfrm>
            <a:off x="4819680" y="1962000"/>
            <a:ext cx="3301920" cy="3391200"/>
          </a:xfrm>
          <a:prstGeom prst="rect">
            <a:avLst/>
          </a:prstGeom>
          <a:ln w="0">
            <a:noFill/>
          </a:ln>
        </p:spPr>
      </p:pic>
      <p:sp>
        <p:nvSpPr>
          <p:cNvPr id="1194" name="Text Box 10"/>
          <p:cNvSpPr/>
          <p:nvPr/>
        </p:nvSpPr>
        <p:spPr>
          <a:xfrm>
            <a:off x="755640" y="1866960"/>
            <a:ext cx="584208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If AB = 8, AC = 5, BC = 7, CD = 18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then find DE.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grpSp>
        <p:nvGrpSpPr>
          <p:cNvPr id="1195" name="Group 11"/>
          <p:cNvGrpSpPr/>
          <p:nvPr/>
        </p:nvGrpSpPr>
        <p:grpSpPr>
          <a:xfrm>
            <a:off x="5370840" y="3882240"/>
            <a:ext cx="2250000" cy="685080"/>
            <a:chOff x="5370840" y="3882240"/>
            <a:chExt cx="2250000" cy="685080"/>
          </a:xfrm>
        </p:grpSpPr>
        <p:sp>
          <p:nvSpPr>
            <p:cNvPr id="1196" name="Freeform 12"/>
            <p:cNvSpPr/>
            <p:nvPr/>
          </p:nvSpPr>
          <p:spPr>
            <a:xfrm rot="16680000">
              <a:off x="5401800" y="3897000"/>
              <a:ext cx="228600" cy="2538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0"/>
                  </a:moveTo>
                  <a:lnTo>
                    <a:pt x="10000" y="10000"/>
                  </a:lnTo>
                  <a:lnTo>
                    <a:pt x="10000" y="10000"/>
                  </a:lnTo>
                  <a:cubicBezTo>
                    <a:pt x="4477" y="10000"/>
                    <a:pt x="0" y="5522"/>
                    <a:pt x="0" y="0"/>
                  </a:cubicBezTo>
                  <a:lnTo>
                    <a:pt x="10000" y="0"/>
                  </a:lnTo>
                  <a:close/>
                  <a:moveTo>
                    <a:pt x="10000" y="0"/>
                  </a:moveTo>
                </a:path>
              </a:pathLst>
            </a:custGeom>
            <a:noFill/>
            <a:ln w="38160">
              <a:solidFill>
                <a:srgbClr val="e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197" name="Freeform 13"/>
            <p:cNvSpPr/>
            <p:nvPr/>
          </p:nvSpPr>
          <p:spPr>
            <a:xfrm rot="5700000">
              <a:off x="7369920" y="4290840"/>
              <a:ext cx="228600" cy="2538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0"/>
                  </a:moveTo>
                  <a:lnTo>
                    <a:pt x="10000" y="10000"/>
                  </a:lnTo>
                  <a:lnTo>
                    <a:pt x="10000" y="10000"/>
                  </a:lnTo>
                  <a:cubicBezTo>
                    <a:pt x="4477" y="10000"/>
                    <a:pt x="0" y="5522"/>
                    <a:pt x="0" y="0"/>
                  </a:cubicBezTo>
                  <a:lnTo>
                    <a:pt x="10000" y="0"/>
                  </a:lnTo>
                  <a:close/>
                  <a:moveTo>
                    <a:pt x="10000" y="0"/>
                  </a:moveTo>
                </a:path>
              </a:pathLst>
            </a:custGeom>
            <a:noFill/>
            <a:ln w="38160">
              <a:solidFill>
                <a:srgbClr val="e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198" name="Freeform 14"/>
            <p:cNvSpPr/>
            <p:nvPr/>
          </p:nvSpPr>
          <p:spPr>
            <a:xfrm rot="16680000">
              <a:off x="5389560" y="3886200"/>
              <a:ext cx="169920" cy="185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0"/>
                  </a:moveTo>
                  <a:lnTo>
                    <a:pt x="10000" y="10000"/>
                  </a:lnTo>
                  <a:lnTo>
                    <a:pt x="10000" y="10000"/>
                  </a:lnTo>
                  <a:cubicBezTo>
                    <a:pt x="4477" y="10000"/>
                    <a:pt x="0" y="5522"/>
                    <a:pt x="0" y="0"/>
                  </a:cubicBezTo>
                  <a:lnTo>
                    <a:pt x="10000" y="0"/>
                  </a:lnTo>
                  <a:close/>
                  <a:moveTo>
                    <a:pt x="10000" y="0"/>
                  </a:moveTo>
                </a:path>
              </a:pathLst>
            </a:custGeom>
            <a:noFill/>
            <a:ln w="38160">
              <a:solidFill>
                <a:srgbClr val="e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199" name="Freeform 15"/>
            <p:cNvSpPr/>
            <p:nvPr/>
          </p:nvSpPr>
          <p:spPr>
            <a:xfrm rot="5700000">
              <a:off x="7449120" y="4401360"/>
              <a:ext cx="162000" cy="1569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0"/>
                  </a:moveTo>
                  <a:lnTo>
                    <a:pt x="10000" y="10000"/>
                  </a:lnTo>
                  <a:lnTo>
                    <a:pt x="10000" y="10000"/>
                  </a:lnTo>
                  <a:cubicBezTo>
                    <a:pt x="4477" y="10000"/>
                    <a:pt x="0" y="5522"/>
                    <a:pt x="0" y="0"/>
                  </a:cubicBezTo>
                  <a:lnTo>
                    <a:pt x="10000" y="0"/>
                  </a:lnTo>
                  <a:close/>
                  <a:moveTo>
                    <a:pt x="10000" y="0"/>
                  </a:moveTo>
                </a:path>
              </a:pathLst>
            </a:custGeom>
            <a:noFill/>
            <a:ln w="38160">
              <a:solidFill>
                <a:srgbClr val="e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200" name="Freeform 16"/>
            <p:cNvSpPr/>
            <p:nvPr/>
          </p:nvSpPr>
          <p:spPr>
            <a:xfrm rot="12240000">
              <a:off x="6240240" y="3949560"/>
              <a:ext cx="169920" cy="185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0"/>
                  </a:moveTo>
                  <a:lnTo>
                    <a:pt x="10000" y="10000"/>
                  </a:lnTo>
                  <a:lnTo>
                    <a:pt x="10000" y="10000"/>
                  </a:lnTo>
                  <a:cubicBezTo>
                    <a:pt x="4477" y="10000"/>
                    <a:pt x="0" y="5522"/>
                    <a:pt x="0" y="0"/>
                  </a:cubicBezTo>
                  <a:lnTo>
                    <a:pt x="10000" y="0"/>
                  </a:lnTo>
                  <a:close/>
                  <a:moveTo>
                    <a:pt x="10000" y="0"/>
                  </a:moveTo>
                </a:path>
              </a:pathLst>
            </a:custGeom>
            <a:noFill/>
            <a:ln w="38160">
              <a:solidFill>
                <a:srgbClr val="e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201" name="Freeform 17"/>
            <p:cNvSpPr/>
            <p:nvPr/>
          </p:nvSpPr>
          <p:spPr>
            <a:xfrm rot="1980000">
              <a:off x="5783040" y="4038120"/>
              <a:ext cx="169920" cy="185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0"/>
                  </a:moveTo>
                  <a:lnTo>
                    <a:pt x="10000" y="10000"/>
                  </a:lnTo>
                  <a:lnTo>
                    <a:pt x="10000" y="10000"/>
                  </a:lnTo>
                  <a:cubicBezTo>
                    <a:pt x="4477" y="10000"/>
                    <a:pt x="0" y="5522"/>
                    <a:pt x="0" y="0"/>
                  </a:cubicBezTo>
                  <a:lnTo>
                    <a:pt x="10000" y="0"/>
                  </a:lnTo>
                  <a:close/>
                  <a:moveTo>
                    <a:pt x="10000" y="0"/>
                  </a:moveTo>
                </a:path>
              </a:pathLst>
            </a:custGeom>
            <a:noFill/>
            <a:ln w="38160">
              <a:solidFill>
                <a:srgbClr val="e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</p:grpSp>
      <p:sp>
        <p:nvSpPr>
          <p:cNvPr id="1202" name="Text Box 18"/>
          <p:cNvSpPr/>
          <p:nvPr/>
        </p:nvSpPr>
        <p:spPr>
          <a:xfrm>
            <a:off x="2635200" y="1251000"/>
            <a:ext cx="1435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0000"/>
                </a:solidFill>
                <a:latin typeface="Bodoni SvtyTwo ITC TT-Book"/>
              </a:rPr>
              <a:t>E D C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03" name="Text Box 19"/>
          <p:cNvSpPr/>
          <p:nvPr/>
        </p:nvSpPr>
        <p:spPr>
          <a:xfrm>
            <a:off x="4768920" y="4121280"/>
            <a:ext cx="4698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ee"/>
                </a:solidFill>
                <a:latin typeface="Bodoni SvtyTwo ITC TT-Book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04" name="Text Box 20"/>
          <p:cNvSpPr/>
          <p:nvPr/>
        </p:nvSpPr>
        <p:spPr>
          <a:xfrm>
            <a:off x="5442120" y="3397320"/>
            <a:ext cx="4698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ee"/>
                </a:solidFill>
                <a:latin typeface="Bodoni SvtyTwo ITC TT-Book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05" name="Text Box 21"/>
          <p:cNvSpPr/>
          <p:nvPr/>
        </p:nvSpPr>
        <p:spPr>
          <a:xfrm>
            <a:off x="5632560" y="4400640"/>
            <a:ext cx="4698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ee"/>
                </a:solidFill>
                <a:latin typeface="Bodoni SvtyTwo ITC TT-Book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06" name="Text Box 22"/>
          <p:cNvSpPr/>
          <p:nvPr/>
        </p:nvSpPr>
        <p:spPr>
          <a:xfrm>
            <a:off x="6356520" y="2736720"/>
            <a:ext cx="647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ee"/>
                </a:solidFill>
                <a:latin typeface="Bodoni SvtyTwo ITC TT-Book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07" name="Text Box 23"/>
          <p:cNvSpPr/>
          <p:nvPr/>
        </p:nvSpPr>
        <p:spPr>
          <a:xfrm>
            <a:off x="7740720" y="3257640"/>
            <a:ext cx="647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ee"/>
                </a:solidFill>
                <a:latin typeface="Bodoni SvtyTwo ITC TT-Book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08" name="Line 24"/>
          <p:cNvSpPr/>
          <p:nvPr/>
        </p:nvSpPr>
        <p:spPr>
          <a:xfrm>
            <a:off x="996840" y="3467160"/>
            <a:ext cx="55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09" name="Text Box 25"/>
          <p:cNvSpPr/>
          <p:nvPr/>
        </p:nvSpPr>
        <p:spPr>
          <a:xfrm>
            <a:off x="1657440" y="3105000"/>
            <a:ext cx="49536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Bodoni SvtyTwo ITC TT-Book"/>
              </a:rPr>
              <a:t>=</a:t>
            </a:r>
            <a:endParaRPr b="0" lang="en-US" sz="47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10" name="Line 26"/>
          <p:cNvSpPr/>
          <p:nvPr/>
        </p:nvSpPr>
        <p:spPr>
          <a:xfrm>
            <a:off x="2228760" y="3467160"/>
            <a:ext cx="5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11" name="Text Box 27"/>
          <p:cNvSpPr/>
          <p:nvPr/>
        </p:nvSpPr>
        <p:spPr>
          <a:xfrm>
            <a:off x="1085760" y="2952720"/>
            <a:ext cx="711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ee"/>
                </a:solidFill>
                <a:latin typeface="Bodoni SvtyTwo ITC TT-Book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12" name="Text Box 28"/>
          <p:cNvSpPr/>
          <p:nvPr/>
        </p:nvSpPr>
        <p:spPr>
          <a:xfrm>
            <a:off x="1111320" y="3549600"/>
            <a:ext cx="711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ee"/>
                </a:solidFill>
                <a:latin typeface="Bodoni SvtyTwo ITC TT-Book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13" name="Text Box 29"/>
          <p:cNvSpPr/>
          <p:nvPr/>
        </p:nvSpPr>
        <p:spPr>
          <a:xfrm>
            <a:off x="2305080" y="2965320"/>
            <a:ext cx="711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ee"/>
                </a:solidFill>
                <a:latin typeface="Bodoni SvtyTwo ITC TT-Book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14" name="Text Box 30"/>
          <p:cNvSpPr/>
          <p:nvPr/>
        </p:nvSpPr>
        <p:spPr>
          <a:xfrm>
            <a:off x="2101680" y="3537000"/>
            <a:ext cx="812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ee"/>
                </a:solidFill>
                <a:latin typeface="Bodoni SvtyTwo ITC TT-Book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15" name="Line 31"/>
          <p:cNvSpPr/>
          <p:nvPr/>
        </p:nvSpPr>
        <p:spPr>
          <a:xfrm>
            <a:off x="1600200" y="3263760"/>
            <a:ext cx="495360" cy="393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16" name="Line 32"/>
          <p:cNvSpPr/>
          <p:nvPr/>
        </p:nvSpPr>
        <p:spPr>
          <a:xfrm flipV="1">
            <a:off x="1600200" y="3327480"/>
            <a:ext cx="520560" cy="342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17" name="Text Box 33"/>
          <p:cNvSpPr/>
          <p:nvPr/>
        </p:nvSpPr>
        <p:spPr>
          <a:xfrm>
            <a:off x="577080" y="4038480"/>
            <a:ext cx="25671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(8)(18) = (7)(x)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3098880" y="4127400"/>
            <a:ext cx="195588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ee0000"/>
                </a:solidFill>
                <a:latin typeface="Bodoni SvtyTwo ITC TT-Book"/>
              </a:rPr>
              <a:t>cross multiply</a:t>
            </a:r>
            <a:endParaRPr b="0" lang="en-US" sz="23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9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220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221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222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223" name="Text Box 5"/>
          <p:cNvSpPr/>
          <p:nvPr/>
        </p:nvSpPr>
        <p:spPr>
          <a:xfrm>
            <a:off x="520560" y="-6480"/>
            <a:ext cx="7655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Similar Triangle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24" name="Line 6"/>
          <p:cNvSpPr/>
          <p:nvPr/>
        </p:nvSpPr>
        <p:spPr>
          <a:xfrm>
            <a:off x="584280" y="97164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25" name="Text Box 7"/>
          <p:cNvSpPr/>
          <p:nvPr/>
        </p:nvSpPr>
        <p:spPr>
          <a:xfrm>
            <a:off x="733320" y="1257480"/>
            <a:ext cx="328932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∆</a:t>
            </a: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ABC       ∆  </a:t>
            </a:r>
            <a:r>
              <a:rPr b="1" lang="en-US" sz="3200" spc="-1" strike="noStrike">
                <a:solidFill>
                  <a:srgbClr val="000000"/>
                </a:solidFill>
                <a:latin typeface="Bodoni SvtyTwo ITC TT-Book"/>
              </a:rPr>
              <a:t>_   _   _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26" name="Text Box 8"/>
          <p:cNvSpPr/>
          <p:nvPr/>
        </p:nvSpPr>
        <p:spPr>
          <a:xfrm>
            <a:off x="1872000" y="1333440"/>
            <a:ext cx="41508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000000"/>
                </a:solidFill>
                <a:latin typeface="Bodoni SvtyTwo ITC TT-Book"/>
              </a:rPr>
              <a:t>~</a:t>
            </a:r>
            <a:endParaRPr b="0" lang="en-US" sz="57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1227" name="Picture 9" descr=""/>
          <p:cNvPicPr/>
          <p:nvPr/>
        </p:nvPicPr>
        <p:blipFill>
          <a:blip r:embed="rId1"/>
          <a:stretch/>
        </p:blipFill>
        <p:spPr>
          <a:xfrm>
            <a:off x="4822920" y="1962000"/>
            <a:ext cx="3301920" cy="3391200"/>
          </a:xfrm>
          <a:prstGeom prst="rect">
            <a:avLst/>
          </a:prstGeom>
          <a:ln w="0">
            <a:noFill/>
          </a:ln>
        </p:spPr>
      </p:pic>
      <p:sp>
        <p:nvSpPr>
          <p:cNvPr id="1228" name="Text Box 10"/>
          <p:cNvSpPr/>
          <p:nvPr/>
        </p:nvSpPr>
        <p:spPr>
          <a:xfrm>
            <a:off x="758880" y="1866960"/>
            <a:ext cx="584208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If AB = 8, AC = 5, BC = 7, CD = 18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then find DE.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grpSp>
        <p:nvGrpSpPr>
          <p:cNvPr id="1229" name="Group 11"/>
          <p:cNvGrpSpPr/>
          <p:nvPr/>
        </p:nvGrpSpPr>
        <p:grpSpPr>
          <a:xfrm>
            <a:off x="5374080" y="3882240"/>
            <a:ext cx="2249640" cy="685080"/>
            <a:chOff x="5374080" y="3882240"/>
            <a:chExt cx="2249640" cy="685080"/>
          </a:xfrm>
        </p:grpSpPr>
        <p:sp>
          <p:nvSpPr>
            <p:cNvPr id="1230" name="Freeform 12"/>
            <p:cNvSpPr/>
            <p:nvPr/>
          </p:nvSpPr>
          <p:spPr>
            <a:xfrm rot="16680000">
              <a:off x="5404680" y="3897000"/>
              <a:ext cx="228600" cy="2538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0"/>
                  </a:moveTo>
                  <a:lnTo>
                    <a:pt x="10000" y="10000"/>
                  </a:lnTo>
                  <a:lnTo>
                    <a:pt x="10000" y="10000"/>
                  </a:lnTo>
                  <a:cubicBezTo>
                    <a:pt x="4477" y="10000"/>
                    <a:pt x="0" y="5522"/>
                    <a:pt x="0" y="0"/>
                  </a:cubicBezTo>
                  <a:lnTo>
                    <a:pt x="10000" y="0"/>
                  </a:lnTo>
                  <a:close/>
                  <a:moveTo>
                    <a:pt x="10000" y="0"/>
                  </a:moveTo>
                </a:path>
              </a:pathLst>
            </a:custGeom>
            <a:noFill/>
            <a:ln w="38160">
              <a:solidFill>
                <a:srgbClr val="e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231" name="Freeform 13"/>
            <p:cNvSpPr/>
            <p:nvPr/>
          </p:nvSpPr>
          <p:spPr>
            <a:xfrm rot="5700000">
              <a:off x="7372800" y="4290840"/>
              <a:ext cx="228600" cy="2538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0"/>
                  </a:moveTo>
                  <a:lnTo>
                    <a:pt x="10000" y="10000"/>
                  </a:lnTo>
                  <a:lnTo>
                    <a:pt x="10000" y="10000"/>
                  </a:lnTo>
                  <a:cubicBezTo>
                    <a:pt x="4477" y="10000"/>
                    <a:pt x="0" y="5522"/>
                    <a:pt x="0" y="0"/>
                  </a:cubicBezTo>
                  <a:lnTo>
                    <a:pt x="10000" y="0"/>
                  </a:lnTo>
                  <a:close/>
                  <a:moveTo>
                    <a:pt x="10000" y="0"/>
                  </a:moveTo>
                </a:path>
              </a:pathLst>
            </a:custGeom>
            <a:noFill/>
            <a:ln w="38160">
              <a:solidFill>
                <a:srgbClr val="e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232" name="Freeform 14"/>
            <p:cNvSpPr/>
            <p:nvPr/>
          </p:nvSpPr>
          <p:spPr>
            <a:xfrm rot="16680000">
              <a:off x="5392440" y="3886200"/>
              <a:ext cx="169920" cy="1854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0"/>
                  </a:moveTo>
                  <a:lnTo>
                    <a:pt x="10000" y="10000"/>
                  </a:lnTo>
                  <a:lnTo>
                    <a:pt x="10000" y="10000"/>
                  </a:lnTo>
                  <a:cubicBezTo>
                    <a:pt x="4477" y="10000"/>
                    <a:pt x="0" y="5522"/>
                    <a:pt x="0" y="0"/>
                  </a:cubicBezTo>
                  <a:lnTo>
                    <a:pt x="10000" y="0"/>
                  </a:lnTo>
                  <a:close/>
                  <a:moveTo>
                    <a:pt x="10000" y="0"/>
                  </a:moveTo>
                </a:path>
              </a:pathLst>
            </a:custGeom>
            <a:noFill/>
            <a:ln w="38160">
              <a:solidFill>
                <a:srgbClr val="e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233" name="Freeform 15"/>
            <p:cNvSpPr/>
            <p:nvPr/>
          </p:nvSpPr>
          <p:spPr>
            <a:xfrm rot="5700000">
              <a:off x="7452000" y="4401360"/>
              <a:ext cx="162000" cy="1569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0"/>
                  </a:moveTo>
                  <a:lnTo>
                    <a:pt x="10000" y="10000"/>
                  </a:lnTo>
                  <a:lnTo>
                    <a:pt x="10000" y="10000"/>
                  </a:lnTo>
                  <a:cubicBezTo>
                    <a:pt x="4477" y="10000"/>
                    <a:pt x="0" y="5522"/>
                    <a:pt x="0" y="0"/>
                  </a:cubicBezTo>
                  <a:lnTo>
                    <a:pt x="10000" y="0"/>
                  </a:lnTo>
                  <a:close/>
                  <a:moveTo>
                    <a:pt x="10000" y="0"/>
                  </a:moveTo>
                </a:path>
              </a:pathLst>
            </a:custGeom>
            <a:noFill/>
            <a:ln w="38160">
              <a:solidFill>
                <a:srgbClr val="e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234" name="Freeform 16"/>
            <p:cNvSpPr/>
            <p:nvPr/>
          </p:nvSpPr>
          <p:spPr>
            <a:xfrm rot="12240000">
              <a:off x="6243120" y="3949200"/>
              <a:ext cx="169560" cy="185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0"/>
                  </a:moveTo>
                  <a:lnTo>
                    <a:pt x="10000" y="10000"/>
                  </a:lnTo>
                  <a:lnTo>
                    <a:pt x="10000" y="10000"/>
                  </a:lnTo>
                  <a:cubicBezTo>
                    <a:pt x="4477" y="10000"/>
                    <a:pt x="0" y="5522"/>
                    <a:pt x="0" y="0"/>
                  </a:cubicBezTo>
                  <a:lnTo>
                    <a:pt x="10000" y="0"/>
                  </a:lnTo>
                  <a:close/>
                  <a:moveTo>
                    <a:pt x="10000" y="0"/>
                  </a:moveTo>
                </a:path>
              </a:pathLst>
            </a:custGeom>
            <a:noFill/>
            <a:ln w="38160">
              <a:solidFill>
                <a:srgbClr val="e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235" name="Freeform 17"/>
            <p:cNvSpPr/>
            <p:nvPr/>
          </p:nvSpPr>
          <p:spPr>
            <a:xfrm rot="1980000">
              <a:off x="5785920" y="4038480"/>
              <a:ext cx="169560" cy="185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0"/>
                  </a:moveTo>
                  <a:lnTo>
                    <a:pt x="10000" y="10000"/>
                  </a:lnTo>
                  <a:lnTo>
                    <a:pt x="10000" y="10000"/>
                  </a:lnTo>
                  <a:cubicBezTo>
                    <a:pt x="4477" y="10000"/>
                    <a:pt x="0" y="5522"/>
                    <a:pt x="0" y="0"/>
                  </a:cubicBezTo>
                  <a:lnTo>
                    <a:pt x="10000" y="0"/>
                  </a:lnTo>
                  <a:close/>
                  <a:moveTo>
                    <a:pt x="10000" y="0"/>
                  </a:moveTo>
                </a:path>
              </a:pathLst>
            </a:custGeom>
            <a:noFill/>
            <a:ln w="38160">
              <a:solidFill>
                <a:srgbClr val="e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</p:grpSp>
      <p:sp>
        <p:nvSpPr>
          <p:cNvPr id="1236" name="Text Box 18"/>
          <p:cNvSpPr/>
          <p:nvPr/>
        </p:nvSpPr>
        <p:spPr>
          <a:xfrm>
            <a:off x="2638440" y="1251000"/>
            <a:ext cx="14349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0000"/>
                </a:solidFill>
                <a:latin typeface="Bodoni SvtyTwo ITC TT-Book"/>
              </a:rPr>
              <a:t>E D C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37" name="Text Box 19"/>
          <p:cNvSpPr/>
          <p:nvPr/>
        </p:nvSpPr>
        <p:spPr>
          <a:xfrm>
            <a:off x="4772160" y="4121280"/>
            <a:ext cx="4698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ee"/>
                </a:solidFill>
                <a:latin typeface="Bodoni SvtyTwo ITC TT-Book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38" name="Text Box 20"/>
          <p:cNvSpPr/>
          <p:nvPr/>
        </p:nvSpPr>
        <p:spPr>
          <a:xfrm>
            <a:off x="5445000" y="3397320"/>
            <a:ext cx="4701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ee"/>
                </a:solidFill>
                <a:latin typeface="Bodoni SvtyTwo ITC TT-Book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39" name="Text Box 21"/>
          <p:cNvSpPr/>
          <p:nvPr/>
        </p:nvSpPr>
        <p:spPr>
          <a:xfrm>
            <a:off x="5635800" y="4400640"/>
            <a:ext cx="4698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ee"/>
                </a:solidFill>
                <a:latin typeface="Bodoni SvtyTwo ITC TT-Book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40" name="Text Box 22"/>
          <p:cNvSpPr/>
          <p:nvPr/>
        </p:nvSpPr>
        <p:spPr>
          <a:xfrm>
            <a:off x="6359400" y="2736720"/>
            <a:ext cx="648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ee"/>
                </a:solidFill>
                <a:latin typeface="Bodoni SvtyTwo ITC TT-Book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41" name="Text Box 23"/>
          <p:cNvSpPr/>
          <p:nvPr/>
        </p:nvSpPr>
        <p:spPr>
          <a:xfrm>
            <a:off x="7743960" y="3257640"/>
            <a:ext cx="647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ee"/>
                </a:solidFill>
                <a:latin typeface="Bodoni SvtyTwo ITC TT-Book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42" name="Line 24"/>
          <p:cNvSpPr/>
          <p:nvPr/>
        </p:nvSpPr>
        <p:spPr>
          <a:xfrm>
            <a:off x="1000080" y="3467160"/>
            <a:ext cx="5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43" name="Text Box 25"/>
          <p:cNvSpPr/>
          <p:nvPr/>
        </p:nvSpPr>
        <p:spPr>
          <a:xfrm>
            <a:off x="1660680" y="3105000"/>
            <a:ext cx="49500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Bodoni SvtyTwo ITC TT-Book"/>
              </a:rPr>
              <a:t>=</a:t>
            </a:r>
            <a:endParaRPr b="0" lang="en-US" sz="47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44" name="Line 26"/>
          <p:cNvSpPr/>
          <p:nvPr/>
        </p:nvSpPr>
        <p:spPr>
          <a:xfrm>
            <a:off x="2232000" y="3467160"/>
            <a:ext cx="5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45" name="Text Box 27"/>
          <p:cNvSpPr/>
          <p:nvPr/>
        </p:nvSpPr>
        <p:spPr>
          <a:xfrm>
            <a:off x="1089000" y="2952720"/>
            <a:ext cx="711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ee"/>
                </a:solidFill>
                <a:latin typeface="Bodoni SvtyTwo ITC TT-Book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46" name="Text Box 28"/>
          <p:cNvSpPr/>
          <p:nvPr/>
        </p:nvSpPr>
        <p:spPr>
          <a:xfrm>
            <a:off x="1114560" y="3549600"/>
            <a:ext cx="711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ee"/>
                </a:solidFill>
                <a:latin typeface="Bodoni SvtyTwo ITC TT-Book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47" name="Text Box 29"/>
          <p:cNvSpPr/>
          <p:nvPr/>
        </p:nvSpPr>
        <p:spPr>
          <a:xfrm>
            <a:off x="2308320" y="2965320"/>
            <a:ext cx="711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ee"/>
                </a:solidFill>
                <a:latin typeface="Bodoni SvtyTwo ITC TT-Book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48" name="Text Box 30"/>
          <p:cNvSpPr/>
          <p:nvPr/>
        </p:nvSpPr>
        <p:spPr>
          <a:xfrm>
            <a:off x="2104920" y="3537000"/>
            <a:ext cx="812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ee"/>
                </a:solidFill>
                <a:latin typeface="Bodoni SvtyTwo ITC TT-Book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49" name="Line 31"/>
          <p:cNvSpPr/>
          <p:nvPr/>
        </p:nvSpPr>
        <p:spPr>
          <a:xfrm>
            <a:off x="1603440" y="3263760"/>
            <a:ext cx="495360" cy="393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50" name="Line 32"/>
          <p:cNvSpPr/>
          <p:nvPr/>
        </p:nvSpPr>
        <p:spPr>
          <a:xfrm flipV="1">
            <a:off x="1603440" y="3327480"/>
            <a:ext cx="520560" cy="342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51" name="Text Box 33"/>
          <p:cNvSpPr/>
          <p:nvPr/>
        </p:nvSpPr>
        <p:spPr>
          <a:xfrm>
            <a:off x="580320" y="4038480"/>
            <a:ext cx="25671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(8)(18) = (7)(x)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3102120" y="4127400"/>
            <a:ext cx="195552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ee0000"/>
                </a:solidFill>
                <a:latin typeface="Bodoni SvtyTwo ITC TT-Book"/>
              </a:rPr>
              <a:t>cross multiply</a:t>
            </a:r>
            <a:endParaRPr b="0" lang="en-US" sz="2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53" name="Text Box 35"/>
          <p:cNvSpPr/>
          <p:nvPr/>
        </p:nvSpPr>
        <p:spPr>
          <a:xfrm>
            <a:off x="797400" y="4622760"/>
            <a:ext cx="1701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20.57 = x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4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255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256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257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258" name="Text Box 5"/>
          <p:cNvSpPr/>
          <p:nvPr/>
        </p:nvSpPr>
        <p:spPr>
          <a:xfrm>
            <a:off x="511200" y="-6480"/>
            <a:ext cx="7655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Right Triangle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59" name="Line 6"/>
          <p:cNvSpPr/>
          <p:nvPr/>
        </p:nvSpPr>
        <p:spPr>
          <a:xfrm>
            <a:off x="574560" y="97164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grpSp>
        <p:nvGrpSpPr>
          <p:cNvPr id="1260" name="Group 7"/>
          <p:cNvGrpSpPr/>
          <p:nvPr/>
        </p:nvGrpSpPr>
        <p:grpSpPr>
          <a:xfrm>
            <a:off x="2730600" y="1981080"/>
            <a:ext cx="3327120" cy="1994040"/>
            <a:chOff x="2730600" y="1981080"/>
            <a:chExt cx="3327120" cy="1994040"/>
          </a:xfrm>
        </p:grpSpPr>
        <p:sp>
          <p:nvSpPr>
            <p:cNvPr id="1261" name="Freeform 8"/>
            <p:cNvSpPr/>
            <p:nvPr/>
          </p:nvSpPr>
          <p:spPr>
            <a:xfrm>
              <a:off x="2730600" y="1981080"/>
              <a:ext cx="3327120" cy="19940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0"/>
                  </a:moveTo>
                  <a:lnTo>
                    <a:pt x="0" y="10000"/>
                  </a:lnTo>
                  <a:lnTo>
                    <a:pt x="10000" y="1000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262" name="Freeform 9"/>
            <p:cNvSpPr/>
            <p:nvPr/>
          </p:nvSpPr>
          <p:spPr>
            <a:xfrm>
              <a:off x="2743200" y="3720960"/>
              <a:ext cx="279360" cy="2415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</p:grp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3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264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265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266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267" name="Text Box 5"/>
          <p:cNvSpPr/>
          <p:nvPr/>
        </p:nvSpPr>
        <p:spPr>
          <a:xfrm>
            <a:off x="511200" y="-6480"/>
            <a:ext cx="7655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Right Triangle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68" name="Line 6"/>
          <p:cNvSpPr/>
          <p:nvPr/>
        </p:nvSpPr>
        <p:spPr>
          <a:xfrm>
            <a:off x="574560" y="97164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grpSp>
        <p:nvGrpSpPr>
          <p:cNvPr id="1269" name="Group 7"/>
          <p:cNvGrpSpPr/>
          <p:nvPr/>
        </p:nvGrpSpPr>
        <p:grpSpPr>
          <a:xfrm>
            <a:off x="4305240" y="3479760"/>
            <a:ext cx="3327480" cy="1993680"/>
            <a:chOff x="4305240" y="3479760"/>
            <a:chExt cx="3327480" cy="1993680"/>
          </a:xfrm>
        </p:grpSpPr>
        <p:sp>
          <p:nvSpPr>
            <p:cNvPr id="1270" name="Freeform 8"/>
            <p:cNvSpPr/>
            <p:nvPr/>
          </p:nvSpPr>
          <p:spPr>
            <a:xfrm>
              <a:off x="4305240" y="3479760"/>
              <a:ext cx="3327480" cy="19936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0"/>
                  </a:moveTo>
                  <a:lnTo>
                    <a:pt x="0" y="10000"/>
                  </a:lnTo>
                  <a:lnTo>
                    <a:pt x="10000" y="1000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271" name="Freeform 9"/>
            <p:cNvSpPr/>
            <p:nvPr/>
          </p:nvSpPr>
          <p:spPr>
            <a:xfrm>
              <a:off x="4318200" y="5219640"/>
              <a:ext cx="279360" cy="2412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</p:grpSp>
      <p:sp>
        <p:nvSpPr>
          <p:cNvPr id="1272" name="Text Box 10"/>
          <p:cNvSpPr/>
          <p:nvPr/>
        </p:nvSpPr>
        <p:spPr>
          <a:xfrm>
            <a:off x="539280" y="1244520"/>
            <a:ext cx="60084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• </a:t>
            </a: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Pythagorean Thm.</a:t>
            </a:r>
            <a:endParaRPr b="0" lang="en-US" sz="48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73" name="Text Box 11"/>
          <p:cNvSpPr/>
          <p:nvPr/>
        </p:nvSpPr>
        <p:spPr>
          <a:xfrm>
            <a:off x="464760" y="2336760"/>
            <a:ext cx="73004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• </a:t>
            </a: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Special Right Triangles</a:t>
            </a:r>
            <a:endParaRPr b="0" lang="en-US" sz="48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74" name="Text Box 12"/>
          <p:cNvSpPr/>
          <p:nvPr/>
        </p:nvSpPr>
        <p:spPr>
          <a:xfrm>
            <a:off x="1029240" y="3352680"/>
            <a:ext cx="17640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• </a:t>
            </a: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Trig.</a:t>
            </a:r>
            <a:endParaRPr b="0" lang="en-US" sz="48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transition spd="med">
    <p:dissolv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5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276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277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278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279" name="Text Box 5"/>
          <p:cNvSpPr/>
          <p:nvPr/>
        </p:nvSpPr>
        <p:spPr>
          <a:xfrm>
            <a:off x="511200" y="6480"/>
            <a:ext cx="7655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Right Triangle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80" name="Line 6"/>
          <p:cNvSpPr/>
          <p:nvPr/>
        </p:nvSpPr>
        <p:spPr>
          <a:xfrm>
            <a:off x="574560" y="98424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grpSp>
        <p:nvGrpSpPr>
          <p:cNvPr id="1281" name="Group 7"/>
          <p:cNvGrpSpPr/>
          <p:nvPr/>
        </p:nvGrpSpPr>
        <p:grpSpPr>
          <a:xfrm>
            <a:off x="4622760" y="3111480"/>
            <a:ext cx="3327480" cy="1993680"/>
            <a:chOff x="4622760" y="3111480"/>
            <a:chExt cx="3327480" cy="1993680"/>
          </a:xfrm>
        </p:grpSpPr>
        <p:sp>
          <p:nvSpPr>
            <p:cNvPr id="1282" name="Freeform 8"/>
            <p:cNvSpPr/>
            <p:nvPr/>
          </p:nvSpPr>
          <p:spPr>
            <a:xfrm>
              <a:off x="4622760" y="3111480"/>
              <a:ext cx="3327480" cy="19936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0"/>
                  </a:moveTo>
                  <a:lnTo>
                    <a:pt x="0" y="10000"/>
                  </a:lnTo>
                  <a:lnTo>
                    <a:pt x="10000" y="1000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283" name="Freeform 9"/>
            <p:cNvSpPr/>
            <p:nvPr/>
          </p:nvSpPr>
          <p:spPr>
            <a:xfrm>
              <a:off x="4635360" y="4851360"/>
              <a:ext cx="279360" cy="2412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</p:grpSp>
      <p:sp>
        <p:nvSpPr>
          <p:cNvPr id="1284" name="Text Box 10"/>
          <p:cNvSpPr/>
          <p:nvPr/>
        </p:nvSpPr>
        <p:spPr>
          <a:xfrm>
            <a:off x="539280" y="1257480"/>
            <a:ext cx="60084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• </a:t>
            </a: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Pythagorean Thm.</a:t>
            </a:r>
            <a:endParaRPr b="0" lang="en-US" sz="48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85" name="Text Box 11"/>
          <p:cNvSpPr/>
          <p:nvPr/>
        </p:nvSpPr>
        <p:spPr>
          <a:xfrm>
            <a:off x="3959640" y="3708360"/>
            <a:ext cx="5522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e0000"/>
                </a:solidFill>
                <a:latin typeface="Bodoni SvtyTwo ITC TT-Book"/>
              </a:rPr>
              <a:t>a</a:t>
            </a:r>
            <a:endParaRPr b="0" lang="en-US" sz="7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86" name="Text Box 12"/>
          <p:cNvSpPr/>
          <p:nvPr/>
        </p:nvSpPr>
        <p:spPr>
          <a:xfrm>
            <a:off x="5704200" y="5041800"/>
            <a:ext cx="5799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e0000"/>
                </a:solidFill>
                <a:latin typeface="Bodoni SvtyTwo ITC TT-Book"/>
              </a:rPr>
              <a:t>b</a:t>
            </a:r>
            <a:endParaRPr b="0" lang="en-US" sz="7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87" name="Text Box 13"/>
          <p:cNvSpPr/>
          <p:nvPr/>
        </p:nvSpPr>
        <p:spPr>
          <a:xfrm>
            <a:off x="6089400" y="3098880"/>
            <a:ext cx="4701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ee"/>
                </a:solidFill>
                <a:latin typeface="Bodoni SvtyTwo ITC TT-Book"/>
              </a:rPr>
              <a:t>c</a:t>
            </a:r>
            <a:endParaRPr b="0" lang="en-US" sz="7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88" name="Text Box 14"/>
          <p:cNvSpPr/>
          <p:nvPr/>
        </p:nvSpPr>
        <p:spPr>
          <a:xfrm>
            <a:off x="825480" y="3009960"/>
            <a:ext cx="2870280" cy="21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i="1" lang="en-US" sz="4700" spc="-1" strike="noStrike">
                <a:solidFill>
                  <a:srgbClr val="000000"/>
                </a:solidFill>
                <a:latin typeface="Bodoni SvtyTwo ITC TT-Book"/>
              </a:rPr>
              <a:t>What is </a:t>
            </a:r>
            <a:endParaRPr b="0" lang="en-US" sz="4700" spc="-1" strike="noStrike">
              <a:solidFill>
                <a:srgbClr val="000000"/>
              </a:solidFill>
              <a:latin typeface="Bodoni SvtyTwo ITC TT-Book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i="1" lang="en-US" sz="4700" spc="-1" strike="noStrike">
                <a:solidFill>
                  <a:srgbClr val="000000"/>
                </a:solidFill>
                <a:latin typeface="Bodoni SvtyTwo ITC TT-Book"/>
              </a:rPr>
              <a:t>the </a:t>
            </a:r>
            <a:endParaRPr b="0" lang="en-US" sz="4700" spc="-1" strike="noStrike">
              <a:solidFill>
                <a:srgbClr val="000000"/>
              </a:solidFill>
              <a:latin typeface="Bodoni SvtyTwo ITC TT-Book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i="1" lang="en-US" sz="4700" spc="-1" strike="noStrike">
                <a:solidFill>
                  <a:srgbClr val="000000"/>
                </a:solidFill>
                <a:latin typeface="Bodoni SvtyTwo ITC TT-Book"/>
              </a:rPr>
              <a:t>formula?</a:t>
            </a:r>
            <a:endParaRPr b="0" lang="en-US" sz="47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transition spd="med">
    <p:wipe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9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290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291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292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293" name="Text Box 5"/>
          <p:cNvSpPr/>
          <p:nvPr/>
        </p:nvSpPr>
        <p:spPr>
          <a:xfrm>
            <a:off x="511200" y="6480"/>
            <a:ext cx="7655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Right Triangle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94" name="Line 6"/>
          <p:cNvSpPr/>
          <p:nvPr/>
        </p:nvSpPr>
        <p:spPr>
          <a:xfrm>
            <a:off x="574560" y="98424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grpSp>
        <p:nvGrpSpPr>
          <p:cNvPr id="1295" name="Group 7"/>
          <p:cNvGrpSpPr/>
          <p:nvPr/>
        </p:nvGrpSpPr>
        <p:grpSpPr>
          <a:xfrm>
            <a:off x="4622760" y="3111480"/>
            <a:ext cx="3327480" cy="1993680"/>
            <a:chOff x="4622760" y="3111480"/>
            <a:chExt cx="3327480" cy="1993680"/>
          </a:xfrm>
        </p:grpSpPr>
        <p:sp>
          <p:nvSpPr>
            <p:cNvPr id="1296" name="Freeform 8"/>
            <p:cNvSpPr/>
            <p:nvPr/>
          </p:nvSpPr>
          <p:spPr>
            <a:xfrm>
              <a:off x="4622760" y="3111480"/>
              <a:ext cx="3327480" cy="19936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0"/>
                  </a:moveTo>
                  <a:lnTo>
                    <a:pt x="0" y="10000"/>
                  </a:lnTo>
                  <a:lnTo>
                    <a:pt x="10000" y="1000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297" name="Freeform 9"/>
            <p:cNvSpPr/>
            <p:nvPr/>
          </p:nvSpPr>
          <p:spPr>
            <a:xfrm>
              <a:off x="4635360" y="4851360"/>
              <a:ext cx="279360" cy="2412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</p:grpSp>
      <p:sp>
        <p:nvSpPr>
          <p:cNvPr id="1298" name="Text Box 10"/>
          <p:cNvSpPr/>
          <p:nvPr/>
        </p:nvSpPr>
        <p:spPr>
          <a:xfrm>
            <a:off x="539280" y="1257480"/>
            <a:ext cx="60084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• </a:t>
            </a: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Pythagorean Thm.</a:t>
            </a:r>
            <a:endParaRPr b="0" lang="en-US" sz="48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99" name="Text Box 11"/>
          <p:cNvSpPr/>
          <p:nvPr/>
        </p:nvSpPr>
        <p:spPr>
          <a:xfrm>
            <a:off x="3959640" y="3708360"/>
            <a:ext cx="5522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e0000"/>
                </a:solidFill>
                <a:latin typeface="Bodoni SvtyTwo ITC TT-Book"/>
              </a:rPr>
              <a:t>a</a:t>
            </a:r>
            <a:endParaRPr b="0" lang="en-US" sz="7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00" name="Text Box 12"/>
          <p:cNvSpPr/>
          <p:nvPr/>
        </p:nvSpPr>
        <p:spPr>
          <a:xfrm>
            <a:off x="5704200" y="5041800"/>
            <a:ext cx="5799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e0000"/>
                </a:solidFill>
                <a:latin typeface="Bodoni SvtyTwo ITC TT-Book"/>
              </a:rPr>
              <a:t>b</a:t>
            </a:r>
            <a:endParaRPr b="0" lang="en-US" sz="7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01" name="Text Box 13"/>
          <p:cNvSpPr/>
          <p:nvPr/>
        </p:nvSpPr>
        <p:spPr>
          <a:xfrm>
            <a:off x="6089400" y="3098880"/>
            <a:ext cx="4701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ee"/>
                </a:solidFill>
                <a:latin typeface="Bodoni SvtyTwo ITC TT-Book"/>
              </a:rPr>
              <a:t>c</a:t>
            </a:r>
            <a:endParaRPr b="0" lang="en-US" sz="7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1302" name="Picture 14" descr=""/>
          <p:cNvPicPr/>
          <p:nvPr/>
        </p:nvPicPr>
        <p:blipFill>
          <a:blip r:embed="rId1"/>
          <a:stretch/>
        </p:blipFill>
        <p:spPr>
          <a:xfrm>
            <a:off x="1638360" y="1809720"/>
            <a:ext cx="4140000" cy="11811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3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304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305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306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307" name="Text Box 5"/>
          <p:cNvSpPr/>
          <p:nvPr/>
        </p:nvSpPr>
        <p:spPr>
          <a:xfrm>
            <a:off x="511200" y="3240"/>
            <a:ext cx="7655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Right Triangle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08" name="Line 6"/>
          <p:cNvSpPr/>
          <p:nvPr/>
        </p:nvSpPr>
        <p:spPr>
          <a:xfrm>
            <a:off x="574560" y="98100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09" name="Text Box 7"/>
          <p:cNvSpPr/>
          <p:nvPr/>
        </p:nvSpPr>
        <p:spPr>
          <a:xfrm>
            <a:off x="464760" y="1257480"/>
            <a:ext cx="73004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• </a:t>
            </a: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Special Right Triangles</a:t>
            </a:r>
            <a:endParaRPr b="0" lang="en-US" sz="48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transition spd="med">
    <p:dissolve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0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311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312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313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314" name="Freeform 5"/>
          <p:cNvSpPr/>
          <p:nvPr/>
        </p:nvSpPr>
        <p:spPr>
          <a:xfrm>
            <a:off x="5283360" y="2082960"/>
            <a:ext cx="2057400" cy="30607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10000"/>
                </a:lnTo>
                <a:lnTo>
                  <a:pt x="0" y="100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00ee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15" name="Text Box 6"/>
          <p:cNvSpPr/>
          <p:nvPr/>
        </p:nvSpPr>
        <p:spPr>
          <a:xfrm>
            <a:off x="5629320" y="2311560"/>
            <a:ext cx="11743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45-45-90</a:t>
            </a:r>
            <a:endParaRPr b="0" lang="en-US" sz="2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16" name="Freeform 7"/>
          <p:cNvSpPr/>
          <p:nvPr/>
        </p:nvSpPr>
        <p:spPr>
          <a:xfrm>
            <a:off x="5727600" y="3073320"/>
            <a:ext cx="1270080" cy="13464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0" y="10000"/>
                </a:lnTo>
                <a:lnTo>
                  <a:pt x="10000" y="1000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17" name="Freeform 8"/>
          <p:cNvSpPr/>
          <p:nvPr/>
        </p:nvSpPr>
        <p:spPr>
          <a:xfrm>
            <a:off x="5740560" y="4216320"/>
            <a:ext cx="164880" cy="19044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10000"/>
                </a:lnTo>
                <a:lnTo>
                  <a:pt x="0" y="100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18" name="Text Box 9"/>
          <p:cNvSpPr/>
          <p:nvPr/>
        </p:nvSpPr>
        <p:spPr>
          <a:xfrm>
            <a:off x="5676840" y="3467160"/>
            <a:ext cx="5461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5˚</a:t>
            </a:r>
            <a:endParaRPr b="0" lang="en-US" sz="2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19" name="Text Box 10"/>
          <p:cNvSpPr/>
          <p:nvPr/>
        </p:nvSpPr>
        <p:spPr>
          <a:xfrm>
            <a:off x="6324480" y="4178160"/>
            <a:ext cx="5461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5˚</a:t>
            </a:r>
            <a:endParaRPr b="0" lang="en-US" sz="2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20" name="Freeform 11"/>
          <p:cNvSpPr/>
          <p:nvPr/>
        </p:nvSpPr>
        <p:spPr>
          <a:xfrm>
            <a:off x="1295280" y="2152800"/>
            <a:ext cx="2057400" cy="303516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10000"/>
                </a:lnTo>
                <a:lnTo>
                  <a:pt x="0" y="100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21" name="Text Box 12"/>
          <p:cNvSpPr/>
          <p:nvPr/>
        </p:nvSpPr>
        <p:spPr>
          <a:xfrm>
            <a:off x="1641600" y="2355840"/>
            <a:ext cx="11743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30-60-90</a:t>
            </a:r>
            <a:endParaRPr b="0" lang="en-US" sz="2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22" name="Freeform 13"/>
          <p:cNvSpPr/>
          <p:nvPr/>
        </p:nvSpPr>
        <p:spPr>
          <a:xfrm>
            <a:off x="1930320" y="2901960"/>
            <a:ext cx="1181160" cy="176544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0" y="10000"/>
                </a:lnTo>
                <a:lnTo>
                  <a:pt x="10000" y="1000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23" name="Freeform 14"/>
          <p:cNvSpPr/>
          <p:nvPr/>
        </p:nvSpPr>
        <p:spPr>
          <a:xfrm>
            <a:off x="1943280" y="4464000"/>
            <a:ext cx="164880" cy="19044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10000"/>
                </a:lnTo>
                <a:lnTo>
                  <a:pt x="0" y="100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24" name="Text Box 15"/>
          <p:cNvSpPr/>
          <p:nvPr/>
        </p:nvSpPr>
        <p:spPr>
          <a:xfrm>
            <a:off x="2438280" y="4400640"/>
            <a:ext cx="6732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60˚</a:t>
            </a:r>
            <a:endParaRPr b="0" lang="en-US" sz="21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25" name="Text Box 16"/>
          <p:cNvSpPr/>
          <p:nvPr/>
        </p:nvSpPr>
        <p:spPr>
          <a:xfrm>
            <a:off x="1884240" y="3537000"/>
            <a:ext cx="6908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0˚</a:t>
            </a:r>
            <a:endParaRPr b="0" lang="en-US" sz="21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26" name="Text Box 17"/>
          <p:cNvSpPr/>
          <p:nvPr/>
        </p:nvSpPr>
        <p:spPr>
          <a:xfrm>
            <a:off x="511200" y="3240"/>
            <a:ext cx="7655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Right Triangle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27" name="Line 18"/>
          <p:cNvSpPr/>
          <p:nvPr/>
        </p:nvSpPr>
        <p:spPr>
          <a:xfrm>
            <a:off x="574560" y="98100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28" name="Text Box 19"/>
          <p:cNvSpPr/>
          <p:nvPr/>
        </p:nvSpPr>
        <p:spPr>
          <a:xfrm>
            <a:off x="464760" y="1257480"/>
            <a:ext cx="73004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• </a:t>
            </a: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Special Right Triangles</a:t>
            </a:r>
            <a:endParaRPr b="0" lang="en-US" sz="48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transition spd="med">
    <p:wipe dir="d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9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330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331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332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333" name="Freeform 5"/>
          <p:cNvSpPr/>
          <p:nvPr/>
        </p:nvSpPr>
        <p:spPr>
          <a:xfrm>
            <a:off x="5283360" y="2082960"/>
            <a:ext cx="2057400" cy="30607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10000"/>
                </a:lnTo>
                <a:lnTo>
                  <a:pt x="0" y="100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00ee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34" name="Text Box 6"/>
          <p:cNvSpPr/>
          <p:nvPr/>
        </p:nvSpPr>
        <p:spPr>
          <a:xfrm>
            <a:off x="5629320" y="2311560"/>
            <a:ext cx="11743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45-45-90</a:t>
            </a:r>
            <a:endParaRPr b="0" lang="en-US" sz="2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35" name="Freeform 7"/>
          <p:cNvSpPr/>
          <p:nvPr/>
        </p:nvSpPr>
        <p:spPr>
          <a:xfrm>
            <a:off x="5727600" y="3073320"/>
            <a:ext cx="1270080" cy="13464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0" y="10000"/>
                </a:lnTo>
                <a:lnTo>
                  <a:pt x="10000" y="1000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36" name="Freeform 8"/>
          <p:cNvSpPr/>
          <p:nvPr/>
        </p:nvSpPr>
        <p:spPr>
          <a:xfrm>
            <a:off x="5740560" y="4216320"/>
            <a:ext cx="164880" cy="19044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10000"/>
                </a:lnTo>
                <a:lnTo>
                  <a:pt x="0" y="100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37" name="Text Box 9"/>
          <p:cNvSpPr/>
          <p:nvPr/>
        </p:nvSpPr>
        <p:spPr>
          <a:xfrm>
            <a:off x="5676840" y="3467160"/>
            <a:ext cx="5461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5˚</a:t>
            </a:r>
            <a:endParaRPr b="0" lang="en-US" sz="2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38" name="Text Box 10"/>
          <p:cNvSpPr/>
          <p:nvPr/>
        </p:nvSpPr>
        <p:spPr>
          <a:xfrm>
            <a:off x="6324480" y="4178160"/>
            <a:ext cx="5461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5˚</a:t>
            </a:r>
            <a:endParaRPr b="0" lang="en-US" sz="2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39" name="Freeform 11"/>
          <p:cNvSpPr/>
          <p:nvPr/>
        </p:nvSpPr>
        <p:spPr>
          <a:xfrm>
            <a:off x="1295280" y="2152800"/>
            <a:ext cx="2057400" cy="303516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10000"/>
                </a:lnTo>
                <a:lnTo>
                  <a:pt x="0" y="100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40" name="Text Box 12"/>
          <p:cNvSpPr/>
          <p:nvPr/>
        </p:nvSpPr>
        <p:spPr>
          <a:xfrm>
            <a:off x="1641600" y="2355840"/>
            <a:ext cx="11743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30-60-90</a:t>
            </a:r>
            <a:endParaRPr b="0" lang="en-US" sz="2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41" name="Freeform 13"/>
          <p:cNvSpPr/>
          <p:nvPr/>
        </p:nvSpPr>
        <p:spPr>
          <a:xfrm>
            <a:off x="1930320" y="2901960"/>
            <a:ext cx="1181160" cy="176544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0" y="10000"/>
                </a:lnTo>
                <a:lnTo>
                  <a:pt x="10000" y="1000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42" name="Freeform 14"/>
          <p:cNvSpPr/>
          <p:nvPr/>
        </p:nvSpPr>
        <p:spPr>
          <a:xfrm>
            <a:off x="1943280" y="4464000"/>
            <a:ext cx="164880" cy="19044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10000"/>
                </a:lnTo>
                <a:lnTo>
                  <a:pt x="0" y="100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43" name="Text Box 15"/>
          <p:cNvSpPr/>
          <p:nvPr/>
        </p:nvSpPr>
        <p:spPr>
          <a:xfrm>
            <a:off x="2438280" y="4400640"/>
            <a:ext cx="6732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60˚</a:t>
            </a:r>
            <a:endParaRPr b="0" lang="en-US" sz="21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44" name="Text Box 16"/>
          <p:cNvSpPr/>
          <p:nvPr/>
        </p:nvSpPr>
        <p:spPr>
          <a:xfrm>
            <a:off x="1884240" y="3537000"/>
            <a:ext cx="6908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0˚</a:t>
            </a:r>
            <a:endParaRPr b="0" lang="en-US" sz="21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45" name="Text Box 17"/>
          <p:cNvSpPr/>
          <p:nvPr/>
        </p:nvSpPr>
        <p:spPr>
          <a:xfrm>
            <a:off x="511200" y="3240"/>
            <a:ext cx="7655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Right Triangle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46" name="Line 18"/>
          <p:cNvSpPr/>
          <p:nvPr/>
        </p:nvSpPr>
        <p:spPr>
          <a:xfrm>
            <a:off x="574560" y="98100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47" name="Text Box 19"/>
          <p:cNvSpPr/>
          <p:nvPr/>
        </p:nvSpPr>
        <p:spPr>
          <a:xfrm>
            <a:off x="464760" y="1257480"/>
            <a:ext cx="73004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• </a:t>
            </a: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Special Right Triangles</a:t>
            </a:r>
            <a:endParaRPr b="0" lang="en-US" sz="48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48" name="Line 20"/>
          <p:cNvSpPr/>
          <p:nvPr/>
        </p:nvSpPr>
        <p:spPr>
          <a:xfrm flipH="1">
            <a:off x="3949200" y="3390840"/>
            <a:ext cx="6224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49" name="Text Box 21"/>
          <p:cNvSpPr/>
          <p:nvPr/>
        </p:nvSpPr>
        <p:spPr>
          <a:xfrm>
            <a:off x="2311560" y="5346720"/>
            <a:ext cx="43052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doni SvtyTwo ITC TT-Book"/>
              </a:rPr>
              <a:t>What’s the pattern ?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transition spd="med">
    <p:wipe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0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351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352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353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354" name="Freeform 5"/>
          <p:cNvSpPr/>
          <p:nvPr/>
        </p:nvSpPr>
        <p:spPr>
          <a:xfrm>
            <a:off x="5283360" y="2082960"/>
            <a:ext cx="2057400" cy="30607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10000"/>
                </a:lnTo>
                <a:lnTo>
                  <a:pt x="0" y="100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00ee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55" name="Text Box 6"/>
          <p:cNvSpPr/>
          <p:nvPr/>
        </p:nvSpPr>
        <p:spPr>
          <a:xfrm>
            <a:off x="5629320" y="2311560"/>
            <a:ext cx="11743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45-45-90</a:t>
            </a:r>
            <a:endParaRPr b="0" lang="en-US" sz="2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56" name="Freeform 7"/>
          <p:cNvSpPr/>
          <p:nvPr/>
        </p:nvSpPr>
        <p:spPr>
          <a:xfrm>
            <a:off x="5727600" y="3073320"/>
            <a:ext cx="1270080" cy="13464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0" y="10000"/>
                </a:lnTo>
                <a:lnTo>
                  <a:pt x="10000" y="1000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57" name="Freeform 8"/>
          <p:cNvSpPr/>
          <p:nvPr/>
        </p:nvSpPr>
        <p:spPr>
          <a:xfrm>
            <a:off x="5740560" y="4216320"/>
            <a:ext cx="164880" cy="19044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10000"/>
                </a:lnTo>
                <a:lnTo>
                  <a:pt x="0" y="100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58" name="Text Box 9"/>
          <p:cNvSpPr/>
          <p:nvPr/>
        </p:nvSpPr>
        <p:spPr>
          <a:xfrm>
            <a:off x="5676840" y="3467160"/>
            <a:ext cx="5461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5˚</a:t>
            </a:r>
            <a:endParaRPr b="0" lang="en-US" sz="2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59" name="Text Box 10"/>
          <p:cNvSpPr/>
          <p:nvPr/>
        </p:nvSpPr>
        <p:spPr>
          <a:xfrm>
            <a:off x="6324480" y="4178160"/>
            <a:ext cx="5461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5˚</a:t>
            </a:r>
            <a:endParaRPr b="0" lang="en-US" sz="2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60" name="Freeform 11"/>
          <p:cNvSpPr/>
          <p:nvPr/>
        </p:nvSpPr>
        <p:spPr>
          <a:xfrm>
            <a:off x="1295280" y="2152800"/>
            <a:ext cx="2057400" cy="303516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10000"/>
                </a:lnTo>
                <a:lnTo>
                  <a:pt x="0" y="100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61" name="Text Box 12"/>
          <p:cNvSpPr/>
          <p:nvPr/>
        </p:nvSpPr>
        <p:spPr>
          <a:xfrm>
            <a:off x="1641600" y="2355840"/>
            <a:ext cx="11743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30-60-90</a:t>
            </a:r>
            <a:endParaRPr b="0" lang="en-US" sz="2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62" name="Freeform 13"/>
          <p:cNvSpPr/>
          <p:nvPr/>
        </p:nvSpPr>
        <p:spPr>
          <a:xfrm>
            <a:off x="1930320" y="2901960"/>
            <a:ext cx="1181160" cy="176544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0" y="10000"/>
                </a:lnTo>
                <a:lnTo>
                  <a:pt x="10000" y="1000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63" name="Text Box 14"/>
          <p:cNvSpPr/>
          <p:nvPr/>
        </p:nvSpPr>
        <p:spPr>
          <a:xfrm>
            <a:off x="2235240" y="4705200"/>
            <a:ext cx="4064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64" name="Text Box 15"/>
          <p:cNvSpPr/>
          <p:nvPr/>
        </p:nvSpPr>
        <p:spPr>
          <a:xfrm>
            <a:off x="2476440" y="3422520"/>
            <a:ext cx="685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x</a:t>
            </a:r>
            <a:endParaRPr b="0" lang="en-US" sz="28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65" name="Freeform 16"/>
          <p:cNvSpPr/>
          <p:nvPr/>
        </p:nvSpPr>
        <p:spPr>
          <a:xfrm>
            <a:off x="1943280" y="4464000"/>
            <a:ext cx="164880" cy="19044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10000"/>
                </a:lnTo>
                <a:lnTo>
                  <a:pt x="0" y="100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66" name="Text Box 17"/>
          <p:cNvSpPr/>
          <p:nvPr/>
        </p:nvSpPr>
        <p:spPr>
          <a:xfrm>
            <a:off x="2438280" y="4400640"/>
            <a:ext cx="6732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60˚</a:t>
            </a:r>
            <a:endParaRPr b="0" lang="en-US" sz="21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67" name="Text Box 18"/>
          <p:cNvSpPr/>
          <p:nvPr/>
        </p:nvSpPr>
        <p:spPr>
          <a:xfrm>
            <a:off x="1884240" y="3537000"/>
            <a:ext cx="6908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0˚</a:t>
            </a:r>
            <a:endParaRPr b="0" lang="en-US" sz="21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1368" name="Picture 19" descr=""/>
          <p:cNvPicPr/>
          <p:nvPr/>
        </p:nvPicPr>
        <p:blipFill>
          <a:blip r:embed="rId1"/>
          <a:stretch/>
        </p:blipFill>
        <p:spPr>
          <a:xfrm>
            <a:off x="1320840" y="3537000"/>
            <a:ext cx="622440" cy="507960"/>
          </a:xfrm>
          <a:prstGeom prst="rect">
            <a:avLst/>
          </a:prstGeom>
          <a:ln w="0">
            <a:noFill/>
          </a:ln>
        </p:spPr>
      </p:pic>
      <p:sp>
        <p:nvSpPr>
          <p:cNvPr id="1369" name="Text Box 20"/>
          <p:cNvSpPr/>
          <p:nvPr/>
        </p:nvSpPr>
        <p:spPr>
          <a:xfrm>
            <a:off x="511200" y="3240"/>
            <a:ext cx="7655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Right Triangle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70" name="Line 21"/>
          <p:cNvSpPr/>
          <p:nvPr/>
        </p:nvSpPr>
        <p:spPr>
          <a:xfrm>
            <a:off x="574560" y="98100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71" name="Text Box 22"/>
          <p:cNvSpPr/>
          <p:nvPr/>
        </p:nvSpPr>
        <p:spPr>
          <a:xfrm>
            <a:off x="464760" y="1257480"/>
            <a:ext cx="73004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• </a:t>
            </a: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Special Right Triangles</a:t>
            </a:r>
            <a:endParaRPr b="0" lang="en-US" sz="48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72" name="Line 23"/>
          <p:cNvSpPr/>
          <p:nvPr/>
        </p:nvSpPr>
        <p:spPr>
          <a:xfrm flipH="1">
            <a:off x="3949200" y="3390840"/>
            <a:ext cx="6224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73" name="Text Box 24"/>
          <p:cNvSpPr/>
          <p:nvPr/>
        </p:nvSpPr>
        <p:spPr>
          <a:xfrm>
            <a:off x="2311560" y="5346720"/>
            <a:ext cx="43052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doni SvtyTwo ITC TT-Book"/>
              </a:rPr>
              <a:t>What’s the pattern ?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21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22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23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24" name="Text Box 5"/>
          <p:cNvSpPr/>
          <p:nvPr/>
        </p:nvSpPr>
        <p:spPr>
          <a:xfrm>
            <a:off x="469800" y="101520"/>
            <a:ext cx="325116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Formulas: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596880" y="1523880"/>
            <a:ext cx="223524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Slope</a:t>
            </a: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  </a:t>
            </a:r>
            <a:r>
              <a:rPr b="1" lang="en-US" sz="4900" spc="-1" strike="noStrike">
                <a:solidFill>
                  <a:srgbClr val="000000"/>
                </a:solidFill>
                <a:latin typeface="Bodoni SvtyTwo ITC TT-Book"/>
              </a:rPr>
              <a:t>=</a:t>
            </a:r>
            <a:r>
              <a:rPr b="0" lang="en-US" sz="4900" spc="-1" strike="noStrike">
                <a:solidFill>
                  <a:srgbClr val="000000"/>
                </a:solidFill>
                <a:latin typeface="Bodoni SvtyTwo ITC TT-Book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585720" y="3187800"/>
            <a:ext cx="3440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Midpoint</a:t>
            </a: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 </a:t>
            </a:r>
            <a:r>
              <a:rPr b="1" lang="en-US" sz="4900" spc="-1" strike="noStrike">
                <a:solidFill>
                  <a:srgbClr val="000000"/>
                </a:solidFill>
                <a:latin typeface="Bodoni SvtyTwo ITC TT-Book"/>
              </a:rPr>
              <a:t>=</a:t>
            </a: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565200" y="4840200"/>
            <a:ext cx="296532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Distance</a:t>
            </a: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 </a:t>
            </a:r>
            <a:r>
              <a:rPr b="1" lang="en-US" sz="4900" spc="-1" strike="noStrike">
                <a:solidFill>
                  <a:srgbClr val="000000"/>
                </a:solidFill>
                <a:latin typeface="Bodoni SvtyTwo ITC TT-Book"/>
              </a:rPr>
              <a:t>=</a:t>
            </a: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8" name="Line 9"/>
          <p:cNvSpPr/>
          <p:nvPr/>
        </p:nvSpPr>
        <p:spPr>
          <a:xfrm>
            <a:off x="571680" y="1079640"/>
            <a:ext cx="758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3517920" y="63360"/>
            <a:ext cx="462276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Bodoni SvtyTwo ITC TT-Book"/>
              </a:rPr>
              <a:t>for two points</a:t>
            </a:r>
            <a:endParaRPr b="0" lang="en-US" sz="3000" spc="-1" strike="noStrike">
              <a:solidFill>
                <a:srgbClr val="000000"/>
              </a:solidFill>
              <a:latin typeface="Bodoni SvtyTwo ITC TT-Book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doni SvtyTwo ITC TT-Book"/>
              </a:rPr>
              <a:t>(X</a:t>
            </a:r>
            <a:r>
              <a:rPr b="0" lang="en-US" sz="4500" spc="-1" strike="noStrike" baseline="-33000">
                <a:solidFill>
                  <a:srgbClr val="000000"/>
                </a:solidFill>
                <a:latin typeface="Bodoni SvtyTwo ITC TT-Book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Bodoni SvtyTwo ITC TT-Book"/>
              </a:rPr>
              <a:t>  ,  Y</a:t>
            </a:r>
            <a:r>
              <a:rPr b="0" lang="en-US" sz="4500" spc="-1" strike="noStrike" baseline="-33000">
                <a:solidFill>
                  <a:srgbClr val="000000"/>
                </a:solidFill>
                <a:latin typeface="Bodoni SvtyTwo ITC TT-Book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Bodoni SvtyTwo ITC TT-Book"/>
              </a:rPr>
              <a:t>  )   </a:t>
            </a:r>
            <a:r>
              <a:rPr b="0" i="1" lang="en-US" sz="3000" spc="-1" strike="noStrike">
                <a:solidFill>
                  <a:srgbClr val="000000"/>
                </a:solidFill>
                <a:latin typeface="Bodoni SvtyTwo ITC TT-Book"/>
              </a:rPr>
              <a:t>and</a:t>
            </a:r>
            <a:r>
              <a:rPr b="0" lang="en-US" sz="3000" spc="-1" strike="noStrike">
                <a:solidFill>
                  <a:srgbClr val="000000"/>
                </a:solidFill>
                <a:latin typeface="Bodoni SvtyTwo ITC TT-Book"/>
              </a:rPr>
              <a:t>  ( X</a:t>
            </a:r>
            <a:r>
              <a:rPr b="0" lang="en-US" sz="4500" spc="-1" strike="noStrike" baseline="-33000">
                <a:solidFill>
                  <a:srgbClr val="000000"/>
                </a:solidFill>
                <a:latin typeface="Bodoni SvtyTwo ITC TT-Book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Bodoni SvtyTwo ITC TT-Book"/>
              </a:rPr>
              <a:t>  ,  Y</a:t>
            </a:r>
            <a:r>
              <a:rPr b="0" lang="en-US" sz="4500" spc="-1" strike="noStrike" baseline="-33000">
                <a:solidFill>
                  <a:srgbClr val="000000"/>
                </a:solidFill>
                <a:latin typeface="Bodoni SvtyTwo ITC TT-Book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Bodoni SvtyTwo ITC TT-Book"/>
              </a:rPr>
              <a:t>  )</a:t>
            </a:r>
            <a:endParaRPr b="0" lang="en-US" sz="30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transition spd="med">
    <p:dissolve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4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375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376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377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378" name="Freeform 5"/>
          <p:cNvSpPr/>
          <p:nvPr/>
        </p:nvSpPr>
        <p:spPr>
          <a:xfrm>
            <a:off x="5283360" y="2082960"/>
            <a:ext cx="2057400" cy="30607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10000"/>
                </a:lnTo>
                <a:lnTo>
                  <a:pt x="0" y="100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00ee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79" name="Text Box 6"/>
          <p:cNvSpPr/>
          <p:nvPr/>
        </p:nvSpPr>
        <p:spPr>
          <a:xfrm>
            <a:off x="5629320" y="2311560"/>
            <a:ext cx="11743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45-45-90</a:t>
            </a:r>
            <a:endParaRPr b="0" lang="en-US" sz="2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80" name="Freeform 7"/>
          <p:cNvSpPr/>
          <p:nvPr/>
        </p:nvSpPr>
        <p:spPr>
          <a:xfrm>
            <a:off x="5727600" y="3073320"/>
            <a:ext cx="1270080" cy="13464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0" y="10000"/>
                </a:lnTo>
                <a:lnTo>
                  <a:pt x="10000" y="1000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81" name="Freeform 8"/>
          <p:cNvSpPr/>
          <p:nvPr/>
        </p:nvSpPr>
        <p:spPr>
          <a:xfrm>
            <a:off x="5740560" y="4216320"/>
            <a:ext cx="164880" cy="19044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10000"/>
                </a:lnTo>
                <a:lnTo>
                  <a:pt x="0" y="100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82" name="Text Box 9"/>
          <p:cNvSpPr/>
          <p:nvPr/>
        </p:nvSpPr>
        <p:spPr>
          <a:xfrm>
            <a:off x="5676840" y="3467160"/>
            <a:ext cx="5461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5˚</a:t>
            </a:r>
            <a:endParaRPr b="0" lang="en-US" sz="2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83" name="Text Box 10"/>
          <p:cNvSpPr/>
          <p:nvPr/>
        </p:nvSpPr>
        <p:spPr>
          <a:xfrm>
            <a:off x="6324480" y="4178160"/>
            <a:ext cx="5461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5˚</a:t>
            </a:r>
            <a:endParaRPr b="0" lang="en-US" sz="2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84" name="Freeform 11"/>
          <p:cNvSpPr/>
          <p:nvPr/>
        </p:nvSpPr>
        <p:spPr>
          <a:xfrm>
            <a:off x="1295280" y="2152800"/>
            <a:ext cx="2057400" cy="303516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10000"/>
                </a:lnTo>
                <a:lnTo>
                  <a:pt x="0" y="100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85" name="Text Box 12"/>
          <p:cNvSpPr/>
          <p:nvPr/>
        </p:nvSpPr>
        <p:spPr>
          <a:xfrm>
            <a:off x="1641600" y="2355840"/>
            <a:ext cx="11743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30-60-90</a:t>
            </a:r>
            <a:endParaRPr b="0" lang="en-US" sz="2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86" name="Freeform 13"/>
          <p:cNvSpPr/>
          <p:nvPr/>
        </p:nvSpPr>
        <p:spPr>
          <a:xfrm>
            <a:off x="1930320" y="2901960"/>
            <a:ext cx="1181160" cy="176544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0" y="10000"/>
                </a:lnTo>
                <a:lnTo>
                  <a:pt x="10000" y="1000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87" name="Text Box 14"/>
          <p:cNvSpPr/>
          <p:nvPr/>
        </p:nvSpPr>
        <p:spPr>
          <a:xfrm>
            <a:off x="2235240" y="4705200"/>
            <a:ext cx="4064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88" name="Text Box 15"/>
          <p:cNvSpPr/>
          <p:nvPr/>
        </p:nvSpPr>
        <p:spPr>
          <a:xfrm>
            <a:off x="2476440" y="3422520"/>
            <a:ext cx="685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x</a:t>
            </a:r>
            <a:endParaRPr b="0" lang="en-US" sz="28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89" name="Freeform 16"/>
          <p:cNvSpPr/>
          <p:nvPr/>
        </p:nvSpPr>
        <p:spPr>
          <a:xfrm>
            <a:off x="1943280" y="4464000"/>
            <a:ext cx="164880" cy="19044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10000"/>
                </a:lnTo>
                <a:lnTo>
                  <a:pt x="0" y="100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90" name="Text Box 17"/>
          <p:cNvSpPr/>
          <p:nvPr/>
        </p:nvSpPr>
        <p:spPr>
          <a:xfrm>
            <a:off x="2438280" y="4400640"/>
            <a:ext cx="6732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60˚</a:t>
            </a:r>
            <a:endParaRPr b="0" lang="en-US" sz="21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91" name="Text Box 18"/>
          <p:cNvSpPr/>
          <p:nvPr/>
        </p:nvSpPr>
        <p:spPr>
          <a:xfrm>
            <a:off x="1884240" y="3537000"/>
            <a:ext cx="6908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0˚</a:t>
            </a:r>
            <a:endParaRPr b="0" lang="en-US" sz="21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1392" name="Picture 19" descr=""/>
          <p:cNvPicPr/>
          <p:nvPr/>
        </p:nvPicPr>
        <p:blipFill>
          <a:blip r:embed="rId1"/>
          <a:stretch/>
        </p:blipFill>
        <p:spPr>
          <a:xfrm>
            <a:off x="1320840" y="3537000"/>
            <a:ext cx="622440" cy="507960"/>
          </a:xfrm>
          <a:prstGeom prst="rect">
            <a:avLst/>
          </a:prstGeom>
          <a:ln w="0">
            <a:noFill/>
          </a:ln>
        </p:spPr>
      </p:pic>
      <p:sp>
        <p:nvSpPr>
          <p:cNvPr id="1393" name="Text Box 20"/>
          <p:cNvSpPr/>
          <p:nvPr/>
        </p:nvSpPr>
        <p:spPr>
          <a:xfrm>
            <a:off x="511200" y="3240"/>
            <a:ext cx="7655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Right Triangle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94" name="Line 21"/>
          <p:cNvSpPr/>
          <p:nvPr/>
        </p:nvSpPr>
        <p:spPr>
          <a:xfrm>
            <a:off x="574560" y="98100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95" name="Text Box 22"/>
          <p:cNvSpPr/>
          <p:nvPr/>
        </p:nvSpPr>
        <p:spPr>
          <a:xfrm>
            <a:off x="464760" y="1257480"/>
            <a:ext cx="73004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• </a:t>
            </a: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Special Right Triangles</a:t>
            </a:r>
            <a:endParaRPr b="0" lang="en-US" sz="48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96" name="Text Box 23"/>
          <p:cNvSpPr/>
          <p:nvPr/>
        </p:nvSpPr>
        <p:spPr>
          <a:xfrm>
            <a:off x="2311560" y="5346720"/>
            <a:ext cx="43052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doni SvtyTwo ITC TT-Book"/>
              </a:rPr>
              <a:t>What’s the pattern ?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97" name="Line 24"/>
          <p:cNvSpPr/>
          <p:nvPr/>
        </p:nvSpPr>
        <p:spPr>
          <a:xfrm>
            <a:off x="4025880" y="3987720"/>
            <a:ext cx="6224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transition spd="med">
    <p:wipe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8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399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400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401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402" name="Freeform 5"/>
          <p:cNvSpPr/>
          <p:nvPr/>
        </p:nvSpPr>
        <p:spPr>
          <a:xfrm>
            <a:off x="5283360" y="2082960"/>
            <a:ext cx="2057400" cy="30607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10000"/>
                </a:lnTo>
                <a:lnTo>
                  <a:pt x="0" y="100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00ee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403" name="Text Box 6"/>
          <p:cNvSpPr/>
          <p:nvPr/>
        </p:nvSpPr>
        <p:spPr>
          <a:xfrm>
            <a:off x="5629320" y="2311560"/>
            <a:ext cx="11743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45-45-90</a:t>
            </a:r>
            <a:endParaRPr b="0" lang="en-US" sz="2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404" name="Freeform 7"/>
          <p:cNvSpPr/>
          <p:nvPr/>
        </p:nvSpPr>
        <p:spPr>
          <a:xfrm>
            <a:off x="5727600" y="3073320"/>
            <a:ext cx="1270080" cy="13464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0" y="10000"/>
                </a:lnTo>
                <a:lnTo>
                  <a:pt x="10000" y="1000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1405" name="Picture 8" descr=""/>
          <p:cNvPicPr/>
          <p:nvPr/>
        </p:nvPicPr>
        <p:blipFill>
          <a:blip r:embed="rId1"/>
          <a:stretch/>
        </p:blipFill>
        <p:spPr>
          <a:xfrm>
            <a:off x="6273720" y="3174840"/>
            <a:ext cx="787320" cy="495360"/>
          </a:xfrm>
          <a:prstGeom prst="rect">
            <a:avLst/>
          </a:prstGeom>
          <a:ln w="0">
            <a:noFill/>
          </a:ln>
        </p:spPr>
      </p:pic>
      <p:sp>
        <p:nvSpPr>
          <p:cNvPr id="1406" name="Text Box 9"/>
          <p:cNvSpPr/>
          <p:nvPr/>
        </p:nvSpPr>
        <p:spPr>
          <a:xfrm>
            <a:off x="6058080" y="4483080"/>
            <a:ext cx="4060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407" name="Text Box 10"/>
          <p:cNvSpPr/>
          <p:nvPr/>
        </p:nvSpPr>
        <p:spPr>
          <a:xfrm>
            <a:off x="5334120" y="3683160"/>
            <a:ext cx="4064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408" name="Freeform 11"/>
          <p:cNvSpPr/>
          <p:nvPr/>
        </p:nvSpPr>
        <p:spPr>
          <a:xfrm>
            <a:off x="5740560" y="4216320"/>
            <a:ext cx="164880" cy="19044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10000"/>
                </a:lnTo>
                <a:lnTo>
                  <a:pt x="0" y="100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409" name="Text Box 12"/>
          <p:cNvSpPr/>
          <p:nvPr/>
        </p:nvSpPr>
        <p:spPr>
          <a:xfrm>
            <a:off x="5676840" y="3467160"/>
            <a:ext cx="5461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5˚</a:t>
            </a:r>
            <a:endParaRPr b="0" lang="en-US" sz="2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410" name="Text Box 13"/>
          <p:cNvSpPr/>
          <p:nvPr/>
        </p:nvSpPr>
        <p:spPr>
          <a:xfrm>
            <a:off x="6324480" y="4178160"/>
            <a:ext cx="5461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5˚</a:t>
            </a:r>
            <a:endParaRPr b="0" lang="en-US" sz="2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411" name="Freeform 14"/>
          <p:cNvSpPr/>
          <p:nvPr/>
        </p:nvSpPr>
        <p:spPr>
          <a:xfrm>
            <a:off x="1295280" y="2152800"/>
            <a:ext cx="2057400" cy="303516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10000"/>
                </a:lnTo>
                <a:lnTo>
                  <a:pt x="0" y="100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412" name="Text Box 15"/>
          <p:cNvSpPr/>
          <p:nvPr/>
        </p:nvSpPr>
        <p:spPr>
          <a:xfrm>
            <a:off x="1641600" y="2355840"/>
            <a:ext cx="11743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30-60-90</a:t>
            </a:r>
            <a:endParaRPr b="0" lang="en-US" sz="23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413" name="Freeform 16"/>
          <p:cNvSpPr/>
          <p:nvPr/>
        </p:nvSpPr>
        <p:spPr>
          <a:xfrm>
            <a:off x="1930320" y="2901960"/>
            <a:ext cx="1181160" cy="176544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0" y="10000"/>
                </a:lnTo>
                <a:lnTo>
                  <a:pt x="10000" y="1000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414" name="Text Box 17"/>
          <p:cNvSpPr/>
          <p:nvPr/>
        </p:nvSpPr>
        <p:spPr>
          <a:xfrm>
            <a:off x="2235240" y="4705200"/>
            <a:ext cx="4064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415" name="Text Box 18"/>
          <p:cNvSpPr/>
          <p:nvPr/>
        </p:nvSpPr>
        <p:spPr>
          <a:xfrm>
            <a:off x="2476440" y="3422520"/>
            <a:ext cx="685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x</a:t>
            </a:r>
            <a:endParaRPr b="0" lang="en-US" sz="28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416" name="Freeform 19"/>
          <p:cNvSpPr/>
          <p:nvPr/>
        </p:nvSpPr>
        <p:spPr>
          <a:xfrm>
            <a:off x="1943280" y="4464000"/>
            <a:ext cx="164880" cy="19044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10000"/>
                </a:lnTo>
                <a:lnTo>
                  <a:pt x="0" y="100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417" name="Text Box 20"/>
          <p:cNvSpPr/>
          <p:nvPr/>
        </p:nvSpPr>
        <p:spPr>
          <a:xfrm>
            <a:off x="2438280" y="4400640"/>
            <a:ext cx="6732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60˚</a:t>
            </a:r>
            <a:endParaRPr b="0" lang="en-US" sz="21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418" name="Text Box 21"/>
          <p:cNvSpPr/>
          <p:nvPr/>
        </p:nvSpPr>
        <p:spPr>
          <a:xfrm>
            <a:off x="1884240" y="3537000"/>
            <a:ext cx="6908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0˚</a:t>
            </a:r>
            <a:endParaRPr b="0" lang="en-US" sz="21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1419" name="Picture 22" descr=""/>
          <p:cNvPicPr/>
          <p:nvPr/>
        </p:nvPicPr>
        <p:blipFill>
          <a:blip r:embed="rId2"/>
          <a:stretch/>
        </p:blipFill>
        <p:spPr>
          <a:xfrm>
            <a:off x="1320840" y="3537000"/>
            <a:ext cx="622440" cy="507960"/>
          </a:xfrm>
          <a:prstGeom prst="rect">
            <a:avLst/>
          </a:prstGeom>
          <a:ln w="0">
            <a:noFill/>
          </a:ln>
        </p:spPr>
      </p:pic>
      <p:sp>
        <p:nvSpPr>
          <p:cNvPr id="1420" name="Text Box 23"/>
          <p:cNvSpPr/>
          <p:nvPr/>
        </p:nvSpPr>
        <p:spPr>
          <a:xfrm>
            <a:off x="511200" y="3240"/>
            <a:ext cx="7655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Right Triangle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421" name="Line 24"/>
          <p:cNvSpPr/>
          <p:nvPr/>
        </p:nvSpPr>
        <p:spPr>
          <a:xfrm>
            <a:off x="574560" y="98100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422" name="Text Box 25"/>
          <p:cNvSpPr/>
          <p:nvPr/>
        </p:nvSpPr>
        <p:spPr>
          <a:xfrm>
            <a:off x="464760" y="1257480"/>
            <a:ext cx="73004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• </a:t>
            </a: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Special Right Triangles</a:t>
            </a:r>
            <a:endParaRPr b="0" lang="en-US" sz="48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423" name="Text Box 26"/>
          <p:cNvSpPr/>
          <p:nvPr/>
        </p:nvSpPr>
        <p:spPr>
          <a:xfrm>
            <a:off x="2311560" y="5346720"/>
            <a:ext cx="43052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doni SvtyTwo ITC TT-Book"/>
              </a:rPr>
              <a:t>What’s the pattern ?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424" name="Line 27"/>
          <p:cNvSpPr/>
          <p:nvPr/>
        </p:nvSpPr>
        <p:spPr>
          <a:xfrm>
            <a:off x="4025880" y="3987720"/>
            <a:ext cx="6224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transition spd="med">
    <p:dissolve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5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426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427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428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429" name="Text Box 5"/>
          <p:cNvSpPr/>
          <p:nvPr/>
        </p:nvSpPr>
        <p:spPr>
          <a:xfrm>
            <a:off x="511200" y="3240"/>
            <a:ext cx="7655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Right Triangle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430" name="Line 6"/>
          <p:cNvSpPr/>
          <p:nvPr/>
        </p:nvSpPr>
        <p:spPr>
          <a:xfrm>
            <a:off x="574560" y="98100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431" name="Text Box 7"/>
          <p:cNvSpPr/>
          <p:nvPr/>
        </p:nvSpPr>
        <p:spPr>
          <a:xfrm>
            <a:off x="712440" y="1257480"/>
            <a:ext cx="45954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• </a:t>
            </a: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Trigonometry</a:t>
            </a:r>
            <a:endParaRPr b="0" lang="en-US" sz="48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grpSp>
        <p:nvGrpSpPr>
          <p:cNvPr id="1432" name="Group 8"/>
          <p:cNvGrpSpPr/>
          <p:nvPr/>
        </p:nvGrpSpPr>
        <p:grpSpPr>
          <a:xfrm>
            <a:off x="4844880" y="2349360"/>
            <a:ext cx="2565360" cy="1612800"/>
            <a:chOff x="4844880" y="2349360"/>
            <a:chExt cx="2565360" cy="1612800"/>
          </a:xfrm>
        </p:grpSpPr>
        <p:sp>
          <p:nvSpPr>
            <p:cNvPr id="1433" name="Freeform 9"/>
            <p:cNvSpPr/>
            <p:nvPr/>
          </p:nvSpPr>
          <p:spPr>
            <a:xfrm>
              <a:off x="4844880" y="2349360"/>
              <a:ext cx="2565360" cy="16128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0"/>
                  </a:moveTo>
                  <a:lnTo>
                    <a:pt x="0" y="10000"/>
                  </a:lnTo>
                  <a:lnTo>
                    <a:pt x="10000" y="1000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434" name="Freeform 10"/>
            <p:cNvSpPr/>
            <p:nvPr/>
          </p:nvSpPr>
          <p:spPr>
            <a:xfrm>
              <a:off x="4881240" y="3678120"/>
              <a:ext cx="274680" cy="2617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</p:grpSp>
    </p:spTree>
  </p:cSld>
  <p:transition spd="med">
    <p:dissolve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5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436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437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438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439" name="Text Box 5"/>
          <p:cNvSpPr/>
          <p:nvPr/>
        </p:nvSpPr>
        <p:spPr>
          <a:xfrm>
            <a:off x="511200" y="3240"/>
            <a:ext cx="7655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Right Triangle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440" name="Line 6"/>
          <p:cNvSpPr/>
          <p:nvPr/>
        </p:nvSpPr>
        <p:spPr>
          <a:xfrm>
            <a:off x="574560" y="98100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441" name="Text Box 7"/>
          <p:cNvSpPr/>
          <p:nvPr/>
        </p:nvSpPr>
        <p:spPr>
          <a:xfrm>
            <a:off x="712440" y="1257480"/>
            <a:ext cx="45954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• </a:t>
            </a: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Trigonometry</a:t>
            </a:r>
            <a:endParaRPr b="0" lang="en-US" sz="48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grpSp>
        <p:nvGrpSpPr>
          <p:cNvPr id="1442" name="Group 8"/>
          <p:cNvGrpSpPr/>
          <p:nvPr/>
        </p:nvGrpSpPr>
        <p:grpSpPr>
          <a:xfrm>
            <a:off x="4844880" y="2349360"/>
            <a:ext cx="2565360" cy="1612800"/>
            <a:chOff x="4844880" y="2349360"/>
            <a:chExt cx="2565360" cy="1612800"/>
          </a:xfrm>
        </p:grpSpPr>
        <p:sp>
          <p:nvSpPr>
            <p:cNvPr id="1443" name="Freeform 9"/>
            <p:cNvSpPr/>
            <p:nvPr/>
          </p:nvSpPr>
          <p:spPr>
            <a:xfrm>
              <a:off x="4844880" y="2349360"/>
              <a:ext cx="2565360" cy="16128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0"/>
                  </a:moveTo>
                  <a:lnTo>
                    <a:pt x="0" y="10000"/>
                  </a:lnTo>
                  <a:lnTo>
                    <a:pt x="10000" y="1000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444" name="Freeform 10"/>
            <p:cNvSpPr/>
            <p:nvPr/>
          </p:nvSpPr>
          <p:spPr>
            <a:xfrm>
              <a:off x="4881240" y="3678120"/>
              <a:ext cx="274680" cy="2617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</p:grpSp>
      <p:sp>
        <p:nvSpPr>
          <p:cNvPr id="1445" name="Freeform 11"/>
          <p:cNvSpPr/>
          <p:nvPr/>
        </p:nvSpPr>
        <p:spPr>
          <a:xfrm rot="5400000">
            <a:off x="6698880" y="3746520"/>
            <a:ext cx="253800" cy="15876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10000" y="0"/>
                </a:moveTo>
                <a:lnTo>
                  <a:pt x="10000" y="10000"/>
                </a:lnTo>
                <a:lnTo>
                  <a:pt x="10000" y="10000"/>
                </a:lnTo>
                <a:cubicBezTo>
                  <a:pt x="4477" y="10000"/>
                  <a:pt x="0" y="5522"/>
                  <a:pt x="0" y="0"/>
                </a:cubicBezTo>
                <a:lnTo>
                  <a:pt x="10000" y="0"/>
                </a:lnTo>
                <a:close/>
                <a:moveTo>
                  <a:pt x="10000" y="0"/>
                </a:moveTo>
              </a:path>
            </a:pathLst>
          </a:custGeom>
          <a:solidFill>
            <a:srgbClr val="ffffff"/>
          </a:solidFill>
          <a:ln w="38160">
            <a:solidFill>
              <a:srgbClr val="e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446" name="Text Box 12"/>
          <p:cNvSpPr/>
          <p:nvPr/>
        </p:nvSpPr>
        <p:spPr>
          <a:xfrm>
            <a:off x="6448320" y="4079880"/>
            <a:ext cx="1609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0000"/>
                </a:solidFill>
                <a:latin typeface="Arial"/>
              </a:rPr>
              <a:t>Angle</a:t>
            </a:r>
            <a:endParaRPr b="0" lang="en-US" sz="1800" spc="-1" strike="noStrike">
              <a:solidFill>
                <a:srgbClr val="000000"/>
              </a:solidFill>
              <a:latin typeface="Bodoni SvtyTwo ITC TT-Book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0000"/>
                </a:solidFill>
                <a:latin typeface="Arial"/>
              </a:rPr>
              <a:t>of Perspective</a:t>
            </a:r>
            <a:endParaRPr b="0" lang="en-US" sz="18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447" name="Text Box 13"/>
          <p:cNvSpPr/>
          <p:nvPr/>
        </p:nvSpPr>
        <p:spPr>
          <a:xfrm>
            <a:off x="1701720" y="5359320"/>
            <a:ext cx="53085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doni SvtyTwo ITC TT-Book"/>
              </a:rPr>
              <a:t>How are the sides labeled ?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transition spd="med">
    <p:wipe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8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449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450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451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452" name="Text Box 5"/>
          <p:cNvSpPr/>
          <p:nvPr/>
        </p:nvSpPr>
        <p:spPr>
          <a:xfrm>
            <a:off x="511200" y="3240"/>
            <a:ext cx="7655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Right Triangle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453" name="Line 6"/>
          <p:cNvSpPr/>
          <p:nvPr/>
        </p:nvSpPr>
        <p:spPr>
          <a:xfrm>
            <a:off x="574560" y="98100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454" name="Text Box 7"/>
          <p:cNvSpPr/>
          <p:nvPr/>
        </p:nvSpPr>
        <p:spPr>
          <a:xfrm>
            <a:off x="712440" y="1257480"/>
            <a:ext cx="45954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• </a:t>
            </a: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Trigonometry</a:t>
            </a:r>
            <a:endParaRPr b="0" lang="en-US" sz="48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grpSp>
        <p:nvGrpSpPr>
          <p:cNvPr id="1455" name="Group 8"/>
          <p:cNvGrpSpPr/>
          <p:nvPr/>
        </p:nvGrpSpPr>
        <p:grpSpPr>
          <a:xfrm>
            <a:off x="4844880" y="2349360"/>
            <a:ext cx="2565360" cy="1612800"/>
            <a:chOff x="4844880" y="2349360"/>
            <a:chExt cx="2565360" cy="1612800"/>
          </a:xfrm>
        </p:grpSpPr>
        <p:sp>
          <p:nvSpPr>
            <p:cNvPr id="1456" name="Freeform 9"/>
            <p:cNvSpPr/>
            <p:nvPr/>
          </p:nvSpPr>
          <p:spPr>
            <a:xfrm>
              <a:off x="4844880" y="2349360"/>
              <a:ext cx="2565360" cy="16128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0"/>
                  </a:moveTo>
                  <a:lnTo>
                    <a:pt x="0" y="10000"/>
                  </a:lnTo>
                  <a:lnTo>
                    <a:pt x="10000" y="1000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457" name="Freeform 10"/>
            <p:cNvSpPr/>
            <p:nvPr/>
          </p:nvSpPr>
          <p:spPr>
            <a:xfrm>
              <a:off x="4881240" y="3678120"/>
              <a:ext cx="274680" cy="2617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</p:grpSp>
      <p:sp>
        <p:nvSpPr>
          <p:cNvPr id="1458" name="Freeform 11"/>
          <p:cNvSpPr/>
          <p:nvPr/>
        </p:nvSpPr>
        <p:spPr>
          <a:xfrm rot="5400000">
            <a:off x="6698880" y="3746520"/>
            <a:ext cx="253800" cy="15876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10000" y="0"/>
                </a:moveTo>
                <a:lnTo>
                  <a:pt x="10000" y="10000"/>
                </a:lnTo>
                <a:lnTo>
                  <a:pt x="10000" y="10000"/>
                </a:lnTo>
                <a:cubicBezTo>
                  <a:pt x="4477" y="10000"/>
                  <a:pt x="0" y="5522"/>
                  <a:pt x="0" y="0"/>
                </a:cubicBezTo>
                <a:lnTo>
                  <a:pt x="10000" y="0"/>
                </a:lnTo>
                <a:close/>
                <a:moveTo>
                  <a:pt x="10000" y="0"/>
                </a:moveTo>
              </a:path>
            </a:pathLst>
          </a:custGeom>
          <a:solidFill>
            <a:srgbClr val="ffffff"/>
          </a:solidFill>
          <a:ln w="38160">
            <a:solidFill>
              <a:srgbClr val="e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459" name="Text Box 12"/>
          <p:cNvSpPr/>
          <p:nvPr/>
        </p:nvSpPr>
        <p:spPr>
          <a:xfrm>
            <a:off x="6448320" y="4079880"/>
            <a:ext cx="1609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0000"/>
                </a:solidFill>
                <a:latin typeface="Arial"/>
              </a:rPr>
              <a:t>Angle</a:t>
            </a:r>
            <a:endParaRPr b="0" lang="en-US" sz="1800" spc="-1" strike="noStrike">
              <a:solidFill>
                <a:srgbClr val="000000"/>
              </a:solidFill>
              <a:latin typeface="Bodoni SvtyTwo ITC TT-Book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0000"/>
                </a:solidFill>
                <a:latin typeface="Arial"/>
              </a:rPr>
              <a:t>of Perspective</a:t>
            </a:r>
            <a:endParaRPr b="0" lang="en-US" sz="18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460" name="Text Box 13"/>
          <p:cNvSpPr/>
          <p:nvPr/>
        </p:nvSpPr>
        <p:spPr>
          <a:xfrm>
            <a:off x="5950080" y="2603520"/>
            <a:ext cx="10285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Hyp.</a:t>
            </a:r>
            <a:endParaRPr b="0" lang="en-US" sz="29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461" name="Text Box 14"/>
          <p:cNvSpPr/>
          <p:nvPr/>
        </p:nvSpPr>
        <p:spPr>
          <a:xfrm>
            <a:off x="5403960" y="4064040"/>
            <a:ext cx="10285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Adj.</a:t>
            </a:r>
            <a:endParaRPr b="0" lang="en-US" sz="29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462" name="Text Box 15"/>
          <p:cNvSpPr/>
          <p:nvPr/>
        </p:nvSpPr>
        <p:spPr>
          <a:xfrm>
            <a:off x="3841920" y="3035160"/>
            <a:ext cx="10285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ee0000"/>
                </a:solidFill>
                <a:latin typeface="Arial"/>
              </a:rPr>
              <a:t>Opp.</a:t>
            </a:r>
            <a:endParaRPr b="0" lang="en-US" sz="29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463" name="Line 16"/>
          <p:cNvSpPr/>
          <p:nvPr/>
        </p:nvSpPr>
        <p:spPr>
          <a:xfrm flipH="1" flipV="1">
            <a:off x="4946400" y="3288960"/>
            <a:ext cx="1638360" cy="431640"/>
          </a:xfrm>
          <a:prstGeom prst="line">
            <a:avLst/>
          </a:prstGeom>
          <a:ln w="25560">
            <a:solidFill>
              <a:srgbClr val="ee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464" name="Line 17"/>
          <p:cNvSpPr/>
          <p:nvPr/>
        </p:nvSpPr>
        <p:spPr>
          <a:xfrm flipV="1">
            <a:off x="5213520" y="3111120"/>
            <a:ext cx="583920" cy="507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transition spd="med">
    <p:wipe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5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466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467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468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469" name="Text Box 5"/>
          <p:cNvSpPr/>
          <p:nvPr/>
        </p:nvSpPr>
        <p:spPr>
          <a:xfrm>
            <a:off x="511200" y="3240"/>
            <a:ext cx="7655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Right Triangle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470" name="Line 6"/>
          <p:cNvSpPr/>
          <p:nvPr/>
        </p:nvSpPr>
        <p:spPr>
          <a:xfrm>
            <a:off x="574560" y="98100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471" name="Text Box 7"/>
          <p:cNvSpPr/>
          <p:nvPr/>
        </p:nvSpPr>
        <p:spPr>
          <a:xfrm>
            <a:off x="712440" y="1257480"/>
            <a:ext cx="45954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• </a:t>
            </a: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Trigonometry</a:t>
            </a:r>
            <a:endParaRPr b="0" lang="en-US" sz="48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grpSp>
        <p:nvGrpSpPr>
          <p:cNvPr id="1472" name="Group 8"/>
          <p:cNvGrpSpPr/>
          <p:nvPr/>
        </p:nvGrpSpPr>
        <p:grpSpPr>
          <a:xfrm>
            <a:off x="4844880" y="2349360"/>
            <a:ext cx="2565360" cy="1612800"/>
            <a:chOff x="4844880" y="2349360"/>
            <a:chExt cx="2565360" cy="1612800"/>
          </a:xfrm>
        </p:grpSpPr>
        <p:sp>
          <p:nvSpPr>
            <p:cNvPr id="1473" name="Freeform 9"/>
            <p:cNvSpPr/>
            <p:nvPr/>
          </p:nvSpPr>
          <p:spPr>
            <a:xfrm>
              <a:off x="4844880" y="2349360"/>
              <a:ext cx="2565360" cy="16128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0"/>
                  </a:moveTo>
                  <a:lnTo>
                    <a:pt x="0" y="10000"/>
                  </a:lnTo>
                  <a:lnTo>
                    <a:pt x="10000" y="1000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474" name="Freeform 10"/>
            <p:cNvSpPr/>
            <p:nvPr/>
          </p:nvSpPr>
          <p:spPr>
            <a:xfrm>
              <a:off x="4881240" y="3678120"/>
              <a:ext cx="274680" cy="2617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</p:grpSp>
      <p:sp>
        <p:nvSpPr>
          <p:cNvPr id="1475" name="Freeform 11"/>
          <p:cNvSpPr/>
          <p:nvPr/>
        </p:nvSpPr>
        <p:spPr>
          <a:xfrm rot="5400000">
            <a:off x="6698880" y="3746520"/>
            <a:ext cx="253800" cy="15876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10000" y="0"/>
                </a:moveTo>
                <a:lnTo>
                  <a:pt x="10000" y="10000"/>
                </a:lnTo>
                <a:lnTo>
                  <a:pt x="10000" y="10000"/>
                </a:lnTo>
                <a:cubicBezTo>
                  <a:pt x="4477" y="10000"/>
                  <a:pt x="0" y="5522"/>
                  <a:pt x="0" y="0"/>
                </a:cubicBezTo>
                <a:lnTo>
                  <a:pt x="10000" y="0"/>
                </a:lnTo>
                <a:close/>
                <a:moveTo>
                  <a:pt x="10000" y="0"/>
                </a:moveTo>
              </a:path>
            </a:pathLst>
          </a:custGeom>
          <a:solidFill>
            <a:srgbClr val="ffffff"/>
          </a:solidFill>
          <a:ln w="38160">
            <a:solidFill>
              <a:srgbClr val="e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476" name="Text Box 12"/>
          <p:cNvSpPr/>
          <p:nvPr/>
        </p:nvSpPr>
        <p:spPr>
          <a:xfrm>
            <a:off x="6448320" y="4079880"/>
            <a:ext cx="1609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0000"/>
                </a:solidFill>
                <a:latin typeface="Arial"/>
              </a:rPr>
              <a:t>Angle</a:t>
            </a:r>
            <a:endParaRPr b="0" lang="en-US" sz="1800" spc="-1" strike="noStrike">
              <a:solidFill>
                <a:srgbClr val="000000"/>
              </a:solidFill>
              <a:latin typeface="Bodoni SvtyTwo ITC TT-Book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0000"/>
                </a:solidFill>
                <a:latin typeface="Arial"/>
              </a:rPr>
              <a:t>of Perspective</a:t>
            </a:r>
            <a:endParaRPr b="0" lang="en-US" sz="18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477" name="Text Box 13"/>
          <p:cNvSpPr/>
          <p:nvPr/>
        </p:nvSpPr>
        <p:spPr>
          <a:xfrm>
            <a:off x="5950080" y="2603520"/>
            <a:ext cx="10285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Hyp.</a:t>
            </a:r>
            <a:endParaRPr b="0" lang="en-US" sz="29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478" name="Text Box 14"/>
          <p:cNvSpPr/>
          <p:nvPr/>
        </p:nvSpPr>
        <p:spPr>
          <a:xfrm>
            <a:off x="5403960" y="4064040"/>
            <a:ext cx="10285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Adj.</a:t>
            </a:r>
            <a:endParaRPr b="0" lang="en-US" sz="29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479" name="Text Box 15"/>
          <p:cNvSpPr/>
          <p:nvPr/>
        </p:nvSpPr>
        <p:spPr>
          <a:xfrm>
            <a:off x="3841920" y="3035160"/>
            <a:ext cx="10285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ee0000"/>
                </a:solidFill>
                <a:latin typeface="Arial"/>
              </a:rPr>
              <a:t>Opp.</a:t>
            </a:r>
            <a:endParaRPr b="0" lang="en-US" sz="29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480" name="Line 16"/>
          <p:cNvSpPr/>
          <p:nvPr/>
        </p:nvSpPr>
        <p:spPr>
          <a:xfrm flipH="1" flipV="1">
            <a:off x="4946400" y="3288960"/>
            <a:ext cx="1638360" cy="431640"/>
          </a:xfrm>
          <a:prstGeom prst="line">
            <a:avLst/>
          </a:prstGeom>
          <a:ln w="25560">
            <a:solidFill>
              <a:srgbClr val="ee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481" name="Line 17"/>
          <p:cNvSpPr/>
          <p:nvPr/>
        </p:nvSpPr>
        <p:spPr>
          <a:xfrm flipV="1">
            <a:off x="5213520" y="3111120"/>
            <a:ext cx="583920" cy="507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482" name="Text Box 18"/>
          <p:cNvSpPr/>
          <p:nvPr/>
        </p:nvSpPr>
        <p:spPr>
          <a:xfrm>
            <a:off x="1384200" y="5346720"/>
            <a:ext cx="5715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doni SvtyTwo ITC TT-Book"/>
              </a:rPr>
              <a:t>What are the 3 Trig. Ratios ?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transition spd="med">
    <p:wipe dir="r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3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484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485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486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487" name="Text Box 5"/>
          <p:cNvSpPr/>
          <p:nvPr/>
        </p:nvSpPr>
        <p:spPr>
          <a:xfrm>
            <a:off x="511200" y="3240"/>
            <a:ext cx="7655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Right Triangle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488" name="Line 6"/>
          <p:cNvSpPr/>
          <p:nvPr/>
        </p:nvSpPr>
        <p:spPr>
          <a:xfrm>
            <a:off x="574560" y="98100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489" name="Text Box 7"/>
          <p:cNvSpPr/>
          <p:nvPr/>
        </p:nvSpPr>
        <p:spPr>
          <a:xfrm>
            <a:off x="712440" y="1257480"/>
            <a:ext cx="45954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• </a:t>
            </a: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Trigonometry</a:t>
            </a:r>
            <a:endParaRPr b="0" lang="en-US" sz="48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grpSp>
        <p:nvGrpSpPr>
          <p:cNvPr id="1490" name="Group 8"/>
          <p:cNvGrpSpPr/>
          <p:nvPr/>
        </p:nvGrpSpPr>
        <p:grpSpPr>
          <a:xfrm>
            <a:off x="4844880" y="2349360"/>
            <a:ext cx="2565360" cy="1612800"/>
            <a:chOff x="4844880" y="2349360"/>
            <a:chExt cx="2565360" cy="1612800"/>
          </a:xfrm>
        </p:grpSpPr>
        <p:sp>
          <p:nvSpPr>
            <p:cNvPr id="1491" name="Freeform 9"/>
            <p:cNvSpPr/>
            <p:nvPr/>
          </p:nvSpPr>
          <p:spPr>
            <a:xfrm>
              <a:off x="4844880" y="2349360"/>
              <a:ext cx="2565360" cy="16128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0"/>
                  </a:moveTo>
                  <a:lnTo>
                    <a:pt x="0" y="10000"/>
                  </a:lnTo>
                  <a:lnTo>
                    <a:pt x="10000" y="1000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492" name="Freeform 10"/>
            <p:cNvSpPr/>
            <p:nvPr/>
          </p:nvSpPr>
          <p:spPr>
            <a:xfrm>
              <a:off x="4881240" y="3678120"/>
              <a:ext cx="274680" cy="2617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</p:grpSp>
      <p:grpSp>
        <p:nvGrpSpPr>
          <p:cNvPr id="1493" name="Group 11"/>
          <p:cNvGrpSpPr/>
          <p:nvPr/>
        </p:nvGrpSpPr>
        <p:grpSpPr>
          <a:xfrm>
            <a:off x="939960" y="4660920"/>
            <a:ext cx="2603520" cy="775080"/>
            <a:chOff x="939960" y="4660920"/>
            <a:chExt cx="2603520" cy="775080"/>
          </a:xfrm>
        </p:grpSpPr>
        <p:grpSp>
          <p:nvGrpSpPr>
            <p:cNvPr id="1494" name="Group 12"/>
            <p:cNvGrpSpPr/>
            <p:nvPr/>
          </p:nvGrpSpPr>
          <p:grpSpPr>
            <a:xfrm>
              <a:off x="939960" y="4825800"/>
              <a:ext cx="1841760" cy="317880"/>
              <a:chOff x="939960" y="4825800"/>
              <a:chExt cx="1841760" cy="317880"/>
            </a:xfrm>
          </p:grpSpPr>
          <p:sp>
            <p:nvSpPr>
              <p:cNvPr id="1495" name="Text Box 13"/>
              <p:cNvSpPr/>
              <p:nvPr/>
            </p:nvSpPr>
            <p:spPr>
              <a:xfrm>
                <a:off x="939960" y="4825800"/>
                <a:ext cx="1841760" cy="31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ts val="25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000000"/>
                    </a:solidFill>
                    <a:latin typeface="Arial"/>
                  </a:rPr>
                  <a:t>Tan.      =</a:t>
                </a:r>
                <a:endParaRPr b="0" lang="en-US" sz="2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grpSp>
            <p:nvGrpSpPr>
              <p:cNvPr id="1496" name="Group 14"/>
              <p:cNvGrpSpPr/>
              <p:nvPr/>
            </p:nvGrpSpPr>
            <p:grpSpPr>
              <a:xfrm>
                <a:off x="1765080" y="4825800"/>
                <a:ext cx="241560" cy="228600"/>
                <a:chOff x="1765080" y="4825800"/>
                <a:chExt cx="241560" cy="228600"/>
              </a:xfrm>
            </p:grpSpPr>
            <p:sp>
              <p:nvSpPr>
                <p:cNvPr id="1497" name="Line 15"/>
                <p:cNvSpPr/>
                <p:nvPr/>
              </p:nvSpPr>
              <p:spPr>
                <a:xfrm flipH="1">
                  <a:off x="1765080" y="4825800"/>
                  <a:ext cx="229320" cy="216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Bodoni SvtyTwo ITC TT-Book"/>
                  </a:endParaRPr>
                </a:p>
              </p:txBody>
            </p:sp>
            <p:sp>
              <p:nvSpPr>
                <p:cNvPr id="1498" name="Line 16"/>
                <p:cNvSpPr/>
                <p:nvPr/>
              </p:nvSpPr>
              <p:spPr>
                <a:xfrm>
                  <a:off x="1777320" y="5054400"/>
                  <a:ext cx="229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Bodoni SvtyTwo ITC TT-Book"/>
                  </a:endParaRPr>
                </a:p>
              </p:txBody>
            </p:sp>
          </p:grpSp>
        </p:grpSp>
        <p:grpSp>
          <p:nvGrpSpPr>
            <p:cNvPr id="1499" name="Group 17"/>
            <p:cNvGrpSpPr/>
            <p:nvPr/>
          </p:nvGrpSpPr>
          <p:grpSpPr>
            <a:xfrm>
              <a:off x="2413080" y="4660920"/>
              <a:ext cx="1130400" cy="775080"/>
              <a:chOff x="2413080" y="4660920"/>
              <a:chExt cx="1130400" cy="775080"/>
            </a:xfrm>
          </p:grpSpPr>
          <p:sp>
            <p:nvSpPr>
              <p:cNvPr id="1500" name="Text Box 18"/>
              <p:cNvSpPr/>
              <p:nvPr/>
            </p:nvSpPr>
            <p:spPr>
              <a:xfrm>
                <a:off x="2451240" y="4660920"/>
                <a:ext cx="1092240" cy="31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ts val="25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000000"/>
                    </a:solidFill>
                    <a:latin typeface="Arial"/>
                  </a:rPr>
                  <a:t>Opp.</a:t>
                </a:r>
                <a:endParaRPr b="0" lang="en-US" sz="2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501" name="Text Box 19"/>
              <p:cNvSpPr/>
              <p:nvPr/>
            </p:nvSpPr>
            <p:spPr>
              <a:xfrm>
                <a:off x="2413080" y="5118120"/>
                <a:ext cx="1092240" cy="31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ts val="25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000000"/>
                    </a:solidFill>
                    <a:latin typeface="Arial"/>
                  </a:rPr>
                  <a:t>Adj.</a:t>
                </a:r>
                <a:endParaRPr b="0" lang="en-US" sz="2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502" name="Line 20"/>
              <p:cNvSpPr/>
              <p:nvPr/>
            </p:nvSpPr>
            <p:spPr>
              <a:xfrm>
                <a:off x="2527200" y="5016240"/>
                <a:ext cx="82548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grpSp>
        <p:nvGrpSpPr>
          <p:cNvPr id="1503" name="Group 21"/>
          <p:cNvGrpSpPr/>
          <p:nvPr/>
        </p:nvGrpSpPr>
        <p:grpSpPr>
          <a:xfrm>
            <a:off x="914400" y="3441600"/>
            <a:ext cx="2705040" cy="724320"/>
            <a:chOff x="914400" y="3441600"/>
            <a:chExt cx="2705040" cy="724320"/>
          </a:xfrm>
        </p:grpSpPr>
        <p:grpSp>
          <p:nvGrpSpPr>
            <p:cNvPr id="1504" name="Group 22"/>
            <p:cNvGrpSpPr/>
            <p:nvPr/>
          </p:nvGrpSpPr>
          <p:grpSpPr>
            <a:xfrm>
              <a:off x="914400" y="3594240"/>
              <a:ext cx="1841400" cy="330480"/>
              <a:chOff x="914400" y="3594240"/>
              <a:chExt cx="1841400" cy="330480"/>
            </a:xfrm>
          </p:grpSpPr>
          <p:sp>
            <p:nvSpPr>
              <p:cNvPr id="1505" name="Text Box 23"/>
              <p:cNvSpPr/>
              <p:nvPr/>
            </p:nvSpPr>
            <p:spPr>
              <a:xfrm>
                <a:off x="914400" y="3606840"/>
                <a:ext cx="1841400" cy="31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ts val="25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000000"/>
                    </a:solidFill>
                    <a:latin typeface="Arial"/>
                  </a:rPr>
                  <a:t>Cos.      =</a:t>
                </a:r>
                <a:endParaRPr b="0" lang="en-US" sz="2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grpSp>
            <p:nvGrpSpPr>
              <p:cNvPr id="1506" name="Group 24"/>
              <p:cNvGrpSpPr/>
              <p:nvPr/>
            </p:nvGrpSpPr>
            <p:grpSpPr>
              <a:xfrm>
                <a:off x="1790640" y="3594240"/>
                <a:ext cx="240840" cy="228600"/>
                <a:chOff x="1790640" y="3594240"/>
                <a:chExt cx="240840" cy="228600"/>
              </a:xfrm>
            </p:grpSpPr>
            <p:sp>
              <p:nvSpPr>
                <p:cNvPr id="1507" name="Line 25"/>
                <p:cNvSpPr/>
                <p:nvPr/>
              </p:nvSpPr>
              <p:spPr>
                <a:xfrm flipH="1">
                  <a:off x="1790640" y="3594240"/>
                  <a:ext cx="228960" cy="216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Bodoni SvtyTwo ITC TT-Book"/>
                  </a:endParaRPr>
                </a:p>
              </p:txBody>
            </p:sp>
            <p:sp>
              <p:nvSpPr>
                <p:cNvPr id="1508" name="Line 26"/>
                <p:cNvSpPr/>
                <p:nvPr/>
              </p:nvSpPr>
              <p:spPr>
                <a:xfrm>
                  <a:off x="1802880" y="382284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Bodoni SvtyTwo ITC TT-Book"/>
                  </a:endParaRPr>
                </a:p>
              </p:txBody>
            </p:sp>
          </p:grpSp>
        </p:grpSp>
        <p:grpSp>
          <p:nvGrpSpPr>
            <p:cNvPr id="1509" name="Group 27"/>
            <p:cNvGrpSpPr/>
            <p:nvPr/>
          </p:nvGrpSpPr>
          <p:grpSpPr>
            <a:xfrm>
              <a:off x="2438280" y="3441600"/>
              <a:ext cx="1181160" cy="724320"/>
              <a:chOff x="2438280" y="3441600"/>
              <a:chExt cx="1181160" cy="724320"/>
            </a:xfrm>
          </p:grpSpPr>
          <p:sp>
            <p:nvSpPr>
              <p:cNvPr id="1510" name="Text Box 28"/>
              <p:cNvSpPr/>
              <p:nvPr/>
            </p:nvSpPr>
            <p:spPr>
              <a:xfrm>
                <a:off x="2527200" y="3848040"/>
                <a:ext cx="1092240" cy="31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ts val="25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000000"/>
                    </a:solidFill>
                    <a:latin typeface="Arial"/>
                  </a:rPr>
                  <a:t>Hyp.</a:t>
                </a:r>
                <a:endParaRPr b="0" lang="en-US" sz="2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511" name="Text Box 29"/>
              <p:cNvSpPr/>
              <p:nvPr/>
            </p:nvSpPr>
            <p:spPr>
              <a:xfrm>
                <a:off x="2438280" y="3441600"/>
                <a:ext cx="1092240" cy="31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ts val="25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000000"/>
                    </a:solidFill>
                    <a:latin typeface="Arial"/>
                  </a:rPr>
                  <a:t>Adj.</a:t>
                </a:r>
                <a:endParaRPr b="0" lang="en-US" sz="2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512" name="Line 30"/>
              <p:cNvSpPr/>
              <p:nvPr/>
            </p:nvSpPr>
            <p:spPr>
              <a:xfrm>
                <a:off x="2603160" y="3784680"/>
                <a:ext cx="82548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grpSp>
        <p:nvGrpSpPr>
          <p:cNvPr id="1513" name="Group 31"/>
          <p:cNvGrpSpPr/>
          <p:nvPr/>
        </p:nvGrpSpPr>
        <p:grpSpPr>
          <a:xfrm>
            <a:off x="965160" y="2286000"/>
            <a:ext cx="2552760" cy="724320"/>
            <a:chOff x="965160" y="2286000"/>
            <a:chExt cx="2552760" cy="724320"/>
          </a:xfrm>
        </p:grpSpPr>
        <p:grpSp>
          <p:nvGrpSpPr>
            <p:cNvPr id="1514" name="Group 32"/>
            <p:cNvGrpSpPr/>
            <p:nvPr/>
          </p:nvGrpSpPr>
          <p:grpSpPr>
            <a:xfrm>
              <a:off x="965160" y="2451240"/>
              <a:ext cx="1841400" cy="317880"/>
              <a:chOff x="965160" y="2451240"/>
              <a:chExt cx="1841400" cy="317880"/>
            </a:xfrm>
          </p:grpSpPr>
          <p:sp>
            <p:nvSpPr>
              <p:cNvPr id="1515" name="Text Box 33"/>
              <p:cNvSpPr/>
              <p:nvPr/>
            </p:nvSpPr>
            <p:spPr>
              <a:xfrm>
                <a:off x="965160" y="2451240"/>
                <a:ext cx="1841400" cy="31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ts val="25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000000"/>
                    </a:solidFill>
                    <a:latin typeface="Arial"/>
                  </a:rPr>
                  <a:t>Sin.      =</a:t>
                </a:r>
                <a:endParaRPr b="0" lang="en-US" sz="2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grpSp>
            <p:nvGrpSpPr>
              <p:cNvPr id="1516" name="Group 34"/>
              <p:cNvGrpSpPr/>
              <p:nvPr/>
            </p:nvGrpSpPr>
            <p:grpSpPr>
              <a:xfrm>
                <a:off x="1726920" y="2451240"/>
                <a:ext cx="241200" cy="228600"/>
                <a:chOff x="1726920" y="2451240"/>
                <a:chExt cx="241200" cy="228600"/>
              </a:xfrm>
            </p:grpSpPr>
            <p:sp>
              <p:nvSpPr>
                <p:cNvPr id="1517" name="Line 35"/>
                <p:cNvSpPr/>
                <p:nvPr/>
              </p:nvSpPr>
              <p:spPr>
                <a:xfrm flipH="1">
                  <a:off x="1726920" y="2451240"/>
                  <a:ext cx="228600" cy="216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Bodoni SvtyTwo ITC TT-Book"/>
                  </a:endParaRPr>
                </a:p>
              </p:txBody>
            </p:sp>
            <p:sp>
              <p:nvSpPr>
                <p:cNvPr id="1518" name="Line 36"/>
                <p:cNvSpPr/>
                <p:nvPr/>
              </p:nvSpPr>
              <p:spPr>
                <a:xfrm>
                  <a:off x="1739160" y="2679840"/>
                  <a:ext cx="2289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Bodoni SvtyTwo ITC TT-Book"/>
                  </a:endParaRPr>
                </a:p>
              </p:txBody>
            </p:sp>
          </p:grpSp>
        </p:grpSp>
        <p:grpSp>
          <p:nvGrpSpPr>
            <p:cNvPr id="1519" name="Group 37"/>
            <p:cNvGrpSpPr/>
            <p:nvPr/>
          </p:nvGrpSpPr>
          <p:grpSpPr>
            <a:xfrm>
              <a:off x="2387520" y="2286000"/>
              <a:ext cx="1130400" cy="724320"/>
              <a:chOff x="2387520" y="2286000"/>
              <a:chExt cx="1130400" cy="724320"/>
            </a:xfrm>
          </p:grpSpPr>
          <p:sp>
            <p:nvSpPr>
              <p:cNvPr id="1520" name="Text Box 38"/>
              <p:cNvSpPr/>
              <p:nvPr/>
            </p:nvSpPr>
            <p:spPr>
              <a:xfrm>
                <a:off x="2425680" y="2692440"/>
                <a:ext cx="1092240" cy="31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ts val="25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000000"/>
                    </a:solidFill>
                    <a:latin typeface="Arial"/>
                  </a:rPr>
                  <a:t>Hyp.</a:t>
                </a:r>
                <a:endParaRPr b="0" lang="en-US" sz="2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521" name="Text Box 39"/>
              <p:cNvSpPr/>
              <p:nvPr/>
            </p:nvSpPr>
            <p:spPr>
              <a:xfrm>
                <a:off x="2387520" y="2286000"/>
                <a:ext cx="1092240" cy="31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ts val="25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000000"/>
                    </a:solidFill>
                    <a:latin typeface="Arial"/>
                  </a:rPr>
                  <a:t>Opp.</a:t>
                </a:r>
                <a:endParaRPr b="0" lang="en-US" sz="2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522" name="Line 40"/>
              <p:cNvSpPr/>
              <p:nvPr/>
            </p:nvSpPr>
            <p:spPr>
              <a:xfrm>
                <a:off x="2527200" y="2629080"/>
                <a:ext cx="82548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523" name="Freeform 41"/>
          <p:cNvSpPr/>
          <p:nvPr/>
        </p:nvSpPr>
        <p:spPr>
          <a:xfrm rot="5400000">
            <a:off x="6698880" y="3746520"/>
            <a:ext cx="253800" cy="15876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10000" y="0"/>
                </a:moveTo>
                <a:lnTo>
                  <a:pt x="10000" y="10000"/>
                </a:lnTo>
                <a:lnTo>
                  <a:pt x="10000" y="10000"/>
                </a:lnTo>
                <a:cubicBezTo>
                  <a:pt x="4477" y="10000"/>
                  <a:pt x="0" y="5522"/>
                  <a:pt x="0" y="0"/>
                </a:cubicBezTo>
                <a:lnTo>
                  <a:pt x="10000" y="0"/>
                </a:lnTo>
                <a:close/>
                <a:moveTo>
                  <a:pt x="10000" y="0"/>
                </a:moveTo>
              </a:path>
            </a:pathLst>
          </a:custGeom>
          <a:solidFill>
            <a:srgbClr val="ffffff"/>
          </a:solidFill>
          <a:ln w="38160">
            <a:solidFill>
              <a:srgbClr val="e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524" name="Text Box 42"/>
          <p:cNvSpPr/>
          <p:nvPr/>
        </p:nvSpPr>
        <p:spPr>
          <a:xfrm>
            <a:off x="6448320" y="4079880"/>
            <a:ext cx="1609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0000"/>
                </a:solidFill>
                <a:latin typeface="Arial"/>
              </a:rPr>
              <a:t>Angle</a:t>
            </a:r>
            <a:endParaRPr b="0" lang="en-US" sz="1800" spc="-1" strike="noStrike">
              <a:solidFill>
                <a:srgbClr val="000000"/>
              </a:solidFill>
              <a:latin typeface="Bodoni SvtyTwo ITC TT-Book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0000"/>
                </a:solidFill>
                <a:latin typeface="Arial"/>
              </a:rPr>
              <a:t>of Perspective</a:t>
            </a:r>
            <a:endParaRPr b="0" lang="en-US" sz="18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525" name="Text Box 43"/>
          <p:cNvSpPr/>
          <p:nvPr/>
        </p:nvSpPr>
        <p:spPr>
          <a:xfrm>
            <a:off x="5950080" y="2603520"/>
            <a:ext cx="10285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Hyp.</a:t>
            </a:r>
            <a:endParaRPr b="0" lang="en-US" sz="29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526" name="Text Box 44"/>
          <p:cNvSpPr/>
          <p:nvPr/>
        </p:nvSpPr>
        <p:spPr>
          <a:xfrm>
            <a:off x="5403960" y="4064040"/>
            <a:ext cx="10285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Adj.</a:t>
            </a:r>
            <a:endParaRPr b="0" lang="en-US" sz="29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527" name="Text Box 45"/>
          <p:cNvSpPr/>
          <p:nvPr/>
        </p:nvSpPr>
        <p:spPr>
          <a:xfrm>
            <a:off x="3841920" y="3035160"/>
            <a:ext cx="10285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ee0000"/>
                </a:solidFill>
                <a:latin typeface="Arial"/>
              </a:rPr>
              <a:t>Opp.</a:t>
            </a:r>
            <a:endParaRPr b="0" lang="en-US" sz="29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528" name="Line 46"/>
          <p:cNvSpPr/>
          <p:nvPr/>
        </p:nvSpPr>
        <p:spPr>
          <a:xfrm flipH="1" flipV="1">
            <a:off x="4946400" y="3288960"/>
            <a:ext cx="1638360" cy="431640"/>
          </a:xfrm>
          <a:prstGeom prst="line">
            <a:avLst/>
          </a:prstGeom>
          <a:ln w="25560">
            <a:solidFill>
              <a:srgbClr val="ee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529" name="Line 47"/>
          <p:cNvSpPr/>
          <p:nvPr/>
        </p:nvSpPr>
        <p:spPr>
          <a:xfrm flipV="1">
            <a:off x="5213520" y="3111120"/>
            <a:ext cx="583920" cy="507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transition spd="med">
    <p:wipe dir="d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0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531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532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533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534" name="Text Box 5"/>
          <p:cNvSpPr/>
          <p:nvPr/>
        </p:nvSpPr>
        <p:spPr>
          <a:xfrm>
            <a:off x="511200" y="0"/>
            <a:ext cx="7655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Circle Formula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535" name="Line 6"/>
          <p:cNvSpPr/>
          <p:nvPr/>
        </p:nvSpPr>
        <p:spPr>
          <a:xfrm>
            <a:off x="574560" y="97776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1536" name="Picture 7" descr=""/>
          <p:cNvPicPr/>
          <p:nvPr/>
        </p:nvPicPr>
        <p:blipFill>
          <a:blip r:embed="rId1"/>
          <a:stretch/>
        </p:blipFill>
        <p:spPr>
          <a:xfrm>
            <a:off x="939960" y="2298600"/>
            <a:ext cx="1193760" cy="1193760"/>
          </a:xfrm>
          <a:prstGeom prst="rect">
            <a:avLst/>
          </a:prstGeom>
          <a:ln w="0">
            <a:noFill/>
          </a:ln>
        </p:spPr>
      </p:pic>
      <p:pic>
        <p:nvPicPr>
          <p:cNvPr id="1537" name="Picture 8" descr=""/>
          <p:cNvPicPr/>
          <p:nvPr/>
        </p:nvPicPr>
        <p:blipFill>
          <a:blip r:embed="rId2"/>
          <a:stretch/>
        </p:blipFill>
        <p:spPr>
          <a:xfrm>
            <a:off x="2813040" y="2228760"/>
            <a:ext cx="1206360" cy="1231920"/>
          </a:xfrm>
          <a:prstGeom prst="rect">
            <a:avLst/>
          </a:prstGeom>
          <a:ln w="0">
            <a:noFill/>
          </a:ln>
        </p:spPr>
      </p:pic>
      <p:pic>
        <p:nvPicPr>
          <p:cNvPr id="1538" name="Picture 9" descr=""/>
          <p:cNvPicPr/>
          <p:nvPr/>
        </p:nvPicPr>
        <p:blipFill>
          <a:blip r:embed="rId3"/>
          <a:stretch/>
        </p:blipFill>
        <p:spPr>
          <a:xfrm>
            <a:off x="952560" y="4235400"/>
            <a:ext cx="1193760" cy="1206720"/>
          </a:xfrm>
          <a:prstGeom prst="rect">
            <a:avLst/>
          </a:prstGeom>
          <a:ln w="0">
            <a:noFill/>
          </a:ln>
        </p:spPr>
      </p:pic>
      <p:pic>
        <p:nvPicPr>
          <p:cNvPr id="1539" name="Picture 10" descr=""/>
          <p:cNvPicPr/>
          <p:nvPr/>
        </p:nvPicPr>
        <p:blipFill>
          <a:blip r:embed="rId4"/>
          <a:stretch/>
        </p:blipFill>
        <p:spPr>
          <a:xfrm>
            <a:off x="2603520" y="4273560"/>
            <a:ext cx="1422360" cy="1130400"/>
          </a:xfrm>
          <a:prstGeom prst="rect">
            <a:avLst/>
          </a:prstGeom>
          <a:ln w="0">
            <a:noFill/>
          </a:ln>
        </p:spPr>
      </p:pic>
      <p:pic>
        <p:nvPicPr>
          <p:cNvPr id="1540" name="Picture 11" descr=""/>
          <p:cNvPicPr/>
          <p:nvPr/>
        </p:nvPicPr>
        <p:blipFill>
          <a:blip r:embed="rId5"/>
          <a:stretch/>
        </p:blipFill>
        <p:spPr>
          <a:xfrm>
            <a:off x="5778360" y="2260440"/>
            <a:ext cx="1473480" cy="1473480"/>
          </a:xfrm>
          <a:prstGeom prst="rect">
            <a:avLst/>
          </a:prstGeom>
          <a:ln w="0">
            <a:noFill/>
          </a:ln>
        </p:spPr>
      </p:pic>
      <p:pic>
        <p:nvPicPr>
          <p:cNvPr id="1541" name="Picture 12" descr=""/>
          <p:cNvPicPr/>
          <p:nvPr/>
        </p:nvPicPr>
        <p:blipFill>
          <a:blip r:embed="rId6"/>
          <a:stretch/>
        </p:blipFill>
        <p:spPr>
          <a:xfrm>
            <a:off x="5207040" y="4108320"/>
            <a:ext cx="2006640" cy="1409760"/>
          </a:xfrm>
          <a:prstGeom prst="rect">
            <a:avLst/>
          </a:prstGeom>
          <a:ln w="0">
            <a:noFill/>
          </a:ln>
        </p:spPr>
      </p:pic>
      <p:sp>
        <p:nvSpPr>
          <p:cNvPr id="1542" name="Text Box 13"/>
          <p:cNvSpPr/>
          <p:nvPr/>
        </p:nvSpPr>
        <p:spPr>
          <a:xfrm>
            <a:off x="1413360" y="1168560"/>
            <a:ext cx="193608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odoni SvtyTwo ITC TT-Book"/>
              </a:rPr>
              <a:t>Angles</a:t>
            </a:r>
            <a:endParaRPr b="0" lang="en-US" sz="48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543" name="Text Box 14"/>
          <p:cNvSpPr/>
          <p:nvPr/>
        </p:nvSpPr>
        <p:spPr>
          <a:xfrm>
            <a:off x="5124240" y="1143000"/>
            <a:ext cx="28584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odoni SvtyTwo ITC TT-Book"/>
              </a:rPr>
              <a:t>Segments</a:t>
            </a:r>
            <a:endParaRPr b="0" lang="en-US" sz="48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544" name="Line 15"/>
          <p:cNvSpPr/>
          <p:nvPr/>
        </p:nvSpPr>
        <p:spPr>
          <a:xfrm>
            <a:off x="4749840" y="977760"/>
            <a:ext cx="0" cy="511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5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546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547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548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549" name="Freeform 5"/>
          <p:cNvSpPr/>
          <p:nvPr/>
        </p:nvSpPr>
        <p:spPr>
          <a:xfrm>
            <a:off x="546120" y="1015920"/>
            <a:ext cx="1765440" cy="85104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10000"/>
                </a:lnTo>
                <a:lnTo>
                  <a:pt x="0" y="100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ffff66"/>
          </a:solidFill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550" name="Text Box 6"/>
          <p:cNvSpPr/>
          <p:nvPr/>
        </p:nvSpPr>
        <p:spPr>
          <a:xfrm>
            <a:off x="511200" y="3240"/>
            <a:ext cx="7655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Circle Formula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551" name="Line 7"/>
          <p:cNvSpPr/>
          <p:nvPr/>
        </p:nvSpPr>
        <p:spPr>
          <a:xfrm>
            <a:off x="574560" y="98100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552" name="Text Box 8"/>
          <p:cNvSpPr/>
          <p:nvPr/>
        </p:nvSpPr>
        <p:spPr>
          <a:xfrm>
            <a:off x="448200" y="1069920"/>
            <a:ext cx="193608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odoni SvtyTwo ITC TT-Book"/>
              </a:rPr>
              <a:t>Angles</a:t>
            </a:r>
            <a:endParaRPr b="0" lang="en-US" sz="48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1553" name="Picture 9" descr=""/>
          <p:cNvPicPr/>
          <p:nvPr/>
        </p:nvPicPr>
        <p:blipFill>
          <a:blip r:embed="rId1"/>
          <a:stretch/>
        </p:blipFill>
        <p:spPr>
          <a:xfrm>
            <a:off x="615960" y="3130560"/>
            <a:ext cx="3187800" cy="2908440"/>
          </a:xfrm>
          <a:prstGeom prst="rect">
            <a:avLst/>
          </a:prstGeom>
          <a:ln w="0">
            <a:noFill/>
          </a:ln>
        </p:spPr>
      </p:pic>
      <p:sp>
        <p:nvSpPr>
          <p:cNvPr id="1554" name="Text Box 10"/>
          <p:cNvSpPr/>
          <p:nvPr/>
        </p:nvSpPr>
        <p:spPr>
          <a:xfrm>
            <a:off x="2413080" y="1174680"/>
            <a:ext cx="5715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doni SvtyTwo ITC TT-Book"/>
              </a:rPr>
              <a:t>Name the type of angle .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5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556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557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558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559" name="Freeform 5"/>
          <p:cNvSpPr/>
          <p:nvPr/>
        </p:nvSpPr>
        <p:spPr>
          <a:xfrm>
            <a:off x="555480" y="1015920"/>
            <a:ext cx="1765440" cy="85104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10000"/>
                </a:lnTo>
                <a:lnTo>
                  <a:pt x="0" y="100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ffff66"/>
          </a:solidFill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560" name="Text Box 6"/>
          <p:cNvSpPr/>
          <p:nvPr/>
        </p:nvSpPr>
        <p:spPr>
          <a:xfrm>
            <a:off x="507960" y="3240"/>
            <a:ext cx="7655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Circle Formula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561" name="Line 7"/>
          <p:cNvSpPr/>
          <p:nvPr/>
        </p:nvSpPr>
        <p:spPr>
          <a:xfrm>
            <a:off x="571680" y="981000"/>
            <a:ext cx="758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562" name="Text Box 8"/>
          <p:cNvSpPr/>
          <p:nvPr/>
        </p:nvSpPr>
        <p:spPr>
          <a:xfrm>
            <a:off x="457560" y="1069920"/>
            <a:ext cx="193608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odoni SvtyTwo ITC TT-Book"/>
              </a:rPr>
              <a:t>Angles</a:t>
            </a:r>
            <a:endParaRPr b="0" lang="en-US" sz="48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1563" name="Picture 9" descr=""/>
          <p:cNvPicPr/>
          <p:nvPr/>
        </p:nvPicPr>
        <p:blipFill>
          <a:blip r:embed="rId1"/>
          <a:stretch/>
        </p:blipFill>
        <p:spPr>
          <a:xfrm>
            <a:off x="612720" y="3130560"/>
            <a:ext cx="3187800" cy="2908440"/>
          </a:xfrm>
          <a:prstGeom prst="rect">
            <a:avLst/>
          </a:prstGeom>
          <a:ln w="0">
            <a:noFill/>
          </a:ln>
        </p:spPr>
      </p:pic>
      <p:sp>
        <p:nvSpPr>
          <p:cNvPr id="1564" name="Text Box 10"/>
          <p:cNvSpPr/>
          <p:nvPr/>
        </p:nvSpPr>
        <p:spPr>
          <a:xfrm>
            <a:off x="2422440" y="1174680"/>
            <a:ext cx="5715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doni SvtyTwo ITC TT-Book"/>
              </a:rPr>
              <a:t>Name the type of angle .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1565" name="Picture 11" descr=""/>
          <p:cNvPicPr/>
          <p:nvPr/>
        </p:nvPicPr>
        <p:blipFill>
          <a:blip r:embed="rId2"/>
          <a:stretch/>
        </p:blipFill>
        <p:spPr>
          <a:xfrm>
            <a:off x="600120" y="2044800"/>
            <a:ext cx="4736880" cy="990360"/>
          </a:xfrm>
          <a:prstGeom prst="rect">
            <a:avLst/>
          </a:prstGeom>
          <a:ln w="0">
            <a:noFill/>
          </a:ln>
        </p:spPr>
      </p:pic>
      <p:sp>
        <p:nvSpPr>
          <p:cNvPr id="1566" name="Freeform 12"/>
          <p:cNvSpPr/>
          <p:nvPr/>
        </p:nvSpPr>
        <p:spPr>
          <a:xfrm>
            <a:off x="4025880" y="2146320"/>
            <a:ext cx="1841400" cy="97776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10000"/>
                </a:lnTo>
                <a:lnTo>
                  <a:pt x="0" y="100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31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32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33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34" name="Text Box 5"/>
          <p:cNvSpPr/>
          <p:nvPr/>
        </p:nvSpPr>
        <p:spPr>
          <a:xfrm>
            <a:off x="479520" y="101520"/>
            <a:ext cx="325116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Formulas: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606600" y="1523880"/>
            <a:ext cx="223488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Slope</a:t>
            </a: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  </a:t>
            </a:r>
            <a:r>
              <a:rPr b="1" lang="en-US" sz="4900" spc="-1" strike="noStrike">
                <a:solidFill>
                  <a:srgbClr val="000000"/>
                </a:solidFill>
                <a:latin typeface="Bodoni SvtyTwo ITC TT-Book"/>
              </a:rPr>
              <a:t>=</a:t>
            </a:r>
            <a:r>
              <a:rPr b="0" lang="en-US" sz="4900" spc="-1" strike="noStrike">
                <a:solidFill>
                  <a:srgbClr val="000000"/>
                </a:solidFill>
                <a:latin typeface="Bodoni SvtyTwo ITC TT-Book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595440" y="3187800"/>
            <a:ext cx="3440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Midpoint</a:t>
            </a: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 </a:t>
            </a:r>
            <a:r>
              <a:rPr b="1" lang="en-US" sz="4900" spc="-1" strike="noStrike">
                <a:solidFill>
                  <a:srgbClr val="000000"/>
                </a:solidFill>
                <a:latin typeface="Bodoni SvtyTwo ITC TT-Book"/>
              </a:rPr>
              <a:t>=</a:t>
            </a: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561960" y="4840200"/>
            <a:ext cx="296532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Distance</a:t>
            </a: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 </a:t>
            </a:r>
            <a:r>
              <a:rPr b="1" lang="en-US" sz="4900" spc="-1" strike="noStrike">
                <a:solidFill>
                  <a:srgbClr val="000000"/>
                </a:solidFill>
                <a:latin typeface="Bodoni SvtyTwo ITC TT-Book"/>
              </a:rPr>
              <a:t>=</a:t>
            </a: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8" name="Line 9"/>
          <p:cNvSpPr/>
          <p:nvPr/>
        </p:nvSpPr>
        <p:spPr>
          <a:xfrm>
            <a:off x="581040" y="107964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3527280" y="63360"/>
            <a:ext cx="462312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Bodoni SvtyTwo ITC TT-Book"/>
              </a:rPr>
              <a:t>for two points</a:t>
            </a:r>
            <a:endParaRPr b="0" lang="en-US" sz="3000" spc="-1" strike="noStrike">
              <a:solidFill>
                <a:srgbClr val="000000"/>
              </a:solidFill>
              <a:latin typeface="Bodoni SvtyTwo ITC TT-Book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doni SvtyTwo ITC TT-Book"/>
              </a:rPr>
              <a:t>(X</a:t>
            </a:r>
            <a:r>
              <a:rPr b="0" lang="en-US" sz="4500" spc="-1" strike="noStrike" baseline="-33000">
                <a:solidFill>
                  <a:srgbClr val="000000"/>
                </a:solidFill>
                <a:latin typeface="Bodoni SvtyTwo ITC TT-Book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Bodoni SvtyTwo ITC TT-Book"/>
              </a:rPr>
              <a:t>  ,  Y</a:t>
            </a:r>
            <a:r>
              <a:rPr b="0" lang="en-US" sz="4500" spc="-1" strike="noStrike" baseline="-33000">
                <a:solidFill>
                  <a:srgbClr val="000000"/>
                </a:solidFill>
                <a:latin typeface="Bodoni SvtyTwo ITC TT-Book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Bodoni SvtyTwo ITC TT-Book"/>
              </a:rPr>
              <a:t>  )   </a:t>
            </a:r>
            <a:r>
              <a:rPr b="0" i="1" lang="en-US" sz="3000" spc="-1" strike="noStrike">
                <a:solidFill>
                  <a:srgbClr val="000000"/>
                </a:solidFill>
                <a:latin typeface="Bodoni SvtyTwo ITC TT-Book"/>
              </a:rPr>
              <a:t>and</a:t>
            </a:r>
            <a:r>
              <a:rPr b="0" lang="en-US" sz="3000" spc="-1" strike="noStrike">
                <a:solidFill>
                  <a:srgbClr val="000000"/>
                </a:solidFill>
                <a:latin typeface="Bodoni SvtyTwo ITC TT-Book"/>
              </a:rPr>
              <a:t>  ( X</a:t>
            </a:r>
            <a:r>
              <a:rPr b="0" lang="en-US" sz="4500" spc="-1" strike="noStrike" baseline="-33000">
                <a:solidFill>
                  <a:srgbClr val="000000"/>
                </a:solidFill>
                <a:latin typeface="Bodoni SvtyTwo ITC TT-Book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Bodoni SvtyTwo ITC TT-Book"/>
              </a:rPr>
              <a:t>  ,  Y</a:t>
            </a:r>
            <a:r>
              <a:rPr b="0" lang="en-US" sz="4500" spc="-1" strike="noStrike" baseline="-33000">
                <a:solidFill>
                  <a:srgbClr val="000000"/>
                </a:solidFill>
                <a:latin typeface="Bodoni SvtyTwo ITC TT-Book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Bodoni SvtyTwo ITC TT-Book"/>
              </a:rPr>
              <a:t>  )</a:t>
            </a:r>
            <a:endParaRPr b="0" lang="en-US" sz="3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140" name="Picture 11" descr=""/>
          <p:cNvPicPr/>
          <p:nvPr/>
        </p:nvPicPr>
        <p:blipFill>
          <a:blip r:embed="rId1"/>
          <a:stretch/>
        </p:blipFill>
        <p:spPr>
          <a:xfrm>
            <a:off x="3146400" y="1314360"/>
            <a:ext cx="1778040" cy="14097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7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568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569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570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571" name="Freeform 5"/>
          <p:cNvSpPr/>
          <p:nvPr/>
        </p:nvSpPr>
        <p:spPr>
          <a:xfrm>
            <a:off x="555480" y="1015920"/>
            <a:ext cx="1765440" cy="85104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10000"/>
                </a:lnTo>
                <a:lnTo>
                  <a:pt x="0" y="100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ffff66"/>
          </a:solidFill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572" name="Text Box 6"/>
          <p:cNvSpPr/>
          <p:nvPr/>
        </p:nvSpPr>
        <p:spPr>
          <a:xfrm>
            <a:off x="507960" y="3240"/>
            <a:ext cx="7655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Circle Formula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573" name="Line 7"/>
          <p:cNvSpPr/>
          <p:nvPr/>
        </p:nvSpPr>
        <p:spPr>
          <a:xfrm>
            <a:off x="571680" y="981000"/>
            <a:ext cx="758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574" name="Text Box 8"/>
          <p:cNvSpPr/>
          <p:nvPr/>
        </p:nvSpPr>
        <p:spPr>
          <a:xfrm>
            <a:off x="457560" y="1069920"/>
            <a:ext cx="193608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odoni SvtyTwo ITC TT-Book"/>
              </a:rPr>
              <a:t>Angles</a:t>
            </a:r>
            <a:endParaRPr b="0" lang="en-US" sz="48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1575" name="Picture 9" descr=""/>
          <p:cNvPicPr/>
          <p:nvPr/>
        </p:nvPicPr>
        <p:blipFill>
          <a:blip r:embed="rId1"/>
          <a:stretch/>
        </p:blipFill>
        <p:spPr>
          <a:xfrm>
            <a:off x="612720" y="3130560"/>
            <a:ext cx="3187800" cy="2908440"/>
          </a:xfrm>
          <a:prstGeom prst="rect">
            <a:avLst/>
          </a:prstGeom>
          <a:ln w="0">
            <a:noFill/>
          </a:ln>
        </p:spPr>
      </p:pic>
      <p:sp>
        <p:nvSpPr>
          <p:cNvPr id="1576" name="Text Box 10"/>
          <p:cNvSpPr/>
          <p:nvPr/>
        </p:nvSpPr>
        <p:spPr>
          <a:xfrm>
            <a:off x="2422440" y="1174680"/>
            <a:ext cx="5715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doni SvtyTwo ITC TT-Book"/>
              </a:rPr>
              <a:t>What is the formula?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1577" name="Picture 11" descr=""/>
          <p:cNvPicPr/>
          <p:nvPr/>
        </p:nvPicPr>
        <p:blipFill>
          <a:blip r:embed="rId2"/>
          <a:stretch/>
        </p:blipFill>
        <p:spPr>
          <a:xfrm>
            <a:off x="600120" y="2044800"/>
            <a:ext cx="4736880" cy="990360"/>
          </a:xfrm>
          <a:prstGeom prst="rect">
            <a:avLst/>
          </a:prstGeom>
          <a:ln w="0">
            <a:noFill/>
          </a:ln>
        </p:spPr>
      </p:pic>
      <p:sp>
        <p:nvSpPr>
          <p:cNvPr id="1578" name="Freeform 12"/>
          <p:cNvSpPr/>
          <p:nvPr/>
        </p:nvSpPr>
        <p:spPr>
          <a:xfrm>
            <a:off x="4457880" y="2184480"/>
            <a:ext cx="1841400" cy="97776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10000"/>
                </a:lnTo>
                <a:lnTo>
                  <a:pt x="0" y="100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9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580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581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582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583" name="Freeform 5"/>
          <p:cNvSpPr/>
          <p:nvPr/>
        </p:nvSpPr>
        <p:spPr>
          <a:xfrm>
            <a:off x="555480" y="1015920"/>
            <a:ext cx="1765440" cy="85104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10000"/>
                </a:lnTo>
                <a:lnTo>
                  <a:pt x="0" y="100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ffff66"/>
          </a:solidFill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584" name="Text Box 6"/>
          <p:cNvSpPr/>
          <p:nvPr/>
        </p:nvSpPr>
        <p:spPr>
          <a:xfrm>
            <a:off x="507960" y="3240"/>
            <a:ext cx="7655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Circle Formula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585" name="Line 7"/>
          <p:cNvSpPr/>
          <p:nvPr/>
        </p:nvSpPr>
        <p:spPr>
          <a:xfrm>
            <a:off x="571680" y="981000"/>
            <a:ext cx="758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586" name="Text Box 8"/>
          <p:cNvSpPr/>
          <p:nvPr/>
        </p:nvSpPr>
        <p:spPr>
          <a:xfrm>
            <a:off x="457560" y="1069920"/>
            <a:ext cx="193608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odoni SvtyTwo ITC TT-Book"/>
              </a:rPr>
              <a:t>Angles</a:t>
            </a:r>
            <a:endParaRPr b="0" lang="en-US" sz="48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1587" name="Picture 9" descr=""/>
          <p:cNvPicPr/>
          <p:nvPr/>
        </p:nvPicPr>
        <p:blipFill>
          <a:blip r:embed="rId1"/>
          <a:stretch/>
        </p:blipFill>
        <p:spPr>
          <a:xfrm>
            <a:off x="612720" y="3130560"/>
            <a:ext cx="3187800" cy="2908440"/>
          </a:xfrm>
          <a:prstGeom prst="rect">
            <a:avLst/>
          </a:prstGeom>
          <a:ln w="0">
            <a:noFill/>
          </a:ln>
        </p:spPr>
      </p:pic>
      <p:pic>
        <p:nvPicPr>
          <p:cNvPr id="1588" name="Picture 10" descr=""/>
          <p:cNvPicPr/>
          <p:nvPr/>
        </p:nvPicPr>
        <p:blipFill>
          <a:blip r:embed="rId2"/>
          <a:stretch/>
        </p:blipFill>
        <p:spPr>
          <a:xfrm>
            <a:off x="4276800" y="4718160"/>
            <a:ext cx="3149640" cy="977760"/>
          </a:xfrm>
          <a:prstGeom prst="rect">
            <a:avLst/>
          </a:prstGeom>
          <a:ln w="0">
            <a:noFill/>
          </a:ln>
        </p:spPr>
      </p:pic>
      <p:pic>
        <p:nvPicPr>
          <p:cNvPr id="1589" name="Picture 11" descr=""/>
          <p:cNvPicPr/>
          <p:nvPr/>
        </p:nvPicPr>
        <p:blipFill>
          <a:blip r:embed="rId3"/>
          <a:stretch/>
        </p:blipFill>
        <p:spPr>
          <a:xfrm>
            <a:off x="600120" y="2044800"/>
            <a:ext cx="4736880" cy="990360"/>
          </a:xfrm>
          <a:prstGeom prst="rect">
            <a:avLst/>
          </a:prstGeom>
          <a:ln w="0">
            <a:noFill/>
          </a:ln>
        </p:spPr>
      </p:pic>
      <p:sp>
        <p:nvSpPr>
          <p:cNvPr id="1590" name="Text Box 12"/>
          <p:cNvSpPr/>
          <p:nvPr/>
        </p:nvSpPr>
        <p:spPr>
          <a:xfrm>
            <a:off x="2413080" y="1174680"/>
            <a:ext cx="5715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doni SvtyTwo ITC TT-Book"/>
              </a:rPr>
              <a:t>What is the formula?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1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592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593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594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595" name="Freeform 5"/>
          <p:cNvSpPr/>
          <p:nvPr/>
        </p:nvSpPr>
        <p:spPr>
          <a:xfrm>
            <a:off x="555480" y="1015920"/>
            <a:ext cx="1765440" cy="85104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10000"/>
                </a:lnTo>
                <a:lnTo>
                  <a:pt x="0" y="100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ffff66"/>
          </a:solidFill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596" name="Text Box 6"/>
          <p:cNvSpPr/>
          <p:nvPr/>
        </p:nvSpPr>
        <p:spPr>
          <a:xfrm>
            <a:off x="507960" y="3240"/>
            <a:ext cx="7655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Circle Formula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597" name="Line 7"/>
          <p:cNvSpPr/>
          <p:nvPr/>
        </p:nvSpPr>
        <p:spPr>
          <a:xfrm>
            <a:off x="571680" y="981000"/>
            <a:ext cx="758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598" name="Text Box 8"/>
          <p:cNvSpPr/>
          <p:nvPr/>
        </p:nvSpPr>
        <p:spPr>
          <a:xfrm>
            <a:off x="457560" y="1069920"/>
            <a:ext cx="193608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odoni SvtyTwo ITC TT-Book"/>
              </a:rPr>
              <a:t>Angles</a:t>
            </a:r>
            <a:endParaRPr b="0" lang="en-US" sz="48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599" name="Text Box 9"/>
          <p:cNvSpPr/>
          <p:nvPr/>
        </p:nvSpPr>
        <p:spPr>
          <a:xfrm>
            <a:off x="2413080" y="1174680"/>
            <a:ext cx="5715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doni SvtyTwo ITC TT-Book"/>
              </a:rPr>
              <a:t>Name the type of angle .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1600" name="Picture 10" descr=""/>
          <p:cNvPicPr/>
          <p:nvPr/>
        </p:nvPicPr>
        <p:blipFill>
          <a:blip r:embed="rId1"/>
          <a:stretch/>
        </p:blipFill>
        <p:spPr>
          <a:xfrm>
            <a:off x="704880" y="2120760"/>
            <a:ext cx="4336920" cy="401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1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602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603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604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605" name="Freeform 5"/>
          <p:cNvSpPr/>
          <p:nvPr/>
        </p:nvSpPr>
        <p:spPr>
          <a:xfrm>
            <a:off x="552600" y="1015920"/>
            <a:ext cx="1765080" cy="85104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10000"/>
                </a:lnTo>
                <a:lnTo>
                  <a:pt x="0" y="100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ffff66"/>
          </a:solidFill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606" name="Text Box 6"/>
          <p:cNvSpPr/>
          <p:nvPr/>
        </p:nvSpPr>
        <p:spPr>
          <a:xfrm>
            <a:off x="517680" y="3240"/>
            <a:ext cx="7654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Circle Formula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607" name="Line 7"/>
          <p:cNvSpPr/>
          <p:nvPr/>
        </p:nvSpPr>
        <p:spPr>
          <a:xfrm>
            <a:off x="568440" y="98100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608" name="Text Box 8"/>
          <p:cNvSpPr/>
          <p:nvPr/>
        </p:nvSpPr>
        <p:spPr>
          <a:xfrm>
            <a:off x="454320" y="1069920"/>
            <a:ext cx="193608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odoni SvtyTwo ITC TT-Book"/>
              </a:rPr>
              <a:t>Angles</a:t>
            </a:r>
            <a:endParaRPr b="0" lang="en-US" sz="48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609" name="Text Box 9"/>
          <p:cNvSpPr/>
          <p:nvPr/>
        </p:nvSpPr>
        <p:spPr>
          <a:xfrm>
            <a:off x="2422440" y="1174680"/>
            <a:ext cx="5715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doni SvtyTwo ITC TT-Book"/>
              </a:rPr>
              <a:t>Name the type of angle .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1610" name="Picture 10" descr=""/>
          <p:cNvPicPr/>
          <p:nvPr/>
        </p:nvPicPr>
        <p:blipFill>
          <a:blip r:embed="rId1"/>
          <a:stretch/>
        </p:blipFill>
        <p:spPr>
          <a:xfrm>
            <a:off x="581040" y="1670040"/>
            <a:ext cx="5969160" cy="1434960"/>
          </a:xfrm>
          <a:prstGeom prst="rect">
            <a:avLst/>
          </a:prstGeom>
          <a:ln w="0">
            <a:noFill/>
          </a:ln>
        </p:spPr>
      </p:pic>
      <p:pic>
        <p:nvPicPr>
          <p:cNvPr id="1611" name="Picture 11" descr=""/>
          <p:cNvPicPr/>
          <p:nvPr/>
        </p:nvPicPr>
        <p:blipFill>
          <a:blip r:embed="rId2"/>
          <a:stretch/>
        </p:blipFill>
        <p:spPr>
          <a:xfrm>
            <a:off x="701640" y="2120760"/>
            <a:ext cx="4336920" cy="4013280"/>
          </a:xfrm>
          <a:prstGeom prst="rect">
            <a:avLst/>
          </a:prstGeom>
          <a:ln w="0">
            <a:noFill/>
          </a:ln>
        </p:spPr>
      </p:pic>
      <p:sp>
        <p:nvSpPr>
          <p:cNvPr id="1612" name="Freeform 12"/>
          <p:cNvSpPr/>
          <p:nvPr/>
        </p:nvSpPr>
        <p:spPr>
          <a:xfrm>
            <a:off x="4432320" y="1790640"/>
            <a:ext cx="1994040" cy="12700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10000"/>
                </a:lnTo>
                <a:lnTo>
                  <a:pt x="0" y="100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3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614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615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616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617" name="Freeform 5"/>
          <p:cNvSpPr/>
          <p:nvPr/>
        </p:nvSpPr>
        <p:spPr>
          <a:xfrm>
            <a:off x="552600" y="1015920"/>
            <a:ext cx="1765080" cy="85104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10000"/>
                </a:lnTo>
                <a:lnTo>
                  <a:pt x="0" y="100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ffff66"/>
          </a:solidFill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618" name="Text Box 6"/>
          <p:cNvSpPr/>
          <p:nvPr/>
        </p:nvSpPr>
        <p:spPr>
          <a:xfrm>
            <a:off x="517680" y="3240"/>
            <a:ext cx="7654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Circle Formula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619" name="Line 7"/>
          <p:cNvSpPr/>
          <p:nvPr/>
        </p:nvSpPr>
        <p:spPr>
          <a:xfrm>
            <a:off x="568440" y="98100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620" name="Text Box 8"/>
          <p:cNvSpPr/>
          <p:nvPr/>
        </p:nvSpPr>
        <p:spPr>
          <a:xfrm>
            <a:off x="454320" y="1069920"/>
            <a:ext cx="193608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odoni SvtyTwo ITC TT-Book"/>
              </a:rPr>
              <a:t>Angles</a:t>
            </a:r>
            <a:endParaRPr b="0" lang="en-US" sz="48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621" name="Text Box 9"/>
          <p:cNvSpPr/>
          <p:nvPr/>
        </p:nvSpPr>
        <p:spPr>
          <a:xfrm>
            <a:off x="2422440" y="1174680"/>
            <a:ext cx="5715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doni SvtyTwo ITC TT-Book"/>
              </a:rPr>
              <a:t>What is the formula?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1622" name="Picture 10" descr=""/>
          <p:cNvPicPr/>
          <p:nvPr/>
        </p:nvPicPr>
        <p:blipFill>
          <a:blip r:embed="rId1"/>
          <a:stretch/>
        </p:blipFill>
        <p:spPr>
          <a:xfrm>
            <a:off x="581040" y="1670040"/>
            <a:ext cx="5969160" cy="1434960"/>
          </a:xfrm>
          <a:prstGeom prst="rect">
            <a:avLst/>
          </a:prstGeom>
          <a:ln w="0">
            <a:noFill/>
          </a:ln>
        </p:spPr>
      </p:pic>
      <p:pic>
        <p:nvPicPr>
          <p:cNvPr id="1623" name="Picture 11" descr=""/>
          <p:cNvPicPr/>
          <p:nvPr/>
        </p:nvPicPr>
        <p:blipFill>
          <a:blip r:embed="rId2"/>
          <a:stretch/>
        </p:blipFill>
        <p:spPr>
          <a:xfrm>
            <a:off x="701640" y="2120760"/>
            <a:ext cx="4336920" cy="4013280"/>
          </a:xfrm>
          <a:prstGeom prst="rect">
            <a:avLst/>
          </a:prstGeom>
          <a:ln w="0">
            <a:noFill/>
          </a:ln>
        </p:spPr>
      </p:pic>
      <p:sp>
        <p:nvSpPr>
          <p:cNvPr id="1624" name="Freeform 12"/>
          <p:cNvSpPr/>
          <p:nvPr/>
        </p:nvSpPr>
        <p:spPr>
          <a:xfrm>
            <a:off x="4889520" y="1778040"/>
            <a:ext cx="1994040" cy="12700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10000"/>
                </a:lnTo>
                <a:lnTo>
                  <a:pt x="0" y="100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5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626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627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628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629" name="Freeform 5"/>
          <p:cNvSpPr/>
          <p:nvPr/>
        </p:nvSpPr>
        <p:spPr>
          <a:xfrm>
            <a:off x="565200" y="1015920"/>
            <a:ext cx="1765080" cy="85104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10000"/>
                </a:lnTo>
                <a:lnTo>
                  <a:pt x="0" y="100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ffff66"/>
          </a:solidFill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630" name="Text Box 6"/>
          <p:cNvSpPr/>
          <p:nvPr/>
        </p:nvSpPr>
        <p:spPr>
          <a:xfrm>
            <a:off x="517680" y="3240"/>
            <a:ext cx="7654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Circle Formula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631" name="Line 7"/>
          <p:cNvSpPr/>
          <p:nvPr/>
        </p:nvSpPr>
        <p:spPr>
          <a:xfrm>
            <a:off x="568440" y="98100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632" name="Text Box 8"/>
          <p:cNvSpPr/>
          <p:nvPr/>
        </p:nvSpPr>
        <p:spPr>
          <a:xfrm>
            <a:off x="467280" y="1069920"/>
            <a:ext cx="193608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odoni SvtyTwo ITC TT-Book"/>
              </a:rPr>
              <a:t>Angles</a:t>
            </a:r>
            <a:endParaRPr b="0" lang="en-US" sz="48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633" name="Text Box 9"/>
          <p:cNvSpPr/>
          <p:nvPr/>
        </p:nvSpPr>
        <p:spPr>
          <a:xfrm>
            <a:off x="2422440" y="1174680"/>
            <a:ext cx="5715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doni SvtyTwo ITC TT-Book"/>
              </a:rPr>
              <a:t>What is the formula?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1634" name="Picture 10" descr=""/>
          <p:cNvPicPr/>
          <p:nvPr/>
        </p:nvPicPr>
        <p:blipFill>
          <a:blip r:embed="rId1"/>
          <a:stretch/>
        </p:blipFill>
        <p:spPr>
          <a:xfrm>
            <a:off x="581040" y="1670040"/>
            <a:ext cx="5969160" cy="1434960"/>
          </a:xfrm>
          <a:prstGeom prst="rect">
            <a:avLst/>
          </a:prstGeom>
          <a:ln w="0">
            <a:noFill/>
          </a:ln>
        </p:spPr>
      </p:pic>
      <p:pic>
        <p:nvPicPr>
          <p:cNvPr id="1635" name="Picture 11" descr=""/>
          <p:cNvPicPr/>
          <p:nvPr/>
        </p:nvPicPr>
        <p:blipFill>
          <a:blip r:embed="rId2"/>
          <a:stretch/>
        </p:blipFill>
        <p:spPr>
          <a:xfrm>
            <a:off x="4321080" y="4756320"/>
            <a:ext cx="3721320" cy="1130040"/>
          </a:xfrm>
          <a:prstGeom prst="rect">
            <a:avLst/>
          </a:prstGeom>
          <a:ln w="0">
            <a:noFill/>
          </a:ln>
        </p:spPr>
      </p:pic>
      <p:pic>
        <p:nvPicPr>
          <p:cNvPr id="1636" name="Picture 12" descr=""/>
          <p:cNvPicPr/>
          <p:nvPr/>
        </p:nvPicPr>
        <p:blipFill>
          <a:blip r:embed="rId3"/>
          <a:stretch/>
        </p:blipFill>
        <p:spPr>
          <a:xfrm>
            <a:off x="701640" y="2120760"/>
            <a:ext cx="4336920" cy="401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7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638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639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640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641" name="Text Box 5"/>
          <p:cNvSpPr/>
          <p:nvPr/>
        </p:nvSpPr>
        <p:spPr>
          <a:xfrm>
            <a:off x="507960" y="3240"/>
            <a:ext cx="7655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Circle Formula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642" name="Line 6"/>
          <p:cNvSpPr/>
          <p:nvPr/>
        </p:nvSpPr>
        <p:spPr>
          <a:xfrm>
            <a:off x="571680" y="981000"/>
            <a:ext cx="758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grpSp>
        <p:nvGrpSpPr>
          <p:cNvPr id="1643" name="Group 7"/>
          <p:cNvGrpSpPr/>
          <p:nvPr/>
        </p:nvGrpSpPr>
        <p:grpSpPr>
          <a:xfrm>
            <a:off x="470160" y="1015920"/>
            <a:ext cx="1936080" cy="851040"/>
            <a:chOff x="470160" y="1015920"/>
            <a:chExt cx="1936080" cy="851040"/>
          </a:xfrm>
        </p:grpSpPr>
        <p:sp>
          <p:nvSpPr>
            <p:cNvPr id="1644" name="Freeform 8"/>
            <p:cNvSpPr/>
            <p:nvPr/>
          </p:nvSpPr>
          <p:spPr>
            <a:xfrm>
              <a:off x="568440" y="1015920"/>
              <a:ext cx="1765080" cy="8510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ffff66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645" name="Text Box 9"/>
            <p:cNvSpPr/>
            <p:nvPr/>
          </p:nvSpPr>
          <p:spPr>
            <a:xfrm>
              <a:off x="470160" y="1069920"/>
              <a:ext cx="193608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Bodoni SvtyTwo ITC TT-Book"/>
                </a:rPr>
                <a:t>Angles</a:t>
              </a:r>
              <a:endParaRPr b="0" lang="en-US" sz="48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</p:grpSp>
      <p:sp>
        <p:nvSpPr>
          <p:cNvPr id="1646" name="Text Box 10"/>
          <p:cNvSpPr/>
          <p:nvPr/>
        </p:nvSpPr>
        <p:spPr>
          <a:xfrm>
            <a:off x="2425680" y="1174680"/>
            <a:ext cx="5715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doni SvtyTwo ITC TT-Book"/>
              </a:rPr>
              <a:t>Name the type of angle .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1647" name="Picture 11" descr=""/>
          <p:cNvPicPr/>
          <p:nvPr/>
        </p:nvPicPr>
        <p:blipFill>
          <a:blip r:embed="rId1"/>
          <a:stretch/>
        </p:blipFill>
        <p:spPr>
          <a:xfrm>
            <a:off x="635040" y="2394000"/>
            <a:ext cx="3022560" cy="389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8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649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650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651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652" name="Text Box 5"/>
          <p:cNvSpPr/>
          <p:nvPr/>
        </p:nvSpPr>
        <p:spPr>
          <a:xfrm>
            <a:off x="517680" y="3240"/>
            <a:ext cx="7654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Circle Formula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653" name="Line 6"/>
          <p:cNvSpPr/>
          <p:nvPr/>
        </p:nvSpPr>
        <p:spPr>
          <a:xfrm>
            <a:off x="568440" y="98100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grpSp>
        <p:nvGrpSpPr>
          <p:cNvPr id="1654" name="Group 7"/>
          <p:cNvGrpSpPr/>
          <p:nvPr/>
        </p:nvGrpSpPr>
        <p:grpSpPr>
          <a:xfrm>
            <a:off x="466920" y="1015920"/>
            <a:ext cx="1936080" cy="851040"/>
            <a:chOff x="466920" y="1015920"/>
            <a:chExt cx="1936080" cy="851040"/>
          </a:xfrm>
        </p:grpSpPr>
        <p:sp>
          <p:nvSpPr>
            <p:cNvPr id="1655" name="Freeform 8"/>
            <p:cNvSpPr/>
            <p:nvPr/>
          </p:nvSpPr>
          <p:spPr>
            <a:xfrm>
              <a:off x="565200" y="1015920"/>
              <a:ext cx="1765080" cy="8510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ffff66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656" name="Text Box 9"/>
            <p:cNvSpPr/>
            <p:nvPr/>
          </p:nvSpPr>
          <p:spPr>
            <a:xfrm>
              <a:off x="466920" y="1069920"/>
              <a:ext cx="193608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Bodoni SvtyTwo ITC TT-Book"/>
                </a:rPr>
                <a:t>Angles</a:t>
              </a:r>
              <a:endParaRPr b="0" lang="en-US" sz="48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</p:grpSp>
      <p:sp>
        <p:nvSpPr>
          <p:cNvPr id="1657" name="Text Box 10"/>
          <p:cNvSpPr/>
          <p:nvPr/>
        </p:nvSpPr>
        <p:spPr>
          <a:xfrm>
            <a:off x="2435400" y="1174680"/>
            <a:ext cx="5715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doni SvtyTwo ITC TT-Book"/>
              </a:rPr>
              <a:t>Name the type of angle .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1658" name="Picture 11" descr=""/>
          <p:cNvPicPr/>
          <p:nvPr/>
        </p:nvPicPr>
        <p:blipFill>
          <a:blip r:embed="rId1"/>
          <a:stretch/>
        </p:blipFill>
        <p:spPr>
          <a:xfrm>
            <a:off x="587520" y="1568520"/>
            <a:ext cx="6819840" cy="1536480"/>
          </a:xfrm>
          <a:prstGeom prst="rect">
            <a:avLst/>
          </a:prstGeom>
          <a:ln w="0">
            <a:noFill/>
          </a:ln>
        </p:spPr>
      </p:pic>
      <p:pic>
        <p:nvPicPr>
          <p:cNvPr id="1659" name="Picture 12" descr=""/>
          <p:cNvPicPr/>
          <p:nvPr/>
        </p:nvPicPr>
        <p:blipFill>
          <a:blip r:embed="rId2"/>
          <a:stretch/>
        </p:blipFill>
        <p:spPr>
          <a:xfrm>
            <a:off x="644400" y="2394000"/>
            <a:ext cx="3022560" cy="3898800"/>
          </a:xfrm>
          <a:prstGeom prst="rect">
            <a:avLst/>
          </a:prstGeom>
          <a:ln w="0">
            <a:noFill/>
          </a:ln>
        </p:spPr>
      </p:pic>
      <p:sp>
        <p:nvSpPr>
          <p:cNvPr id="1660" name="Freeform 13"/>
          <p:cNvSpPr/>
          <p:nvPr/>
        </p:nvSpPr>
        <p:spPr>
          <a:xfrm>
            <a:off x="4102200" y="1803240"/>
            <a:ext cx="3301920" cy="140976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10000"/>
                </a:lnTo>
                <a:lnTo>
                  <a:pt x="0" y="100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1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662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663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664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665" name="Text Box 5"/>
          <p:cNvSpPr/>
          <p:nvPr/>
        </p:nvSpPr>
        <p:spPr>
          <a:xfrm>
            <a:off x="517680" y="3240"/>
            <a:ext cx="7654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Circle Formula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666" name="Line 6"/>
          <p:cNvSpPr/>
          <p:nvPr/>
        </p:nvSpPr>
        <p:spPr>
          <a:xfrm>
            <a:off x="568440" y="98100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grpSp>
        <p:nvGrpSpPr>
          <p:cNvPr id="1667" name="Group 7"/>
          <p:cNvGrpSpPr/>
          <p:nvPr/>
        </p:nvGrpSpPr>
        <p:grpSpPr>
          <a:xfrm>
            <a:off x="466920" y="1015920"/>
            <a:ext cx="1936080" cy="851040"/>
            <a:chOff x="466920" y="1015920"/>
            <a:chExt cx="1936080" cy="851040"/>
          </a:xfrm>
        </p:grpSpPr>
        <p:sp>
          <p:nvSpPr>
            <p:cNvPr id="1668" name="Freeform 8"/>
            <p:cNvSpPr/>
            <p:nvPr/>
          </p:nvSpPr>
          <p:spPr>
            <a:xfrm>
              <a:off x="565200" y="1015920"/>
              <a:ext cx="1765080" cy="8510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ffff66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669" name="Text Box 9"/>
            <p:cNvSpPr/>
            <p:nvPr/>
          </p:nvSpPr>
          <p:spPr>
            <a:xfrm>
              <a:off x="466920" y="1069920"/>
              <a:ext cx="193608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Bodoni SvtyTwo ITC TT-Book"/>
                </a:rPr>
                <a:t>Angles</a:t>
              </a:r>
              <a:endParaRPr b="0" lang="en-US" sz="48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</p:grpSp>
      <p:sp>
        <p:nvSpPr>
          <p:cNvPr id="1670" name="Text Box 10"/>
          <p:cNvSpPr/>
          <p:nvPr/>
        </p:nvSpPr>
        <p:spPr>
          <a:xfrm>
            <a:off x="2435400" y="1174680"/>
            <a:ext cx="5715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doni SvtyTwo ITC TT-Book"/>
              </a:rPr>
              <a:t>What is the formula?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1671" name="Picture 11" descr=""/>
          <p:cNvPicPr/>
          <p:nvPr/>
        </p:nvPicPr>
        <p:blipFill>
          <a:blip r:embed="rId1"/>
          <a:stretch/>
        </p:blipFill>
        <p:spPr>
          <a:xfrm>
            <a:off x="587520" y="1568520"/>
            <a:ext cx="6819840" cy="1536480"/>
          </a:xfrm>
          <a:prstGeom prst="rect">
            <a:avLst/>
          </a:prstGeom>
          <a:ln w="0">
            <a:noFill/>
          </a:ln>
        </p:spPr>
      </p:pic>
      <p:pic>
        <p:nvPicPr>
          <p:cNvPr id="1672" name="Picture 12" descr=""/>
          <p:cNvPicPr/>
          <p:nvPr/>
        </p:nvPicPr>
        <p:blipFill>
          <a:blip r:embed="rId2"/>
          <a:stretch/>
        </p:blipFill>
        <p:spPr>
          <a:xfrm>
            <a:off x="644400" y="2394000"/>
            <a:ext cx="3022560" cy="3898800"/>
          </a:xfrm>
          <a:prstGeom prst="rect">
            <a:avLst/>
          </a:prstGeom>
          <a:ln w="0">
            <a:noFill/>
          </a:ln>
        </p:spPr>
      </p:pic>
      <p:sp>
        <p:nvSpPr>
          <p:cNvPr id="1673" name="Freeform 13"/>
          <p:cNvSpPr/>
          <p:nvPr/>
        </p:nvSpPr>
        <p:spPr>
          <a:xfrm>
            <a:off x="4470480" y="1797120"/>
            <a:ext cx="3301920" cy="140976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10000"/>
                </a:lnTo>
                <a:lnTo>
                  <a:pt x="0" y="100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4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675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676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677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678" name="Text Box 5"/>
          <p:cNvSpPr/>
          <p:nvPr/>
        </p:nvSpPr>
        <p:spPr>
          <a:xfrm>
            <a:off x="517680" y="3240"/>
            <a:ext cx="7654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Circle Formula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679" name="Line 6"/>
          <p:cNvSpPr/>
          <p:nvPr/>
        </p:nvSpPr>
        <p:spPr>
          <a:xfrm>
            <a:off x="568440" y="98100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grpSp>
        <p:nvGrpSpPr>
          <p:cNvPr id="1680" name="Group 7"/>
          <p:cNvGrpSpPr/>
          <p:nvPr/>
        </p:nvGrpSpPr>
        <p:grpSpPr>
          <a:xfrm>
            <a:off x="466920" y="1015920"/>
            <a:ext cx="1936080" cy="851040"/>
            <a:chOff x="466920" y="1015920"/>
            <a:chExt cx="1936080" cy="851040"/>
          </a:xfrm>
        </p:grpSpPr>
        <p:sp>
          <p:nvSpPr>
            <p:cNvPr id="1681" name="Freeform 8"/>
            <p:cNvSpPr/>
            <p:nvPr/>
          </p:nvSpPr>
          <p:spPr>
            <a:xfrm>
              <a:off x="565200" y="1015920"/>
              <a:ext cx="1765080" cy="8510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ffff66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682" name="Text Box 9"/>
            <p:cNvSpPr/>
            <p:nvPr/>
          </p:nvSpPr>
          <p:spPr>
            <a:xfrm>
              <a:off x="466920" y="1069920"/>
              <a:ext cx="193608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Bodoni SvtyTwo ITC TT-Book"/>
                </a:rPr>
                <a:t>Angles</a:t>
              </a:r>
              <a:endParaRPr b="0" lang="en-US" sz="48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</p:grpSp>
      <p:sp>
        <p:nvSpPr>
          <p:cNvPr id="1683" name="Text Box 10"/>
          <p:cNvSpPr/>
          <p:nvPr/>
        </p:nvSpPr>
        <p:spPr>
          <a:xfrm>
            <a:off x="2435400" y="1174680"/>
            <a:ext cx="5715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doni SvtyTwo ITC TT-Book"/>
              </a:rPr>
              <a:t>What is the formula?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1684" name="Picture 11" descr=""/>
          <p:cNvPicPr/>
          <p:nvPr/>
        </p:nvPicPr>
        <p:blipFill>
          <a:blip r:embed="rId1"/>
          <a:stretch/>
        </p:blipFill>
        <p:spPr>
          <a:xfrm>
            <a:off x="587520" y="1568520"/>
            <a:ext cx="6819840" cy="1536480"/>
          </a:xfrm>
          <a:prstGeom prst="rect">
            <a:avLst/>
          </a:prstGeom>
          <a:ln w="0">
            <a:noFill/>
          </a:ln>
        </p:spPr>
      </p:pic>
      <p:pic>
        <p:nvPicPr>
          <p:cNvPr id="1685" name="Picture 12" descr=""/>
          <p:cNvPicPr/>
          <p:nvPr/>
        </p:nvPicPr>
        <p:blipFill>
          <a:blip r:embed="rId2"/>
          <a:stretch/>
        </p:blipFill>
        <p:spPr>
          <a:xfrm>
            <a:off x="3387600" y="4807080"/>
            <a:ext cx="4699080" cy="1130040"/>
          </a:xfrm>
          <a:prstGeom prst="rect">
            <a:avLst/>
          </a:prstGeom>
          <a:ln w="0">
            <a:noFill/>
          </a:ln>
        </p:spPr>
      </p:pic>
      <p:pic>
        <p:nvPicPr>
          <p:cNvPr id="1686" name="Picture 13" descr=""/>
          <p:cNvPicPr/>
          <p:nvPr/>
        </p:nvPicPr>
        <p:blipFill>
          <a:blip r:embed="rId3"/>
          <a:stretch/>
        </p:blipFill>
        <p:spPr>
          <a:xfrm>
            <a:off x="644400" y="2394000"/>
            <a:ext cx="3022560" cy="389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42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43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44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45" name="Text Box 5"/>
          <p:cNvSpPr/>
          <p:nvPr/>
        </p:nvSpPr>
        <p:spPr>
          <a:xfrm>
            <a:off x="476280" y="101520"/>
            <a:ext cx="325116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Formulas: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603360" y="1523880"/>
            <a:ext cx="223524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Slope</a:t>
            </a: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  </a:t>
            </a:r>
            <a:r>
              <a:rPr b="1" lang="en-US" sz="4900" spc="-1" strike="noStrike">
                <a:solidFill>
                  <a:srgbClr val="000000"/>
                </a:solidFill>
                <a:latin typeface="Bodoni SvtyTwo ITC TT-Book"/>
              </a:rPr>
              <a:t>=</a:t>
            </a:r>
            <a:r>
              <a:rPr b="0" lang="en-US" sz="4900" spc="-1" strike="noStrike">
                <a:solidFill>
                  <a:srgbClr val="000000"/>
                </a:solidFill>
                <a:latin typeface="Bodoni SvtyTwo ITC TT-Book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592200" y="3187800"/>
            <a:ext cx="3440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Midpoint</a:t>
            </a: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 </a:t>
            </a:r>
            <a:r>
              <a:rPr b="1" lang="en-US" sz="4900" spc="-1" strike="noStrike">
                <a:solidFill>
                  <a:srgbClr val="000000"/>
                </a:solidFill>
                <a:latin typeface="Bodoni SvtyTwo ITC TT-Book"/>
              </a:rPr>
              <a:t>=</a:t>
            </a: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558720" y="4840200"/>
            <a:ext cx="296568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ITC TT-Book"/>
              </a:rPr>
              <a:t>Distance</a:t>
            </a: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 </a:t>
            </a:r>
            <a:r>
              <a:rPr b="1" lang="en-US" sz="4900" spc="-1" strike="noStrike">
                <a:solidFill>
                  <a:srgbClr val="000000"/>
                </a:solidFill>
                <a:latin typeface="Bodoni SvtyTwo ITC TT-Book"/>
              </a:rPr>
              <a:t>=</a:t>
            </a: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49" name="Line 9"/>
          <p:cNvSpPr/>
          <p:nvPr/>
        </p:nvSpPr>
        <p:spPr>
          <a:xfrm>
            <a:off x="577800" y="107964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3524400" y="63360"/>
            <a:ext cx="462276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Bodoni SvtyTwo ITC TT-Book"/>
              </a:rPr>
              <a:t>for two points</a:t>
            </a:r>
            <a:endParaRPr b="0" lang="en-US" sz="3000" spc="-1" strike="noStrike">
              <a:solidFill>
                <a:srgbClr val="000000"/>
              </a:solidFill>
              <a:latin typeface="Bodoni SvtyTwo ITC TT-Book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doni SvtyTwo ITC TT-Book"/>
              </a:rPr>
              <a:t>(X</a:t>
            </a:r>
            <a:r>
              <a:rPr b="0" lang="en-US" sz="4500" spc="-1" strike="noStrike" baseline="-33000">
                <a:solidFill>
                  <a:srgbClr val="000000"/>
                </a:solidFill>
                <a:latin typeface="Bodoni SvtyTwo ITC TT-Book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Bodoni SvtyTwo ITC TT-Book"/>
              </a:rPr>
              <a:t>  ,  Y</a:t>
            </a:r>
            <a:r>
              <a:rPr b="0" lang="en-US" sz="4500" spc="-1" strike="noStrike" baseline="-33000">
                <a:solidFill>
                  <a:srgbClr val="000000"/>
                </a:solidFill>
                <a:latin typeface="Bodoni SvtyTwo ITC TT-Book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Bodoni SvtyTwo ITC TT-Book"/>
              </a:rPr>
              <a:t>  )   </a:t>
            </a:r>
            <a:r>
              <a:rPr b="0" i="1" lang="en-US" sz="3000" spc="-1" strike="noStrike">
                <a:solidFill>
                  <a:srgbClr val="000000"/>
                </a:solidFill>
                <a:latin typeface="Bodoni SvtyTwo ITC TT-Book"/>
              </a:rPr>
              <a:t>and</a:t>
            </a:r>
            <a:r>
              <a:rPr b="0" lang="en-US" sz="3000" spc="-1" strike="noStrike">
                <a:solidFill>
                  <a:srgbClr val="000000"/>
                </a:solidFill>
                <a:latin typeface="Bodoni SvtyTwo ITC TT-Book"/>
              </a:rPr>
              <a:t>  ( X</a:t>
            </a:r>
            <a:r>
              <a:rPr b="0" lang="en-US" sz="4500" spc="-1" strike="noStrike" baseline="-33000">
                <a:solidFill>
                  <a:srgbClr val="000000"/>
                </a:solidFill>
                <a:latin typeface="Bodoni SvtyTwo ITC TT-Book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Bodoni SvtyTwo ITC TT-Book"/>
              </a:rPr>
              <a:t>  ,  Y</a:t>
            </a:r>
            <a:r>
              <a:rPr b="0" lang="en-US" sz="4500" spc="-1" strike="noStrike" baseline="-33000">
                <a:solidFill>
                  <a:srgbClr val="000000"/>
                </a:solidFill>
                <a:latin typeface="Bodoni SvtyTwo ITC TT-Book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Bodoni SvtyTwo ITC TT-Book"/>
              </a:rPr>
              <a:t>  )</a:t>
            </a:r>
            <a:endParaRPr b="0" lang="en-US" sz="3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151" name="Picture 11" descr=""/>
          <p:cNvPicPr/>
          <p:nvPr/>
        </p:nvPicPr>
        <p:blipFill>
          <a:blip r:embed="rId1"/>
          <a:stretch/>
        </p:blipFill>
        <p:spPr>
          <a:xfrm>
            <a:off x="3143160" y="1314360"/>
            <a:ext cx="1778040" cy="1409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2" descr=""/>
          <p:cNvPicPr/>
          <p:nvPr/>
        </p:nvPicPr>
        <p:blipFill>
          <a:blip r:embed="rId2"/>
          <a:stretch/>
        </p:blipFill>
        <p:spPr>
          <a:xfrm>
            <a:off x="3422520" y="2768760"/>
            <a:ext cx="4343400" cy="16761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7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688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689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690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691" name="Text Box 5"/>
          <p:cNvSpPr/>
          <p:nvPr/>
        </p:nvSpPr>
        <p:spPr>
          <a:xfrm>
            <a:off x="507960" y="3240"/>
            <a:ext cx="7655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Circle Formula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692" name="Line 6"/>
          <p:cNvSpPr/>
          <p:nvPr/>
        </p:nvSpPr>
        <p:spPr>
          <a:xfrm>
            <a:off x="571680" y="981000"/>
            <a:ext cx="758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grpSp>
        <p:nvGrpSpPr>
          <p:cNvPr id="1693" name="Group 7"/>
          <p:cNvGrpSpPr/>
          <p:nvPr/>
        </p:nvGrpSpPr>
        <p:grpSpPr>
          <a:xfrm>
            <a:off x="470160" y="1015920"/>
            <a:ext cx="1936080" cy="851040"/>
            <a:chOff x="470160" y="1015920"/>
            <a:chExt cx="1936080" cy="851040"/>
          </a:xfrm>
        </p:grpSpPr>
        <p:sp>
          <p:nvSpPr>
            <p:cNvPr id="1694" name="Freeform 8"/>
            <p:cNvSpPr/>
            <p:nvPr/>
          </p:nvSpPr>
          <p:spPr>
            <a:xfrm>
              <a:off x="568440" y="1015920"/>
              <a:ext cx="1765080" cy="8510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ffff66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695" name="Text Box 9"/>
            <p:cNvSpPr/>
            <p:nvPr/>
          </p:nvSpPr>
          <p:spPr>
            <a:xfrm>
              <a:off x="470160" y="1069920"/>
              <a:ext cx="193608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Bodoni SvtyTwo ITC TT-Book"/>
                </a:rPr>
                <a:t>Angles</a:t>
              </a:r>
              <a:endParaRPr b="0" lang="en-US" sz="48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</p:grpSp>
      <p:sp>
        <p:nvSpPr>
          <p:cNvPr id="1696" name="Text Box 10"/>
          <p:cNvSpPr/>
          <p:nvPr/>
        </p:nvSpPr>
        <p:spPr>
          <a:xfrm>
            <a:off x="2425680" y="1174680"/>
            <a:ext cx="5715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doni SvtyTwo ITC TT-Book"/>
              </a:rPr>
              <a:t>Name the type of angle .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1697" name="Picture 11" descr=""/>
          <p:cNvPicPr/>
          <p:nvPr/>
        </p:nvPicPr>
        <p:blipFill>
          <a:blip r:embed="rId1"/>
          <a:stretch/>
        </p:blipFill>
        <p:spPr>
          <a:xfrm>
            <a:off x="711360" y="2197080"/>
            <a:ext cx="4394160" cy="367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8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699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700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701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702" name="Text Box 5"/>
          <p:cNvSpPr/>
          <p:nvPr/>
        </p:nvSpPr>
        <p:spPr>
          <a:xfrm>
            <a:off x="512640" y="3240"/>
            <a:ext cx="7655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Circle Formula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703" name="Line 6"/>
          <p:cNvSpPr/>
          <p:nvPr/>
        </p:nvSpPr>
        <p:spPr>
          <a:xfrm>
            <a:off x="576360" y="98100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grpSp>
        <p:nvGrpSpPr>
          <p:cNvPr id="1704" name="Group 7"/>
          <p:cNvGrpSpPr/>
          <p:nvPr/>
        </p:nvGrpSpPr>
        <p:grpSpPr>
          <a:xfrm>
            <a:off x="461880" y="1015920"/>
            <a:ext cx="1936080" cy="851040"/>
            <a:chOff x="461880" y="1015920"/>
            <a:chExt cx="1936080" cy="851040"/>
          </a:xfrm>
        </p:grpSpPr>
        <p:sp>
          <p:nvSpPr>
            <p:cNvPr id="1705" name="Freeform 8"/>
            <p:cNvSpPr/>
            <p:nvPr/>
          </p:nvSpPr>
          <p:spPr>
            <a:xfrm>
              <a:off x="560520" y="1015920"/>
              <a:ext cx="1765080" cy="8510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ffff66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706" name="Text Box 9"/>
            <p:cNvSpPr/>
            <p:nvPr/>
          </p:nvSpPr>
          <p:spPr>
            <a:xfrm>
              <a:off x="461880" y="1069920"/>
              <a:ext cx="193608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Bodoni SvtyTwo ITC TT-Book"/>
                </a:rPr>
                <a:t>Angles</a:t>
              </a:r>
              <a:endParaRPr b="0" lang="en-US" sz="48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</p:grpSp>
      <p:sp>
        <p:nvSpPr>
          <p:cNvPr id="1707" name="Text Box 10"/>
          <p:cNvSpPr/>
          <p:nvPr/>
        </p:nvSpPr>
        <p:spPr>
          <a:xfrm>
            <a:off x="2430360" y="1174680"/>
            <a:ext cx="5715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doni SvtyTwo ITC TT-Book"/>
              </a:rPr>
              <a:t>Name the type of angle .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1708" name="Picture 11" descr=""/>
          <p:cNvPicPr/>
          <p:nvPr/>
        </p:nvPicPr>
        <p:blipFill>
          <a:blip r:embed="rId1"/>
          <a:stretch/>
        </p:blipFill>
        <p:spPr>
          <a:xfrm>
            <a:off x="557280" y="1492200"/>
            <a:ext cx="5448240" cy="1511280"/>
          </a:xfrm>
          <a:prstGeom prst="rect">
            <a:avLst/>
          </a:prstGeom>
          <a:ln w="0">
            <a:noFill/>
          </a:ln>
        </p:spPr>
      </p:pic>
      <p:pic>
        <p:nvPicPr>
          <p:cNvPr id="1709" name="Picture 12" descr=""/>
          <p:cNvPicPr/>
          <p:nvPr/>
        </p:nvPicPr>
        <p:blipFill>
          <a:blip r:embed="rId2"/>
          <a:stretch/>
        </p:blipFill>
        <p:spPr>
          <a:xfrm>
            <a:off x="716040" y="2197080"/>
            <a:ext cx="4394160" cy="3670200"/>
          </a:xfrm>
          <a:prstGeom prst="rect">
            <a:avLst/>
          </a:prstGeom>
          <a:ln w="0">
            <a:noFill/>
          </a:ln>
        </p:spPr>
      </p:pic>
      <p:sp>
        <p:nvSpPr>
          <p:cNvPr id="1710" name="Freeform 13"/>
          <p:cNvSpPr/>
          <p:nvPr/>
        </p:nvSpPr>
        <p:spPr>
          <a:xfrm>
            <a:off x="3263760" y="1701720"/>
            <a:ext cx="1054080" cy="11178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10000"/>
                </a:lnTo>
                <a:lnTo>
                  <a:pt x="0" y="100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711" name="Freeform 14"/>
          <p:cNvSpPr/>
          <p:nvPr/>
        </p:nvSpPr>
        <p:spPr>
          <a:xfrm>
            <a:off x="3936960" y="1917720"/>
            <a:ext cx="2019240" cy="64764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10000"/>
                </a:lnTo>
                <a:lnTo>
                  <a:pt x="0" y="100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2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713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714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715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716" name="Text Box 5"/>
          <p:cNvSpPr/>
          <p:nvPr/>
        </p:nvSpPr>
        <p:spPr>
          <a:xfrm>
            <a:off x="512640" y="3240"/>
            <a:ext cx="7655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Circle Formula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717" name="Line 6"/>
          <p:cNvSpPr/>
          <p:nvPr/>
        </p:nvSpPr>
        <p:spPr>
          <a:xfrm>
            <a:off x="576360" y="98100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grpSp>
        <p:nvGrpSpPr>
          <p:cNvPr id="1718" name="Group 7"/>
          <p:cNvGrpSpPr/>
          <p:nvPr/>
        </p:nvGrpSpPr>
        <p:grpSpPr>
          <a:xfrm>
            <a:off x="461880" y="1015920"/>
            <a:ext cx="1936080" cy="851040"/>
            <a:chOff x="461880" y="1015920"/>
            <a:chExt cx="1936080" cy="851040"/>
          </a:xfrm>
        </p:grpSpPr>
        <p:sp>
          <p:nvSpPr>
            <p:cNvPr id="1719" name="Freeform 8"/>
            <p:cNvSpPr/>
            <p:nvPr/>
          </p:nvSpPr>
          <p:spPr>
            <a:xfrm>
              <a:off x="560520" y="1015920"/>
              <a:ext cx="1765080" cy="8510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ffff66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720" name="Text Box 9"/>
            <p:cNvSpPr/>
            <p:nvPr/>
          </p:nvSpPr>
          <p:spPr>
            <a:xfrm>
              <a:off x="461880" y="1069920"/>
              <a:ext cx="193608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Bodoni SvtyTwo ITC TT-Book"/>
                </a:rPr>
                <a:t>Angles</a:t>
              </a:r>
              <a:endParaRPr b="0" lang="en-US" sz="48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</p:grpSp>
      <p:sp>
        <p:nvSpPr>
          <p:cNvPr id="1721" name="Text Box 10"/>
          <p:cNvSpPr/>
          <p:nvPr/>
        </p:nvSpPr>
        <p:spPr>
          <a:xfrm>
            <a:off x="2430360" y="1174680"/>
            <a:ext cx="5715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doni SvtyTwo ITC TT-Book"/>
              </a:rPr>
              <a:t>What is the formula?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1722" name="Picture 11" descr=""/>
          <p:cNvPicPr/>
          <p:nvPr/>
        </p:nvPicPr>
        <p:blipFill>
          <a:blip r:embed="rId1"/>
          <a:stretch/>
        </p:blipFill>
        <p:spPr>
          <a:xfrm>
            <a:off x="557280" y="1492200"/>
            <a:ext cx="5448240" cy="1511280"/>
          </a:xfrm>
          <a:prstGeom prst="rect">
            <a:avLst/>
          </a:prstGeom>
          <a:ln w="0">
            <a:noFill/>
          </a:ln>
        </p:spPr>
      </p:pic>
      <p:pic>
        <p:nvPicPr>
          <p:cNvPr id="1723" name="Picture 12" descr=""/>
          <p:cNvPicPr/>
          <p:nvPr/>
        </p:nvPicPr>
        <p:blipFill>
          <a:blip r:embed="rId2"/>
          <a:stretch/>
        </p:blipFill>
        <p:spPr>
          <a:xfrm>
            <a:off x="716040" y="2197080"/>
            <a:ext cx="4394160" cy="3670200"/>
          </a:xfrm>
          <a:prstGeom prst="rect">
            <a:avLst/>
          </a:prstGeom>
          <a:ln w="0">
            <a:noFill/>
          </a:ln>
        </p:spPr>
      </p:pic>
      <p:sp>
        <p:nvSpPr>
          <p:cNvPr id="1724" name="Freeform 13"/>
          <p:cNvSpPr/>
          <p:nvPr/>
        </p:nvSpPr>
        <p:spPr>
          <a:xfrm>
            <a:off x="3594240" y="1676520"/>
            <a:ext cx="1054080" cy="111744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10000"/>
                </a:lnTo>
                <a:lnTo>
                  <a:pt x="0" y="100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725" name="Freeform 14"/>
          <p:cNvSpPr/>
          <p:nvPr/>
        </p:nvSpPr>
        <p:spPr>
          <a:xfrm>
            <a:off x="4267080" y="1892160"/>
            <a:ext cx="2019600" cy="6480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lnTo>
                  <a:pt x="10000" y="0"/>
                </a:lnTo>
                <a:lnTo>
                  <a:pt x="10000" y="10000"/>
                </a:lnTo>
                <a:lnTo>
                  <a:pt x="0" y="100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6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727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728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729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730" name="Text Box 5"/>
          <p:cNvSpPr/>
          <p:nvPr/>
        </p:nvSpPr>
        <p:spPr>
          <a:xfrm>
            <a:off x="512640" y="3240"/>
            <a:ext cx="7655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Circle Formula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731" name="Line 6"/>
          <p:cNvSpPr/>
          <p:nvPr/>
        </p:nvSpPr>
        <p:spPr>
          <a:xfrm>
            <a:off x="576360" y="98100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grpSp>
        <p:nvGrpSpPr>
          <p:cNvPr id="1732" name="Group 7"/>
          <p:cNvGrpSpPr/>
          <p:nvPr/>
        </p:nvGrpSpPr>
        <p:grpSpPr>
          <a:xfrm>
            <a:off x="461880" y="1015920"/>
            <a:ext cx="1936080" cy="851040"/>
            <a:chOff x="461880" y="1015920"/>
            <a:chExt cx="1936080" cy="851040"/>
          </a:xfrm>
        </p:grpSpPr>
        <p:sp>
          <p:nvSpPr>
            <p:cNvPr id="1733" name="Freeform 8"/>
            <p:cNvSpPr/>
            <p:nvPr/>
          </p:nvSpPr>
          <p:spPr>
            <a:xfrm>
              <a:off x="560520" y="1015920"/>
              <a:ext cx="1765080" cy="8510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ffff66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734" name="Text Box 9"/>
            <p:cNvSpPr/>
            <p:nvPr/>
          </p:nvSpPr>
          <p:spPr>
            <a:xfrm>
              <a:off x="461880" y="1069920"/>
              <a:ext cx="193608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Bodoni SvtyTwo ITC TT-Book"/>
                </a:rPr>
                <a:t>Angles</a:t>
              </a:r>
              <a:endParaRPr b="0" lang="en-US" sz="48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</p:grpSp>
      <p:sp>
        <p:nvSpPr>
          <p:cNvPr id="1735" name="Text Box 10"/>
          <p:cNvSpPr/>
          <p:nvPr/>
        </p:nvSpPr>
        <p:spPr>
          <a:xfrm>
            <a:off x="2430360" y="1174680"/>
            <a:ext cx="5715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doni SvtyTwo ITC TT-Book"/>
              </a:rPr>
              <a:t>What is the formula?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1736" name="Picture 11" descr=""/>
          <p:cNvPicPr/>
          <p:nvPr/>
        </p:nvPicPr>
        <p:blipFill>
          <a:blip r:embed="rId1"/>
          <a:stretch/>
        </p:blipFill>
        <p:spPr>
          <a:xfrm>
            <a:off x="557280" y="1492200"/>
            <a:ext cx="5448240" cy="1511280"/>
          </a:xfrm>
          <a:prstGeom prst="rect">
            <a:avLst/>
          </a:prstGeom>
          <a:ln w="0">
            <a:noFill/>
          </a:ln>
        </p:spPr>
      </p:pic>
      <p:pic>
        <p:nvPicPr>
          <p:cNvPr id="1737" name="Picture 12" descr=""/>
          <p:cNvPicPr/>
          <p:nvPr/>
        </p:nvPicPr>
        <p:blipFill>
          <a:blip r:embed="rId2"/>
          <a:stretch/>
        </p:blipFill>
        <p:spPr>
          <a:xfrm>
            <a:off x="2982960" y="5137200"/>
            <a:ext cx="5143320" cy="1130400"/>
          </a:xfrm>
          <a:prstGeom prst="rect">
            <a:avLst/>
          </a:prstGeom>
          <a:ln w="0">
            <a:noFill/>
          </a:ln>
        </p:spPr>
      </p:pic>
      <p:pic>
        <p:nvPicPr>
          <p:cNvPr id="1738" name="Picture 13" descr=""/>
          <p:cNvPicPr/>
          <p:nvPr/>
        </p:nvPicPr>
        <p:blipFill>
          <a:blip r:embed="rId3"/>
          <a:stretch/>
        </p:blipFill>
        <p:spPr>
          <a:xfrm>
            <a:off x="716040" y="2197080"/>
            <a:ext cx="4394160" cy="367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9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740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741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742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743" name="Text Box 5"/>
          <p:cNvSpPr/>
          <p:nvPr/>
        </p:nvSpPr>
        <p:spPr>
          <a:xfrm>
            <a:off x="509760" y="3240"/>
            <a:ext cx="7654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Circle Formula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744" name="Line 6"/>
          <p:cNvSpPr/>
          <p:nvPr/>
        </p:nvSpPr>
        <p:spPr>
          <a:xfrm>
            <a:off x="573120" y="98100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grpSp>
        <p:nvGrpSpPr>
          <p:cNvPr id="1745" name="Group 7"/>
          <p:cNvGrpSpPr/>
          <p:nvPr/>
        </p:nvGrpSpPr>
        <p:grpSpPr>
          <a:xfrm>
            <a:off x="5479560" y="1003320"/>
            <a:ext cx="2858400" cy="850680"/>
            <a:chOff x="5479560" y="1003320"/>
            <a:chExt cx="2858400" cy="850680"/>
          </a:xfrm>
        </p:grpSpPr>
        <p:sp>
          <p:nvSpPr>
            <p:cNvPr id="1746" name="Freeform 8"/>
            <p:cNvSpPr/>
            <p:nvPr/>
          </p:nvSpPr>
          <p:spPr>
            <a:xfrm>
              <a:off x="5726160" y="1003320"/>
              <a:ext cx="2389320" cy="8506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ffff66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747" name="Text Box 9"/>
            <p:cNvSpPr/>
            <p:nvPr/>
          </p:nvSpPr>
          <p:spPr>
            <a:xfrm>
              <a:off x="5479560" y="1066680"/>
              <a:ext cx="285840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Bodoni SvtyTwo ITC TT-Book"/>
                </a:rPr>
                <a:t>Segments</a:t>
              </a:r>
              <a:endParaRPr b="0" lang="en-US" sz="48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</p:grpSp>
      <p:pic>
        <p:nvPicPr>
          <p:cNvPr id="1748" name="Picture 10" descr=""/>
          <p:cNvPicPr/>
          <p:nvPr/>
        </p:nvPicPr>
        <p:blipFill>
          <a:blip r:embed="rId1"/>
          <a:stretch/>
        </p:blipFill>
        <p:spPr>
          <a:xfrm>
            <a:off x="628560" y="2050920"/>
            <a:ext cx="2959200" cy="2959200"/>
          </a:xfrm>
          <a:prstGeom prst="rect">
            <a:avLst/>
          </a:prstGeom>
          <a:ln w="0">
            <a:noFill/>
          </a:ln>
        </p:spPr>
      </p:pic>
      <p:sp>
        <p:nvSpPr>
          <p:cNvPr id="1749" name="Text Box 11"/>
          <p:cNvSpPr/>
          <p:nvPr/>
        </p:nvSpPr>
        <p:spPr>
          <a:xfrm>
            <a:off x="3982680" y="2006640"/>
            <a:ext cx="45316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doni SvtyTwo ITC TT-Book"/>
              </a:rPr>
              <a:t>Intersecting Chords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750" name="Text Box 12"/>
          <p:cNvSpPr/>
          <p:nvPr/>
        </p:nvSpPr>
        <p:spPr>
          <a:xfrm>
            <a:off x="584280" y="1149480"/>
            <a:ext cx="5715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doni SvtyTwo ITC TT-Book"/>
              </a:rPr>
              <a:t>What is the formula?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1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752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753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754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755" name="Text Box 5"/>
          <p:cNvSpPr/>
          <p:nvPr/>
        </p:nvSpPr>
        <p:spPr>
          <a:xfrm>
            <a:off x="512640" y="3240"/>
            <a:ext cx="7655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Circle Formula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756" name="Line 6"/>
          <p:cNvSpPr/>
          <p:nvPr/>
        </p:nvSpPr>
        <p:spPr>
          <a:xfrm>
            <a:off x="576360" y="98100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grpSp>
        <p:nvGrpSpPr>
          <p:cNvPr id="1757" name="Group 7"/>
          <p:cNvGrpSpPr/>
          <p:nvPr/>
        </p:nvGrpSpPr>
        <p:grpSpPr>
          <a:xfrm>
            <a:off x="5469840" y="1003320"/>
            <a:ext cx="2858400" cy="850680"/>
            <a:chOff x="5469840" y="1003320"/>
            <a:chExt cx="2858400" cy="850680"/>
          </a:xfrm>
        </p:grpSpPr>
        <p:sp>
          <p:nvSpPr>
            <p:cNvPr id="1758" name="Freeform 8"/>
            <p:cNvSpPr/>
            <p:nvPr/>
          </p:nvSpPr>
          <p:spPr>
            <a:xfrm>
              <a:off x="5716440" y="1003320"/>
              <a:ext cx="2388960" cy="8506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ffff66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759" name="Text Box 9"/>
            <p:cNvSpPr/>
            <p:nvPr/>
          </p:nvSpPr>
          <p:spPr>
            <a:xfrm>
              <a:off x="5469840" y="1066680"/>
              <a:ext cx="285840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Bodoni SvtyTwo ITC TT-Book"/>
                </a:rPr>
                <a:t>Segments</a:t>
              </a:r>
              <a:endParaRPr b="0" lang="en-US" sz="48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</p:grpSp>
      <p:pic>
        <p:nvPicPr>
          <p:cNvPr id="1760" name="Picture 10" descr=""/>
          <p:cNvPicPr/>
          <p:nvPr/>
        </p:nvPicPr>
        <p:blipFill>
          <a:blip r:embed="rId1"/>
          <a:stretch/>
        </p:blipFill>
        <p:spPr>
          <a:xfrm>
            <a:off x="631800" y="2050920"/>
            <a:ext cx="2959200" cy="2959200"/>
          </a:xfrm>
          <a:prstGeom prst="rect">
            <a:avLst/>
          </a:prstGeom>
          <a:ln w="0">
            <a:noFill/>
          </a:ln>
        </p:spPr>
      </p:pic>
      <p:pic>
        <p:nvPicPr>
          <p:cNvPr id="1761" name="Picture 11" descr=""/>
          <p:cNvPicPr/>
          <p:nvPr/>
        </p:nvPicPr>
        <p:blipFill>
          <a:blip r:embed="rId2"/>
          <a:stretch/>
        </p:blipFill>
        <p:spPr>
          <a:xfrm>
            <a:off x="3152880" y="4673520"/>
            <a:ext cx="5079960" cy="1244520"/>
          </a:xfrm>
          <a:prstGeom prst="rect">
            <a:avLst/>
          </a:prstGeom>
          <a:ln w="0">
            <a:noFill/>
          </a:ln>
        </p:spPr>
      </p:pic>
      <p:sp>
        <p:nvSpPr>
          <p:cNvPr id="1762" name="Text Box 12"/>
          <p:cNvSpPr/>
          <p:nvPr/>
        </p:nvSpPr>
        <p:spPr>
          <a:xfrm>
            <a:off x="3985920" y="2006640"/>
            <a:ext cx="45316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doni SvtyTwo ITC TT-Book"/>
              </a:rPr>
              <a:t>Intersecting Chords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763" name="Text Box 13"/>
          <p:cNvSpPr/>
          <p:nvPr/>
        </p:nvSpPr>
        <p:spPr>
          <a:xfrm>
            <a:off x="587520" y="1149480"/>
            <a:ext cx="5715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doni SvtyTwo ITC TT-Book"/>
              </a:rPr>
              <a:t>What is the formula?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4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765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766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767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768" name="Text Box 5"/>
          <p:cNvSpPr/>
          <p:nvPr/>
        </p:nvSpPr>
        <p:spPr>
          <a:xfrm>
            <a:off x="509760" y="3240"/>
            <a:ext cx="7654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Circle Formula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769" name="Line 6"/>
          <p:cNvSpPr/>
          <p:nvPr/>
        </p:nvSpPr>
        <p:spPr>
          <a:xfrm>
            <a:off x="573120" y="98100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grpSp>
        <p:nvGrpSpPr>
          <p:cNvPr id="1770" name="Group 7"/>
          <p:cNvGrpSpPr/>
          <p:nvPr/>
        </p:nvGrpSpPr>
        <p:grpSpPr>
          <a:xfrm>
            <a:off x="5479560" y="1003320"/>
            <a:ext cx="2858400" cy="850680"/>
            <a:chOff x="5479560" y="1003320"/>
            <a:chExt cx="2858400" cy="850680"/>
          </a:xfrm>
        </p:grpSpPr>
        <p:sp>
          <p:nvSpPr>
            <p:cNvPr id="1771" name="Freeform 8"/>
            <p:cNvSpPr/>
            <p:nvPr/>
          </p:nvSpPr>
          <p:spPr>
            <a:xfrm>
              <a:off x="5726160" y="1003320"/>
              <a:ext cx="2389320" cy="8506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ffff66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772" name="Text Box 9"/>
            <p:cNvSpPr/>
            <p:nvPr/>
          </p:nvSpPr>
          <p:spPr>
            <a:xfrm>
              <a:off x="5479560" y="1066680"/>
              <a:ext cx="285840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Bodoni SvtyTwo ITC TT-Book"/>
                </a:rPr>
                <a:t>Segments</a:t>
              </a:r>
              <a:endParaRPr b="0" lang="en-US" sz="48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</p:grpSp>
      <p:sp>
        <p:nvSpPr>
          <p:cNvPr id="1773" name="Text Box 10"/>
          <p:cNvSpPr/>
          <p:nvPr/>
        </p:nvSpPr>
        <p:spPr>
          <a:xfrm>
            <a:off x="3624120" y="1981080"/>
            <a:ext cx="4690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doni SvtyTwo ITC TT-Book"/>
              </a:rPr>
              <a:t>Intersecting Secants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774" name="Text Box 11"/>
          <p:cNvSpPr/>
          <p:nvPr/>
        </p:nvSpPr>
        <p:spPr>
          <a:xfrm>
            <a:off x="584280" y="1149480"/>
            <a:ext cx="5715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doni SvtyTwo ITC TT-Book"/>
              </a:rPr>
              <a:t>What is the formula?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1775" name="Picture 12" descr=""/>
          <p:cNvPicPr/>
          <p:nvPr/>
        </p:nvPicPr>
        <p:blipFill>
          <a:blip r:embed="rId1"/>
          <a:stretch/>
        </p:blipFill>
        <p:spPr>
          <a:xfrm>
            <a:off x="577800" y="1866960"/>
            <a:ext cx="3105360" cy="424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6" name="Group 1"/>
          <p:cNvGrpSpPr/>
          <p:nvPr/>
        </p:nvGrpSpPr>
        <p:grpSpPr>
          <a:xfrm>
            <a:off x="-50760" y="12600"/>
            <a:ext cx="622080" cy="6057720"/>
            <a:chOff x="-50760" y="12600"/>
            <a:chExt cx="622080" cy="6057720"/>
          </a:xfrm>
        </p:grpSpPr>
        <p:grpSp>
          <p:nvGrpSpPr>
            <p:cNvPr id="1777" name="Group 2"/>
            <p:cNvGrpSpPr/>
            <p:nvPr/>
          </p:nvGrpSpPr>
          <p:grpSpPr>
            <a:xfrm>
              <a:off x="-50760" y="12600"/>
              <a:ext cx="622080" cy="6057720"/>
              <a:chOff x="-50760" y="12600"/>
              <a:chExt cx="622080" cy="6057720"/>
            </a:xfrm>
          </p:grpSpPr>
          <p:sp>
            <p:nvSpPr>
              <p:cNvPr id="1778" name="Freeform 3"/>
              <p:cNvSpPr/>
              <p:nvPr/>
            </p:nvSpPr>
            <p:spPr>
              <a:xfrm>
                <a:off x="12600" y="12600"/>
                <a:ext cx="507960" cy="6057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0"/>
                    </a:moveTo>
                    <a:lnTo>
                      <a:pt x="10000" y="0"/>
                    </a:lnTo>
                    <a:lnTo>
                      <a:pt x="10000" y="10000"/>
                    </a:lnTo>
                    <a:lnTo>
                      <a:pt x="0" y="100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00ee00"/>
              </a:solidFill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  <p:sp>
            <p:nvSpPr>
              <p:cNvPr id="1779" name="Text Box 4"/>
              <p:cNvSpPr/>
              <p:nvPr/>
            </p:nvSpPr>
            <p:spPr>
              <a:xfrm>
                <a:off x="-50760" y="63360"/>
                <a:ext cx="622080" cy="53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S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O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L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R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V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I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E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Capitals"/>
                  </a:rPr>
                  <a:t>W</a:t>
                </a:r>
                <a:endParaRPr b="0" lang="en-US" sz="3500" spc="-1" strike="noStrike">
                  <a:solidFill>
                    <a:srgbClr val="000000"/>
                  </a:solidFill>
                  <a:latin typeface="Bodoni SvtyTwo ITC TT-Book"/>
                </a:endParaRPr>
              </a:p>
            </p:txBody>
          </p:sp>
        </p:grpSp>
      </p:grpSp>
      <p:sp>
        <p:nvSpPr>
          <p:cNvPr id="1780" name="Text Box 5"/>
          <p:cNvSpPr/>
          <p:nvPr/>
        </p:nvSpPr>
        <p:spPr>
          <a:xfrm>
            <a:off x="512640" y="3240"/>
            <a:ext cx="76550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ITC TT-Book"/>
              </a:rPr>
              <a:t>Circle Formulas</a:t>
            </a:r>
            <a:endParaRPr b="0" lang="en-US" sz="60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781" name="Line 6"/>
          <p:cNvSpPr/>
          <p:nvPr/>
        </p:nvSpPr>
        <p:spPr>
          <a:xfrm>
            <a:off x="576360" y="981000"/>
            <a:ext cx="758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grpSp>
        <p:nvGrpSpPr>
          <p:cNvPr id="1782" name="Group 7"/>
          <p:cNvGrpSpPr/>
          <p:nvPr/>
        </p:nvGrpSpPr>
        <p:grpSpPr>
          <a:xfrm>
            <a:off x="5469840" y="1003320"/>
            <a:ext cx="2858400" cy="850680"/>
            <a:chOff x="5469840" y="1003320"/>
            <a:chExt cx="2858400" cy="850680"/>
          </a:xfrm>
        </p:grpSpPr>
        <p:sp>
          <p:nvSpPr>
            <p:cNvPr id="1783" name="Freeform 8"/>
            <p:cNvSpPr/>
            <p:nvPr/>
          </p:nvSpPr>
          <p:spPr>
            <a:xfrm>
              <a:off x="5716440" y="1003320"/>
              <a:ext cx="2388960" cy="8506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ffff66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  <p:sp>
          <p:nvSpPr>
            <p:cNvPr id="1784" name="Text Box 9"/>
            <p:cNvSpPr/>
            <p:nvPr/>
          </p:nvSpPr>
          <p:spPr>
            <a:xfrm>
              <a:off x="5469840" y="1066680"/>
              <a:ext cx="285840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Bodoni SvtyTwo ITC TT-Book"/>
                </a:rPr>
                <a:t>Segments</a:t>
              </a:r>
              <a:endParaRPr b="0" lang="en-US" sz="4800" spc="-1" strike="noStrike">
                <a:solidFill>
                  <a:srgbClr val="000000"/>
                </a:solidFill>
                <a:latin typeface="Bodoni SvtyTwo ITC TT-Book"/>
              </a:endParaRPr>
            </a:p>
          </p:txBody>
        </p:sp>
      </p:grpSp>
      <p:sp>
        <p:nvSpPr>
          <p:cNvPr id="1785" name="Text Box 10"/>
          <p:cNvSpPr/>
          <p:nvPr/>
        </p:nvSpPr>
        <p:spPr>
          <a:xfrm>
            <a:off x="3627360" y="1981080"/>
            <a:ext cx="4690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doni SvtyTwo ITC TT-Book"/>
              </a:rPr>
              <a:t>Intersecting Secants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786" name="Text Box 11"/>
          <p:cNvSpPr/>
          <p:nvPr/>
        </p:nvSpPr>
        <p:spPr>
          <a:xfrm>
            <a:off x="587520" y="1149480"/>
            <a:ext cx="5715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doni SvtyTwo ITC TT-Book"/>
              </a:rPr>
              <a:t>What is the formula?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1787" name="Picture 12" descr=""/>
          <p:cNvPicPr/>
          <p:nvPr/>
        </p:nvPicPr>
        <p:blipFill>
          <a:blip r:embed="rId1"/>
          <a:stretch/>
        </p:blipFill>
        <p:spPr>
          <a:xfrm>
            <a:off x="581040" y="1866960"/>
            <a:ext cx="3105000" cy="4241880"/>
          </a:xfrm>
          <a:prstGeom prst="rect">
            <a:avLst/>
          </a:prstGeom>
          <a:ln w="0">
            <a:noFill/>
          </a:ln>
        </p:spPr>
      </p:pic>
      <p:pic>
        <p:nvPicPr>
          <p:cNvPr id="1788" name="Picture 13" descr=""/>
          <p:cNvPicPr/>
          <p:nvPr/>
        </p:nvPicPr>
        <p:blipFill>
          <a:blip r:embed="rId2"/>
          <a:stretch/>
        </p:blipFill>
        <p:spPr>
          <a:xfrm>
            <a:off x="1305000" y="5238720"/>
            <a:ext cx="7022880" cy="825480"/>
          </a:xfrm>
          <a:prstGeom prst="rect">
            <a:avLst/>
          </a:prstGeom>
          <a:ln w="0">
            <a:noFill/>
          </a:ln>
        </p:spPr>
      </p:pic>
      <p:pic>
        <p:nvPicPr>
          <p:cNvPr id="1789" name="Picture 14" descr=""/>
          <p:cNvPicPr/>
          <p:nvPr/>
        </p:nvPicPr>
        <p:blipFill>
          <a:blip r:embed="rId3"/>
          <a:stretch/>
        </p:blipFill>
        <p:spPr>
          <a:xfrm>
            <a:off x="3324240" y="3917880"/>
            <a:ext cx="4381560" cy="825480"/>
          </a:xfrm>
          <a:prstGeom prst="rect">
            <a:avLst/>
          </a:prstGeom>
          <a:ln w="0">
            <a:noFill/>
          </a:ln>
        </p:spPr>
      </p:pic>
      <p:sp>
        <p:nvSpPr>
          <p:cNvPr id="1790" name="Text Box 15"/>
          <p:cNvSpPr/>
          <p:nvPr/>
        </p:nvSpPr>
        <p:spPr>
          <a:xfrm>
            <a:off x="4435560" y="4635360"/>
            <a:ext cx="901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doni SvtyTwo ITC TT-Book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ynthia</dc:creator>
  <dc:description/>
  <dc:language>en-US</dc:language>
  <cp:lastModifiedBy>Cynthia</cp:lastModifiedBy>
  <dcterms:modified xsi:type="dcterms:W3CDTF">2012-05-13T22:52:42Z</dcterms:modified>
  <cp:revision>2</cp:revision>
  <dc:subject/>
  <dc:title>No Slide Title</dc:title>
</cp:coreProperties>
</file>